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16658-CDC9-4D6F-8611-43A672611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C4102-54E3-4697-BEC5-D6D15A260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E5A61-B1DC-49FD-A6FA-4EDDDD4B3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4045C-D788-4AF2-B285-0F7823F66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34242-13A9-4C77-A0A4-4A286F95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3804-7479-4DA0-8055-133D12D8A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C2053-3A6C-4CBF-8E4C-B111D2ABA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B9EFD-0F6D-40B9-ADC7-3042E654F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7659D-5C47-4332-9EBE-2AB2D41C1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485A8-99BE-4C2B-A0DE-A3E06B9C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D733-F5CD-4B2C-B789-41CB4B9F8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6B597-2A16-40AD-B03F-FE0F58DF5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11833F3-4AEA-4F83-83BE-933C5F2D1A7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819000" y="361440"/>
            <a:ext cx="9785160" cy="639900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tabLst>
                <a:tab algn="l" pos="5760"/>
              </a:tabLst>
            </a:pPr>
            <a:r>
              <a:rPr b="1" lang="ar-IQ" sz="5400" spc="-1" strike="noStrike">
                <a:solidFill>
                  <a:srgbClr val="000000"/>
                </a:solidFill>
                <a:latin typeface="ae_AlMothnna"/>
                <a:cs typeface="Sultan bold"/>
              </a:rPr>
              <a:t>خزينة المصارف التجارية</a:t>
            </a:r>
            <a:r>
              <a:rPr b="1" lang="en-US" sz="5400" spc="-1" strike="noStrike">
                <a:solidFill>
                  <a:srgbClr val="000000"/>
                </a:solidFill>
                <a:latin typeface="Times New Roman"/>
                <a:ea typeface="Times New Roman"/>
              </a:rPr>
              <a:t> </a:t>
            </a:r>
            <a:endParaRPr b="0" lang="en-US" sz="5400" spc="-1" strike="noStrike">
              <a:solidFill>
                <a:srgbClr val="000000"/>
              </a:solidFill>
              <a:latin typeface="Arial"/>
            </a:endParaRPr>
          </a:p>
          <a:p>
            <a:pPr marL="359280" algn="just" rtl="1">
              <a:lnSpc>
                <a:spcPct val="150000"/>
              </a:lnSpc>
              <a:tabLst>
                <a:tab algn="l" pos="5760"/>
                <a:tab algn="r" pos="359280"/>
              </a:tabLst>
            </a:pP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عد قسم الخزينة من أهم أقسام المصارف التجارية وأكثرها نشاطاً وارتباطاً بزبائن المصرف على الرغم من كون نشاطه لا يمثل أحد الخدمات المصرفية ، وذلك بسبب طبيعة نشاط المصرف المتمثل في كونه وسيطاً مالياً بين وحدات الفائض النقدي ووحدات العجز النقدي ، مما جعل من النقد (الأوراق النقدية المحلية والأوراق النقدية الأجنبية) السلعة الرئيسة التي تتعامل بها هذه المصارف ، حيث تساعد عمليات قبض النقود من الزبائن ودفعها إليهم في اتمام انجاز الخدمات المصرفية، وتشكل جزءً كبيراً من النشاط المصرفي الذي ينجز من خلال قسم الخزينة ، </a:t>
            </a:r>
            <a:r>
              <a:rPr b="1" lang="ar-SA" sz="2400" spc="-1" strike="noStrike">
                <a:solidFill>
                  <a:srgbClr val="000000"/>
                </a:solidFill>
                <a:latin typeface="Times New Roman"/>
                <a:cs typeface="Times New Roman"/>
              </a:rPr>
              <a:t>الأمر الذي حدا الى وصف هذا القسم بالقلب النابض للمصرف، ووصف دورته النقدية بالدورة الدموية للعمليات المصرفي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982800" y="173880"/>
            <a:ext cx="10344600" cy="6307200"/>
          </a:xfrm>
          <a:prstGeom prst="rect">
            <a:avLst/>
          </a:prstGeom>
          <a:noFill/>
          <a:ln w="0">
            <a:noFill/>
          </a:ln>
        </p:spPr>
        <p:style>
          <a:lnRef idx="0"/>
          <a:fillRef idx="0"/>
          <a:effectRef idx="0"/>
          <a:fontRef idx="minor"/>
        </p:style>
        <p:txBody>
          <a:bodyPr lIns="90000" rIns="90000" tIns="45000" bIns="45000" anchor="t">
            <a:spAutoFit/>
          </a:bodyPr>
          <a:p>
            <a:pPr marL="5760" algn="r" rtl="1">
              <a:lnSpc>
                <a:spcPct val="150000"/>
              </a:lnSpc>
              <a:tabLst>
                <a:tab algn="l" pos="5760"/>
                <a:tab algn="l" pos="119880"/>
                <a:tab algn="l" pos="291600"/>
              </a:tabLst>
            </a:pPr>
            <a:r>
              <a:rPr b="1" lang="ar-SA" sz="3200" spc="-1" strike="noStrike">
                <a:solidFill>
                  <a:srgbClr val="000000"/>
                </a:solidFill>
                <a:latin typeface="Times New Roman"/>
                <a:cs typeface="Times New Roman"/>
              </a:rPr>
              <a:t>أنواع الخزائن في المصارف</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5760" algn="just" rtl="1">
              <a:lnSpc>
                <a:spcPct val="150000"/>
              </a:lnSpc>
              <a:tabLst>
                <a:tab algn="l" pos="5760"/>
                <a:tab algn="l" pos="119880"/>
                <a:tab algn="l" pos="291600"/>
              </a:tabLst>
            </a:pPr>
            <a:r>
              <a:rPr b="0" lang="en-US" sz="2400" spc="-1" strike="noStrike">
                <a:solidFill>
                  <a:srgbClr val="000000"/>
                </a:solidFill>
                <a:latin typeface="Times New Roman"/>
                <a:ea typeface="Times New Roman"/>
              </a:rPr>
              <a:t>      تتكون خزينة المصرف من نوعين هما :</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760" algn="just" rtl="1">
              <a:lnSpc>
                <a:spcPct val="150000"/>
              </a:lnSpc>
              <a:tabLst>
                <a:tab algn="l" pos="5760"/>
                <a:tab algn="l" pos="119880"/>
                <a:tab algn="l" pos="291600"/>
              </a:tabLst>
            </a:pP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ــ الخزينة الرئيسة (الغرفة أو القاصة الحصينة): </a:t>
            </a:r>
            <a:endParaRPr b="0" lang="en-US" sz="2400" spc="-1" strike="noStrike">
              <a:solidFill>
                <a:srgbClr val="000000"/>
              </a:solidFill>
              <a:latin typeface="Arial"/>
            </a:endParaRPr>
          </a:p>
          <a:p>
            <a:pPr marL="5760" algn="just" rtl="1">
              <a:lnSpc>
                <a:spcPct val="150000"/>
              </a:lnSpc>
              <a:tabLst>
                <a:tab algn="l" pos="5760"/>
                <a:tab algn="l" pos="119880"/>
                <a:tab algn="l" pos="291600"/>
              </a:tabLst>
            </a:pPr>
            <a:r>
              <a:rPr b="0" lang="en-US" sz="2400" spc="-1" strike="noStrike">
                <a:solidFill>
                  <a:srgbClr val="000000"/>
                </a:solidFill>
                <a:latin typeface="Times New Roman"/>
                <a:ea typeface="Times New Roman"/>
              </a:rPr>
              <a:t>    وهي الخزينة المسؤولة عن حفظ النقود والمستندات الرسمية والمسكوكات والمصوغات الذهبية</a:t>
            </a:r>
            <a:r>
              <a:rPr b="1"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التي بحوزة المصرف</a:t>
            </a:r>
            <a:r>
              <a:rPr b="1" lang="ar-SA" sz="2400" spc="-1" strike="noStrike">
                <a:solidFill>
                  <a:srgbClr val="000000"/>
                </a:solidFill>
                <a:latin typeface="Times New Roman"/>
                <a:cs typeface="Times New Roman"/>
              </a:rPr>
              <a:t>، </a:t>
            </a:r>
            <a:r>
              <a:rPr b="0" lang="ar-SA" sz="2400" spc="-1" strike="noStrike">
                <a:solidFill>
                  <a:srgbClr val="000000"/>
                </a:solidFill>
                <a:latin typeface="Times New Roman"/>
                <a:cs typeface="Times New Roman"/>
              </a:rPr>
              <a:t>ومنها يتم تجهيز</a:t>
            </a:r>
            <a:r>
              <a:rPr b="1"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النق</a:t>
            </a:r>
            <a:r>
              <a:rPr b="0" lang="ar-IQ" sz="2400" spc="-1" strike="noStrike">
                <a:solidFill>
                  <a:srgbClr val="000000"/>
                </a:solidFill>
                <a:latin typeface="Times New Roman"/>
                <a:cs typeface="Times New Roman"/>
              </a:rPr>
              <a:t>ود</a:t>
            </a:r>
            <a:r>
              <a:rPr b="0" lang="en-US" sz="2400" spc="-1" strike="noStrike">
                <a:solidFill>
                  <a:srgbClr val="000000"/>
                </a:solidFill>
                <a:latin typeface="Times New Roman"/>
                <a:ea typeface="Times New Roman"/>
              </a:rPr>
              <a:t> لأمناء الصندوق</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الخزائن الفرعية) في المصرف في بداية الدوام الرسمي لكل يوم ، واستلام النقد المتبقي لديهم في نهاية الدوام الرسمي لكل يوم . وتجدر الاشارة الى ان الغرفة الحصينة هو مصطلح مصرفي يستعمل للتعبيرعن الخزينة الرئيسة ، وهي عبارة عن غرفة معدة على شكل قاصة حديدية محكمة لحفظ النقود والذهب والسجلات الرسمية المهمة التي بحوزة المصرف، ولا يجوز الدخول فيها إلا من قبل الاشخاص المخولين بذلك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586800" y="58680"/>
            <a:ext cx="10999800" cy="8319240"/>
          </a:xfrm>
          <a:prstGeom prst="rect">
            <a:avLst/>
          </a:prstGeom>
          <a:noFill/>
          <a:ln w="0">
            <a:noFill/>
          </a:ln>
        </p:spPr>
        <p:style>
          <a:lnRef idx="0"/>
          <a:fillRef idx="0"/>
          <a:effectRef idx="0"/>
          <a:fontRef idx="minor"/>
        </p:style>
        <p:txBody>
          <a:bodyPr lIns="90000" rIns="90000" tIns="45000" bIns="45000" anchor="t">
            <a:spAutoFit/>
          </a:bodyPr>
          <a:p>
            <a:pPr marL="5760" algn="just" rtl="1">
              <a:lnSpc>
                <a:spcPct val="150000"/>
              </a:lnSpc>
              <a:tabLst>
                <a:tab algn="l" pos="5760"/>
              </a:tabLst>
            </a:pP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ــ الخزائن الفرعية (أمناء الصناديق):  </a:t>
            </a:r>
            <a:endParaRPr b="0" lang="en-US" sz="2400" spc="-1" strike="noStrike">
              <a:solidFill>
                <a:srgbClr val="000000"/>
              </a:solidFill>
              <a:latin typeface="Arial"/>
            </a:endParaRPr>
          </a:p>
          <a:p>
            <a:pPr marL="5760" algn="just" rtl="1">
              <a:lnSpc>
                <a:spcPct val="150000"/>
              </a:lnSpc>
              <a:tabLst>
                <a:tab algn="l" pos="5760"/>
                <a:tab algn="l" pos="119880"/>
                <a:tab algn="l" pos="291600"/>
                <a:tab algn="l" pos="6030720"/>
              </a:tabLst>
            </a:pPr>
            <a:r>
              <a:rPr b="0" lang="en-US" sz="2400" spc="-1" strike="noStrike">
                <a:solidFill>
                  <a:srgbClr val="000000"/>
                </a:solidFill>
                <a:latin typeface="Times New Roman"/>
                <a:ea typeface="Times New Roman"/>
              </a:rPr>
              <a:t>     وهي الخزائن التي تقوم بقبض النقود من الزبائن ودفعها إليهم بصورة مباشرة بهدف اتمام انجاز الخدمات المصرفية التي يقدمها المصرف لزبائنه ، وتنظم هذه الخزائن أما بصورة غير مركزية حيث ترتبط باقسام أو شعب المصرف المسؤولة عن تقديم الخدمات المصرفية للزبائن مثل الخزينة الخاصة بقسم الحسابات الجارية، والخزينة الخاصة بقسم حسابات التوفير والودائع وهكذا، أو تنظم بصورة مركزية حيث يخصص قسماً منها للقبض (استلام النقود) والقسم الآخر للدفع (تسليم النقود)، وتعتمد طريقة تنظيمها على سياسة المصرف وطبيعة نشاطه </a:t>
            </a:r>
            <a:r>
              <a:rPr b="1" lang="ar-SA" sz="2400" spc="-1" strike="noStrike">
                <a:solidFill>
                  <a:srgbClr val="000000"/>
                </a:solidFill>
                <a:latin typeface="Times New Roman"/>
                <a:cs typeface="Times New Roman"/>
              </a:rPr>
              <a:t>،</a:t>
            </a:r>
            <a:r>
              <a:rPr b="0" lang="en-US" sz="2400" spc="-1" strike="noStrike">
                <a:solidFill>
                  <a:srgbClr val="000000"/>
                </a:solidFill>
                <a:latin typeface="Times New Roman"/>
                <a:ea typeface="Times New Roman"/>
              </a:rPr>
              <a:t> وتتولى الخزائن الفرعية استلام النقود من الخزينة الرئيسة في بداية الدوام الرسمي لكل يوم ، ومن ثم قبض النقود من الزبائن ودفع النقود المستحقة لهم بعد اكمال اجراءاتها المستندية خلال الدوام الرسمي ، وتسليم كامل النقد المتبقي لديها في نهاية الدوام الرسمي لكل يوم الى الخزينة الرئيسة على وفق تنظيم المصرف لخزائنه الفرعية ، وبمعنى آخر الموجود النقدي لأمناء الصناديق في نهاية الدوام الرسمي يجب ان يكون صفر. ومن الجدير بالذكر ان عدد الصناديق الفرعية يتوقف على حجم العمل المصرفي وكثافته لدرجة تصل الى تقسيم الخزينة الفرعية الى خزينة واحدة أو أكثر لكل من المقبوضات النقديـة والمدفوعات النقديـ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Words>312</Words>
  <Paragraphs>8</Paragraphs>
  <Company>rg-adgu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7T10:58:34Z</dcterms:created>
  <dc:creator>Admin</dc:creator>
  <dc:description/>
  <dc:language>en-US</dc:language>
  <cp:lastModifiedBy>Admin</cp:lastModifiedBy>
  <dcterms:modified xsi:type="dcterms:W3CDTF">2019-08-27T11:06:1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3</vt:r8>
  </property>
</Properties>
</file>