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3D8-78A7-4C02-A304-C28FC15B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357-EFC1-4725-9207-1373B7F2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0E4-60DD-43DC-B56E-906B3967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635-272F-4FF6-A2A8-26114B73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6E7-F1BF-4AFF-9891-0F62265E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47B-757C-47D8-B841-11852367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3A99-0845-45E2-8ABC-3BCB9C9E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99B-6E2E-4AD9-ABA7-024078A1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979-BE2D-4BD7-8377-6CE85988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148-1F44-4C68-8640-C652AF09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DBF-0094-4D21-A9CE-C7272C3C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70C-3C0D-409F-BE99-4F74ACAA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0EE3CC-9872-46F9-895B-2F6316A5DC2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655200" y="1070280"/>
            <a:ext cx="1030356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15000"/>
              </a:lnSpc>
            </a:pPr>
            <a:r>
              <a:rPr b="1" lang="ar-IQ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الشحن (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pping Documen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ar-IQ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الشحن هي حزمة أو مجموعة من المستندات التي تصدر من عدة جهات مستقلة، وتتكون مستندات الشحن المطلوب توافرها على وفق الأصول والأعراف الموحدة للاعتمادات المستندية نشر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لسن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لغرض تسديد مبلغ الاعتماد المفتوح من الآت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r" pos="79920"/>
                <a:tab algn="l" pos="2286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مة تجارية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صادرة من قبل المجهز (المصدر) بأسم المشتري (المستورد) ، تبين قيمة البضاعة ونوعها وكميتها ، وليست بحاجة الى توقيع ،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عد هذه القائمة أهم مستند من مستندات الشحن كونها تعتمد محاسبياً في اثبات مبلغ الاعتماد المفتوح في السجلات المحاسبية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819000" y="272520"/>
            <a:ext cx="10003320" cy="77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r" pos="79920"/>
                <a:tab algn="l" pos="228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هادة المنشأ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صدر من الغرفة التجارية لبلد المصدر الى المستورد لمعرفة مكان انتاج البضاعة ،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بمعنى آخر شهادة المنشأ تمثل (جنسية البضاعة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r" pos="79920"/>
                <a:tab algn="l" pos="228600"/>
                <a:tab algn="l" pos="521964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هادة فحص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صدر من مختبرات متخصصة بعد خروج البضاعة من مخازن المصدّر وقبل شحنها في وسائط النقل 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r" pos="79920"/>
                <a:tab algn="l" pos="2286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 نقل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جب ان يشمل واسطتي نقل مختلفتين على الأقل ، ويجب ان يكون نظيفاً (أي خالي من أي إشارة أو عبارة تبين صراحة وجود عيب في حالة البضاعة أو تغليفها) ، علماً ان مستند النقل الشائع الاستعمال هو مستند النقل البحري (بوليصة الشحن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l of  L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لتي تعد أهم المستندات لانها تمثل إيصال استلام وعقد نقل ووثيقة ملكية في الوقت نفسه ، ولذا الحائز عليها هو الحائز على البضاعة ، إذ يسلم وكيل الباخرة البضاعة المشحونة الى من يسلمه بوليصة الشحن ، وتحتوي هذه البوليصة على اسم الناقل، وتاريخ الشحن، وتفاصيل عملية النقل البحري ، وتفاصيل عن البضاعة المنقولة من حيث كميتها ووزنها ومواصفاتها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668880" y="260640"/>
            <a:ext cx="10303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r" pos="79920"/>
                <a:tab algn="l" pos="2286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يصال الناقل الخا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ذي يُثبت استلام البضاعة لنقل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r" pos="79920"/>
                <a:tab algn="l" pos="2286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ثيقة تأمين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غطي مخاطر الاعتماد كاف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r" pos="79920"/>
                <a:tab algn="l" pos="2286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أخرى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ثل شهادة الوزن ، بيان التعبئة ، شهادة صحية ، شهادة القنصلية التجارية 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  <Words>290</Words>
  <Paragraphs>9</Paragraphs>
  <Company>rg-adgu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27T10:28:40Z</dcterms:created>
  <dc:creator>Admin</dc:creator>
  <dc:description/>
  <dc:language>en-US</dc:language>
  <cp:lastModifiedBy>Admin</cp:lastModifiedBy>
  <dcterms:modified xsi:type="dcterms:W3CDTF">2019-08-27T10:37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3</vt:r8>
  </property>
</Properties>
</file>