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diagrams/quickStyle3.xml" ContentType="application/vnd.openxmlformats-officedocument.drawingml.diagramStyle+xml"/>
  <Override PartName="/ppt/diagrams/colors2.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E4823F6D-B5A1-405C-93E6-6579A5155B3E}" type="doc">
      <dgm:prSet loTypeId="urn:microsoft.com/office/officeart/2005/8/layout/chevron2" loCatId="list" qsTypeId="urn:microsoft.com/office/officeart/2005/8/quickstyle/simple1" qsCatId="simple" csTypeId="urn:microsoft.com/office/officeart/2005/8/colors/accent1_2" csCatId="accent1" phldr="1"/>
      <dgm:spPr/>
      <dgm:t>
        <a:bodyPr/>
        <a:lstStyle/>
        <a:p>
          <a:pPr rtl="1"/>
          <a:endParaRPr lang="ar-IQ"/>
        </a:p>
      </dgm:t>
    </dgm:pt>
    <dgm:pt modelId="{BBA9A30C-7E3D-493E-BBAA-C01A54D31564}">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اعلام</a:t>
          </a:r>
          <a:endParaRPr lang="ar-IQ" dirty="0"/>
        </a:p>
      </dgm:t>
    </dgm:pt>
    <dgm:pt modelId="{7C7F8358-0C0D-43D2-8474-AC0B20839650}" type="parTrans" cxnId="{FE12C4C6-E765-4C5C-B184-E5DF8410F909}">
      <dgm:prSet/>
      <dgm:spPr/>
      <dgm:t>
        <a:bodyPr/>
        <a:lstStyle/>
        <a:p>
          <a:pPr rtl="1"/>
          <a:endParaRPr lang="ar-IQ"/>
        </a:p>
      </dgm:t>
    </dgm:pt>
    <dgm:pt modelId="{E1FAA625-2A4F-4C91-AA58-328D93E45E09}" type="sibTrans" cxnId="{FE12C4C6-E765-4C5C-B184-E5DF8410F909}">
      <dgm:prSet/>
      <dgm:spPr/>
      <dgm:t>
        <a:bodyPr/>
        <a:lstStyle/>
        <a:p>
          <a:pPr rtl="1"/>
          <a:endParaRPr lang="ar-IQ"/>
        </a:p>
      </dgm:t>
    </dgm:pt>
    <dgm:pt modelId="{43EDC1E3-3371-4DF0-A543-E101B70E94F2}">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كثر المنتجات تصبح مهملة اذا لم يعرف بها الناس</a:t>
          </a:r>
          <a:endParaRPr lang="ar-IQ" dirty="0"/>
        </a:p>
      </dgm:t>
    </dgm:pt>
    <dgm:pt modelId="{79EF8125-9B6B-47DC-9AE5-175A52752B89}" type="parTrans" cxnId="{19568907-6048-41BE-916E-78BAE7CFB527}">
      <dgm:prSet/>
      <dgm:spPr/>
      <dgm:t>
        <a:bodyPr/>
        <a:lstStyle/>
        <a:p>
          <a:pPr rtl="1"/>
          <a:endParaRPr lang="ar-IQ"/>
        </a:p>
      </dgm:t>
    </dgm:pt>
    <dgm:pt modelId="{4A203A14-4A7A-42EB-B49E-35BE42EA8CCD}" type="sibTrans" cxnId="{19568907-6048-41BE-916E-78BAE7CFB527}">
      <dgm:prSet/>
      <dgm:spPr/>
      <dgm:t>
        <a:bodyPr/>
        <a:lstStyle/>
        <a:p>
          <a:pPr rtl="1"/>
          <a:endParaRPr lang="ar-IQ"/>
        </a:p>
      </dgm:t>
    </dgm:pt>
    <dgm:pt modelId="{C7F9A133-B387-42C2-B6D1-C61198CA9641}">
      <dgm:prSet phldrT="[نص]">
        <dgm:style>
          <a:lnRef idx="1">
            <a:schemeClr val="accent4"/>
          </a:lnRef>
          <a:fillRef idx="3">
            <a:schemeClr val="accent4"/>
          </a:fillRef>
          <a:effectRef idx="2">
            <a:schemeClr val="accent4"/>
          </a:effectRef>
          <a:fontRef idx="minor">
            <a:schemeClr val="lt1"/>
          </a:fontRef>
        </dgm:style>
      </dgm:prSet>
      <dgm:spPr/>
      <dgm:t>
        <a:bodyPr/>
        <a:lstStyle/>
        <a:p>
          <a:pPr rtl="1"/>
          <a:r>
            <a:rPr lang="ar-IQ" dirty="0" smtClean="0"/>
            <a:t>الاقناع</a:t>
          </a:r>
          <a:endParaRPr lang="ar-IQ" dirty="0"/>
        </a:p>
      </dgm:t>
    </dgm:pt>
    <dgm:pt modelId="{EBB41BE2-0C0B-4AF2-967D-BAE526AF16AF}" type="parTrans" cxnId="{EA6817CF-F155-4E9E-88E5-7A60547EEF88}">
      <dgm:prSet/>
      <dgm:spPr/>
      <dgm:t>
        <a:bodyPr/>
        <a:lstStyle/>
        <a:p>
          <a:pPr rtl="1"/>
          <a:endParaRPr lang="ar-IQ"/>
        </a:p>
      </dgm:t>
    </dgm:pt>
    <dgm:pt modelId="{001A12FB-8AFD-4672-A15B-266E67A655A4}" type="sibTrans" cxnId="{EA6817CF-F155-4E9E-88E5-7A60547EEF88}">
      <dgm:prSet/>
      <dgm:spPr/>
      <dgm:t>
        <a:bodyPr/>
        <a:lstStyle/>
        <a:p>
          <a:pPr rtl="1"/>
          <a:endParaRPr lang="ar-IQ"/>
        </a:p>
      </dgm:t>
    </dgm:pt>
    <dgm:pt modelId="{9736FDD5-40BE-46FF-B21C-474F44C5CA03}">
      <dgm:prSet phldrT="[نص]">
        <dgm:style>
          <a:lnRef idx="0">
            <a:schemeClr val="accent5"/>
          </a:lnRef>
          <a:fillRef idx="3">
            <a:schemeClr val="accent5"/>
          </a:fillRef>
          <a:effectRef idx="3">
            <a:schemeClr val="accent5"/>
          </a:effectRef>
          <a:fontRef idx="minor">
            <a:schemeClr val="lt1"/>
          </a:fontRef>
        </dgm:style>
      </dgm:prSet>
      <dgm:spPr/>
      <dgm:t>
        <a:bodyPr/>
        <a:lstStyle/>
        <a:p>
          <a:pPr rtl="1"/>
          <a:r>
            <a:rPr lang="ar-IQ" dirty="0" smtClean="0"/>
            <a:t>يتم تصميم المنتج </a:t>
          </a:r>
          <a:r>
            <a:rPr lang="ar-IQ" dirty="0" err="1" smtClean="0"/>
            <a:t>لاشباع</a:t>
          </a:r>
          <a:r>
            <a:rPr lang="ar-IQ" dirty="0" smtClean="0"/>
            <a:t> حاجة فسيولوجية اساس ويحتاج لترويج قوي.</a:t>
          </a:r>
          <a:endParaRPr lang="ar-IQ" dirty="0"/>
        </a:p>
      </dgm:t>
    </dgm:pt>
    <dgm:pt modelId="{EF049F47-1562-470A-8F6B-4F635A71016D}" type="parTrans" cxnId="{226919A8-11A7-4B57-90CA-8995494BCB1E}">
      <dgm:prSet/>
      <dgm:spPr/>
      <dgm:t>
        <a:bodyPr/>
        <a:lstStyle/>
        <a:p>
          <a:pPr rtl="1"/>
          <a:endParaRPr lang="ar-IQ"/>
        </a:p>
      </dgm:t>
    </dgm:pt>
    <dgm:pt modelId="{E3AAD37D-70F4-498E-8BED-A22D29BA4622}" type="sibTrans" cxnId="{226919A8-11A7-4B57-90CA-8995494BCB1E}">
      <dgm:prSet/>
      <dgm:spPr/>
      <dgm:t>
        <a:bodyPr/>
        <a:lstStyle/>
        <a:p>
          <a:pPr rtl="1"/>
          <a:endParaRPr lang="ar-IQ"/>
        </a:p>
      </dgm:t>
    </dgm:pt>
    <dgm:pt modelId="{A7C1BC5E-CD26-43E9-B303-D793BF072CD6}">
      <dgm:prSet phldrT="[نص]">
        <dgm:style>
          <a:lnRef idx="1">
            <a:schemeClr val="dk1"/>
          </a:lnRef>
          <a:fillRef idx="3">
            <a:schemeClr val="dk1"/>
          </a:fillRef>
          <a:effectRef idx="2">
            <a:schemeClr val="dk1"/>
          </a:effectRef>
          <a:fontRef idx="minor">
            <a:schemeClr val="lt1"/>
          </a:fontRef>
        </dgm:style>
      </dgm:prSet>
      <dgm:spPr/>
      <dgm:t>
        <a:bodyPr/>
        <a:lstStyle/>
        <a:p>
          <a:pPr rtl="1"/>
          <a:r>
            <a:rPr lang="ar-IQ" dirty="0" smtClean="0"/>
            <a:t>التذكير</a:t>
          </a:r>
          <a:endParaRPr lang="ar-IQ" dirty="0"/>
        </a:p>
      </dgm:t>
    </dgm:pt>
    <dgm:pt modelId="{4152AE9C-FF2F-4985-A055-0DD14D38F5CA}" type="parTrans" cxnId="{86EC3E48-8826-4BBF-B04E-A97155F6788A}">
      <dgm:prSet/>
      <dgm:spPr/>
      <dgm:t>
        <a:bodyPr/>
        <a:lstStyle/>
        <a:p>
          <a:pPr rtl="1"/>
          <a:endParaRPr lang="ar-IQ"/>
        </a:p>
      </dgm:t>
    </dgm:pt>
    <dgm:pt modelId="{4619A1FE-0E0C-4645-9C1D-8BB9F7FBAB8E}" type="sibTrans" cxnId="{86EC3E48-8826-4BBF-B04E-A97155F6788A}">
      <dgm:prSet/>
      <dgm:spPr/>
      <dgm:t>
        <a:bodyPr/>
        <a:lstStyle/>
        <a:p>
          <a:pPr rtl="1"/>
          <a:endParaRPr lang="ar-IQ"/>
        </a:p>
      </dgm:t>
    </dgm:pt>
    <dgm:pt modelId="{10B9B185-E459-4CB9-8BB5-8458504CEB06}">
      <dgm:prSet phldrT="[نص]">
        <dgm:style>
          <a:lnRef idx="1">
            <a:schemeClr val="dk1"/>
          </a:lnRef>
          <a:fillRef idx="2">
            <a:schemeClr val="dk1"/>
          </a:fillRef>
          <a:effectRef idx="1">
            <a:schemeClr val="dk1"/>
          </a:effectRef>
          <a:fontRef idx="minor">
            <a:schemeClr val="dk1"/>
          </a:fontRef>
        </dgm:style>
      </dgm:prSet>
      <dgm:spPr/>
      <dgm:t>
        <a:bodyPr/>
        <a:lstStyle/>
        <a:p>
          <a:pPr rtl="1"/>
          <a:r>
            <a:rPr lang="ar-IQ" dirty="0" smtClean="0"/>
            <a:t>يجب تذكير المستهلكين دائما بتوفر المنتج واحتمالات اشباعه لحاجاتهم.</a:t>
          </a:r>
          <a:endParaRPr lang="ar-IQ" dirty="0"/>
        </a:p>
      </dgm:t>
    </dgm:pt>
    <dgm:pt modelId="{D1C2A8C8-8332-40A9-99EC-A2C428C46115}" type="parTrans" cxnId="{18E033B6-BFBA-475B-AFA4-B41D2859870B}">
      <dgm:prSet/>
      <dgm:spPr/>
      <dgm:t>
        <a:bodyPr/>
        <a:lstStyle/>
        <a:p>
          <a:pPr rtl="1"/>
          <a:endParaRPr lang="ar-IQ"/>
        </a:p>
      </dgm:t>
    </dgm:pt>
    <dgm:pt modelId="{F0AF1FE7-F2AB-4E70-8B93-11B0316F78EE}" type="sibTrans" cxnId="{18E033B6-BFBA-475B-AFA4-B41D2859870B}">
      <dgm:prSet/>
      <dgm:spPr/>
      <dgm:t>
        <a:bodyPr/>
        <a:lstStyle/>
        <a:p>
          <a:pPr rtl="1"/>
          <a:endParaRPr lang="ar-IQ"/>
        </a:p>
      </dgm:t>
    </dgm:pt>
    <dgm:pt modelId="{43744BAF-91D5-4361-9119-C5B210A09754}">
      <dgm:prSet phldrT="[نص]">
        <dgm:style>
          <a:lnRef idx="1">
            <a:schemeClr val="dk1"/>
          </a:lnRef>
          <a:fillRef idx="2">
            <a:schemeClr val="dk1"/>
          </a:fillRef>
          <a:effectRef idx="1">
            <a:schemeClr val="dk1"/>
          </a:effectRef>
          <a:fontRef idx="minor">
            <a:schemeClr val="dk1"/>
          </a:fontRef>
        </dgm:style>
      </dgm:prSet>
      <dgm:spPr/>
      <dgm:t>
        <a:bodyPr/>
        <a:lstStyle/>
        <a:p>
          <a:pPr rtl="1"/>
          <a:r>
            <a:rPr lang="ar-IQ" dirty="0" smtClean="0"/>
            <a:t>التعزيز</a:t>
          </a:r>
          <a:endParaRPr lang="ar-IQ" dirty="0"/>
        </a:p>
      </dgm:t>
    </dgm:pt>
    <dgm:pt modelId="{C3A3A84A-A436-49DA-BBC9-E48793D9039A}" type="parTrans" cxnId="{82D5FDDB-A9D2-4738-B87F-6D17A382B510}">
      <dgm:prSet/>
      <dgm:spPr/>
      <dgm:t>
        <a:bodyPr/>
        <a:lstStyle/>
        <a:p>
          <a:pPr rtl="1"/>
          <a:endParaRPr lang="ar-IQ"/>
        </a:p>
      </dgm:t>
    </dgm:pt>
    <dgm:pt modelId="{0244FF9C-20BD-492D-AE56-99E03D4CD146}" type="sibTrans" cxnId="{82D5FDDB-A9D2-4738-B87F-6D17A382B510}">
      <dgm:prSet/>
      <dgm:spPr/>
      <dgm:t>
        <a:bodyPr/>
        <a:lstStyle/>
        <a:p>
          <a:pPr rtl="1"/>
          <a:endParaRPr lang="ar-IQ"/>
        </a:p>
      </dgm:t>
    </dgm:pt>
    <dgm:pt modelId="{551EB766-1D80-414F-BC8A-71B9BEF14CB0}">
      <dgm:prSet>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ي تعزيز رضا الزبون بالمنتج بعد شرائه وتدعيم ولائهم له.</a:t>
          </a:r>
          <a:endParaRPr lang="ar-IQ" dirty="0"/>
        </a:p>
      </dgm:t>
    </dgm:pt>
    <dgm:pt modelId="{A79A2059-36DE-4FCA-B75F-9B394FAEB7B1}" type="parTrans" cxnId="{114BF43C-59C7-4CC7-ABDE-C6A3987D0FB7}">
      <dgm:prSet/>
      <dgm:spPr/>
      <dgm:t>
        <a:bodyPr/>
        <a:lstStyle/>
        <a:p>
          <a:pPr rtl="1"/>
          <a:endParaRPr lang="ar-IQ"/>
        </a:p>
      </dgm:t>
    </dgm:pt>
    <dgm:pt modelId="{350E1733-71A1-45AA-AF37-0F562189D99B}" type="sibTrans" cxnId="{114BF43C-59C7-4CC7-ABDE-C6A3987D0FB7}">
      <dgm:prSet/>
      <dgm:spPr/>
      <dgm:t>
        <a:bodyPr/>
        <a:lstStyle/>
        <a:p>
          <a:pPr rtl="1"/>
          <a:endParaRPr lang="ar-IQ"/>
        </a:p>
      </dgm:t>
    </dgm:pt>
    <dgm:pt modelId="{E4E3CA7E-0E24-4AEC-ABE2-E3C11055B40D}" type="pres">
      <dgm:prSet presAssocID="{E4823F6D-B5A1-405C-93E6-6579A5155B3E}" presName="linearFlow" presStyleCnt="0">
        <dgm:presLayoutVars>
          <dgm:dir/>
          <dgm:animLvl val="lvl"/>
          <dgm:resizeHandles val="exact"/>
        </dgm:presLayoutVars>
      </dgm:prSet>
      <dgm:spPr/>
      <dgm:t>
        <a:bodyPr/>
        <a:lstStyle/>
        <a:p>
          <a:pPr rtl="1"/>
          <a:endParaRPr lang="ar-IQ"/>
        </a:p>
      </dgm:t>
    </dgm:pt>
    <dgm:pt modelId="{164FDAA0-9165-4AB5-98CB-9661BC41F1AD}" type="pres">
      <dgm:prSet presAssocID="{BBA9A30C-7E3D-493E-BBAA-C01A54D31564}" presName="composite" presStyleCnt="0"/>
      <dgm:spPr/>
    </dgm:pt>
    <dgm:pt modelId="{07F6DA61-4BD1-483D-9631-7BE1C51F03F2}" type="pres">
      <dgm:prSet presAssocID="{BBA9A30C-7E3D-493E-BBAA-C01A54D31564}" presName="parentText" presStyleLbl="alignNode1" presStyleIdx="0" presStyleCnt="4">
        <dgm:presLayoutVars>
          <dgm:chMax val="1"/>
          <dgm:bulletEnabled val="1"/>
        </dgm:presLayoutVars>
      </dgm:prSet>
      <dgm:spPr/>
      <dgm:t>
        <a:bodyPr/>
        <a:lstStyle/>
        <a:p>
          <a:pPr rtl="1"/>
          <a:endParaRPr lang="ar-IQ"/>
        </a:p>
      </dgm:t>
    </dgm:pt>
    <dgm:pt modelId="{BF323DA2-1873-4DD2-8833-6CDD1C2A10A6}" type="pres">
      <dgm:prSet presAssocID="{BBA9A30C-7E3D-493E-BBAA-C01A54D31564}" presName="descendantText" presStyleLbl="alignAcc1" presStyleIdx="0" presStyleCnt="4" custLinFactNeighborX="590" custLinFactNeighborY="-6576">
        <dgm:presLayoutVars>
          <dgm:bulletEnabled val="1"/>
        </dgm:presLayoutVars>
      </dgm:prSet>
      <dgm:spPr/>
      <dgm:t>
        <a:bodyPr/>
        <a:lstStyle/>
        <a:p>
          <a:pPr rtl="1"/>
          <a:endParaRPr lang="ar-IQ"/>
        </a:p>
      </dgm:t>
    </dgm:pt>
    <dgm:pt modelId="{06E70F29-3D6E-4FF5-8897-D6EA055DEEEB}" type="pres">
      <dgm:prSet presAssocID="{E1FAA625-2A4F-4C91-AA58-328D93E45E09}" presName="sp" presStyleCnt="0"/>
      <dgm:spPr/>
    </dgm:pt>
    <dgm:pt modelId="{14639B19-BB85-42F5-93D2-6B3C437229FA}" type="pres">
      <dgm:prSet presAssocID="{C7F9A133-B387-42C2-B6D1-C61198CA9641}" presName="composite" presStyleCnt="0"/>
      <dgm:spPr/>
    </dgm:pt>
    <dgm:pt modelId="{253A772A-076E-476A-81FB-64BD2B942D1E}" type="pres">
      <dgm:prSet presAssocID="{C7F9A133-B387-42C2-B6D1-C61198CA9641}" presName="parentText" presStyleLbl="alignNode1" presStyleIdx="1" presStyleCnt="4">
        <dgm:presLayoutVars>
          <dgm:chMax val="1"/>
          <dgm:bulletEnabled val="1"/>
        </dgm:presLayoutVars>
      </dgm:prSet>
      <dgm:spPr/>
      <dgm:t>
        <a:bodyPr/>
        <a:lstStyle/>
        <a:p>
          <a:pPr rtl="1"/>
          <a:endParaRPr lang="ar-IQ"/>
        </a:p>
      </dgm:t>
    </dgm:pt>
    <dgm:pt modelId="{281A174C-FCE4-47CE-A645-F7C499E4E3A0}" type="pres">
      <dgm:prSet presAssocID="{C7F9A133-B387-42C2-B6D1-C61198CA9641}" presName="descendantText" presStyleLbl="alignAcc1" presStyleIdx="1" presStyleCnt="4" custLinFactNeighborX="1767" custLinFactNeighborY="2288">
        <dgm:presLayoutVars>
          <dgm:bulletEnabled val="1"/>
        </dgm:presLayoutVars>
      </dgm:prSet>
      <dgm:spPr/>
      <dgm:t>
        <a:bodyPr/>
        <a:lstStyle/>
        <a:p>
          <a:pPr rtl="1"/>
          <a:endParaRPr lang="ar-IQ"/>
        </a:p>
      </dgm:t>
    </dgm:pt>
    <dgm:pt modelId="{6D3C7A63-6746-402F-A2C2-DB5664EA9432}" type="pres">
      <dgm:prSet presAssocID="{001A12FB-8AFD-4672-A15B-266E67A655A4}" presName="sp" presStyleCnt="0"/>
      <dgm:spPr/>
    </dgm:pt>
    <dgm:pt modelId="{2E327011-0585-47BA-B3F4-E854302F5A0C}" type="pres">
      <dgm:prSet presAssocID="{A7C1BC5E-CD26-43E9-B303-D793BF072CD6}" presName="composite" presStyleCnt="0"/>
      <dgm:spPr/>
    </dgm:pt>
    <dgm:pt modelId="{4C082E2A-F1C7-437D-9790-4E83C61085EB}" type="pres">
      <dgm:prSet presAssocID="{A7C1BC5E-CD26-43E9-B303-D793BF072CD6}" presName="parentText" presStyleLbl="alignNode1" presStyleIdx="2" presStyleCnt="4">
        <dgm:presLayoutVars>
          <dgm:chMax val="1"/>
          <dgm:bulletEnabled val="1"/>
        </dgm:presLayoutVars>
      </dgm:prSet>
      <dgm:spPr/>
      <dgm:t>
        <a:bodyPr/>
        <a:lstStyle/>
        <a:p>
          <a:pPr rtl="1"/>
          <a:endParaRPr lang="ar-IQ"/>
        </a:p>
      </dgm:t>
    </dgm:pt>
    <dgm:pt modelId="{407C6C63-A6A1-4081-8872-9C8C1257EC05}" type="pres">
      <dgm:prSet presAssocID="{A7C1BC5E-CD26-43E9-B303-D793BF072CD6}" presName="descendantText" presStyleLbl="alignAcc1" presStyleIdx="2" presStyleCnt="4">
        <dgm:presLayoutVars>
          <dgm:bulletEnabled val="1"/>
        </dgm:presLayoutVars>
      </dgm:prSet>
      <dgm:spPr/>
      <dgm:t>
        <a:bodyPr/>
        <a:lstStyle/>
        <a:p>
          <a:pPr rtl="1"/>
          <a:endParaRPr lang="ar-IQ"/>
        </a:p>
      </dgm:t>
    </dgm:pt>
    <dgm:pt modelId="{496CFEB7-BA8F-416F-9F3B-33A095B03C4C}" type="pres">
      <dgm:prSet presAssocID="{4619A1FE-0E0C-4645-9C1D-8BB9F7FBAB8E}" presName="sp" presStyleCnt="0"/>
      <dgm:spPr/>
    </dgm:pt>
    <dgm:pt modelId="{85C7BAC0-14A5-46D8-B4C3-0107BB89CAC7}" type="pres">
      <dgm:prSet presAssocID="{43744BAF-91D5-4361-9119-C5B210A09754}" presName="composite" presStyleCnt="0"/>
      <dgm:spPr/>
    </dgm:pt>
    <dgm:pt modelId="{9E304CE7-74C1-4562-B4FD-03F2BFE5A003}" type="pres">
      <dgm:prSet presAssocID="{43744BAF-91D5-4361-9119-C5B210A09754}" presName="parentText" presStyleLbl="alignNode1" presStyleIdx="3" presStyleCnt="4">
        <dgm:presLayoutVars>
          <dgm:chMax val="1"/>
          <dgm:bulletEnabled val="1"/>
        </dgm:presLayoutVars>
      </dgm:prSet>
      <dgm:spPr/>
      <dgm:t>
        <a:bodyPr/>
        <a:lstStyle/>
        <a:p>
          <a:pPr rtl="1"/>
          <a:endParaRPr lang="ar-IQ"/>
        </a:p>
      </dgm:t>
    </dgm:pt>
    <dgm:pt modelId="{42242245-48BE-4F0F-A7CD-3F12EFD6C694}" type="pres">
      <dgm:prSet presAssocID="{43744BAF-91D5-4361-9119-C5B210A09754}" presName="descendantText" presStyleLbl="alignAcc1" presStyleIdx="3" presStyleCnt="4">
        <dgm:presLayoutVars>
          <dgm:bulletEnabled val="1"/>
        </dgm:presLayoutVars>
      </dgm:prSet>
      <dgm:spPr/>
      <dgm:t>
        <a:bodyPr/>
        <a:lstStyle/>
        <a:p>
          <a:pPr rtl="1"/>
          <a:endParaRPr lang="ar-IQ"/>
        </a:p>
      </dgm:t>
    </dgm:pt>
  </dgm:ptLst>
  <dgm:cxnLst>
    <dgm:cxn modelId="{0E5A43BE-E092-423D-88E9-FE4F3FC3CE9E}" type="presOf" srcId="{551EB766-1D80-414F-BC8A-71B9BEF14CB0}" destId="{42242245-48BE-4F0F-A7CD-3F12EFD6C694}" srcOrd="0" destOrd="0" presId="urn:microsoft.com/office/officeart/2005/8/layout/chevron2"/>
    <dgm:cxn modelId="{19568907-6048-41BE-916E-78BAE7CFB527}" srcId="{BBA9A30C-7E3D-493E-BBAA-C01A54D31564}" destId="{43EDC1E3-3371-4DF0-A543-E101B70E94F2}" srcOrd="0" destOrd="0" parTransId="{79EF8125-9B6B-47DC-9AE5-175A52752B89}" sibTransId="{4A203A14-4A7A-42EB-B49E-35BE42EA8CCD}"/>
    <dgm:cxn modelId="{226919A8-11A7-4B57-90CA-8995494BCB1E}" srcId="{C7F9A133-B387-42C2-B6D1-C61198CA9641}" destId="{9736FDD5-40BE-46FF-B21C-474F44C5CA03}" srcOrd="0" destOrd="0" parTransId="{EF049F47-1562-470A-8F6B-4F635A71016D}" sibTransId="{E3AAD37D-70F4-498E-8BED-A22D29BA4622}"/>
    <dgm:cxn modelId="{18E033B6-BFBA-475B-AFA4-B41D2859870B}" srcId="{A7C1BC5E-CD26-43E9-B303-D793BF072CD6}" destId="{10B9B185-E459-4CB9-8BB5-8458504CEB06}" srcOrd="0" destOrd="0" parTransId="{D1C2A8C8-8332-40A9-99EC-A2C428C46115}" sibTransId="{F0AF1FE7-F2AB-4E70-8B93-11B0316F78EE}"/>
    <dgm:cxn modelId="{0B64AE33-74D6-4989-A66F-98E8D853EB5C}" type="presOf" srcId="{43744BAF-91D5-4361-9119-C5B210A09754}" destId="{9E304CE7-74C1-4562-B4FD-03F2BFE5A003}" srcOrd="0" destOrd="0" presId="urn:microsoft.com/office/officeart/2005/8/layout/chevron2"/>
    <dgm:cxn modelId="{6494DE9D-A868-479B-9EA8-61ABBEB207EB}" type="presOf" srcId="{A7C1BC5E-CD26-43E9-B303-D793BF072CD6}" destId="{4C082E2A-F1C7-437D-9790-4E83C61085EB}" srcOrd="0" destOrd="0" presId="urn:microsoft.com/office/officeart/2005/8/layout/chevron2"/>
    <dgm:cxn modelId="{D0F43F6B-ADEA-4AAE-B997-C18B2B50D9D4}" type="presOf" srcId="{E4823F6D-B5A1-405C-93E6-6579A5155B3E}" destId="{E4E3CA7E-0E24-4AEC-ABE2-E3C11055B40D}" srcOrd="0" destOrd="0" presId="urn:microsoft.com/office/officeart/2005/8/layout/chevron2"/>
    <dgm:cxn modelId="{0F913644-13C4-45F5-B20F-8A8316732214}" type="presOf" srcId="{C7F9A133-B387-42C2-B6D1-C61198CA9641}" destId="{253A772A-076E-476A-81FB-64BD2B942D1E}" srcOrd="0" destOrd="0" presId="urn:microsoft.com/office/officeart/2005/8/layout/chevron2"/>
    <dgm:cxn modelId="{10FA2FCA-32CB-4A39-942D-550F04DB9FBB}" type="presOf" srcId="{BBA9A30C-7E3D-493E-BBAA-C01A54D31564}" destId="{07F6DA61-4BD1-483D-9631-7BE1C51F03F2}" srcOrd="0" destOrd="0" presId="urn:microsoft.com/office/officeart/2005/8/layout/chevron2"/>
    <dgm:cxn modelId="{111BDB46-DB03-477A-AA94-EE70E407A107}" type="presOf" srcId="{43EDC1E3-3371-4DF0-A543-E101B70E94F2}" destId="{BF323DA2-1873-4DD2-8833-6CDD1C2A10A6}" srcOrd="0" destOrd="0" presId="urn:microsoft.com/office/officeart/2005/8/layout/chevron2"/>
    <dgm:cxn modelId="{86EC3E48-8826-4BBF-B04E-A97155F6788A}" srcId="{E4823F6D-B5A1-405C-93E6-6579A5155B3E}" destId="{A7C1BC5E-CD26-43E9-B303-D793BF072CD6}" srcOrd="2" destOrd="0" parTransId="{4152AE9C-FF2F-4985-A055-0DD14D38F5CA}" sibTransId="{4619A1FE-0E0C-4645-9C1D-8BB9F7FBAB8E}"/>
    <dgm:cxn modelId="{114BF43C-59C7-4CC7-ABDE-C6A3987D0FB7}" srcId="{43744BAF-91D5-4361-9119-C5B210A09754}" destId="{551EB766-1D80-414F-BC8A-71B9BEF14CB0}" srcOrd="0" destOrd="0" parTransId="{A79A2059-36DE-4FCA-B75F-9B394FAEB7B1}" sibTransId="{350E1733-71A1-45AA-AF37-0F562189D99B}"/>
    <dgm:cxn modelId="{EA6817CF-F155-4E9E-88E5-7A60547EEF88}" srcId="{E4823F6D-B5A1-405C-93E6-6579A5155B3E}" destId="{C7F9A133-B387-42C2-B6D1-C61198CA9641}" srcOrd="1" destOrd="0" parTransId="{EBB41BE2-0C0B-4AF2-967D-BAE526AF16AF}" sibTransId="{001A12FB-8AFD-4672-A15B-266E67A655A4}"/>
    <dgm:cxn modelId="{FE12C4C6-E765-4C5C-B184-E5DF8410F909}" srcId="{E4823F6D-B5A1-405C-93E6-6579A5155B3E}" destId="{BBA9A30C-7E3D-493E-BBAA-C01A54D31564}" srcOrd="0" destOrd="0" parTransId="{7C7F8358-0C0D-43D2-8474-AC0B20839650}" sibTransId="{E1FAA625-2A4F-4C91-AA58-328D93E45E09}"/>
    <dgm:cxn modelId="{82D5FDDB-A9D2-4738-B87F-6D17A382B510}" srcId="{E4823F6D-B5A1-405C-93E6-6579A5155B3E}" destId="{43744BAF-91D5-4361-9119-C5B210A09754}" srcOrd="3" destOrd="0" parTransId="{C3A3A84A-A436-49DA-BBC9-E48793D9039A}" sibTransId="{0244FF9C-20BD-492D-AE56-99E03D4CD146}"/>
    <dgm:cxn modelId="{9D445146-78DF-40F0-B9B6-A73F7E57C2B1}" type="presOf" srcId="{9736FDD5-40BE-46FF-B21C-474F44C5CA03}" destId="{281A174C-FCE4-47CE-A645-F7C499E4E3A0}" srcOrd="0" destOrd="0" presId="urn:microsoft.com/office/officeart/2005/8/layout/chevron2"/>
    <dgm:cxn modelId="{0DCD4ACD-FE52-453C-998D-D8E25123B232}" type="presOf" srcId="{10B9B185-E459-4CB9-8BB5-8458504CEB06}" destId="{407C6C63-A6A1-4081-8872-9C8C1257EC05}" srcOrd="0" destOrd="0" presId="urn:microsoft.com/office/officeart/2005/8/layout/chevron2"/>
    <dgm:cxn modelId="{DF94CEF9-4E92-4F77-8AAD-238BEC93FC7D}" type="presParOf" srcId="{E4E3CA7E-0E24-4AEC-ABE2-E3C11055B40D}" destId="{164FDAA0-9165-4AB5-98CB-9661BC41F1AD}" srcOrd="0" destOrd="0" presId="urn:microsoft.com/office/officeart/2005/8/layout/chevron2"/>
    <dgm:cxn modelId="{17CBD0FE-EC61-42A1-89A1-2DB52CA69385}" type="presParOf" srcId="{164FDAA0-9165-4AB5-98CB-9661BC41F1AD}" destId="{07F6DA61-4BD1-483D-9631-7BE1C51F03F2}" srcOrd="0" destOrd="0" presId="urn:microsoft.com/office/officeart/2005/8/layout/chevron2"/>
    <dgm:cxn modelId="{35A2F860-6C15-4307-B353-968BBD7C62AB}" type="presParOf" srcId="{164FDAA0-9165-4AB5-98CB-9661BC41F1AD}" destId="{BF323DA2-1873-4DD2-8833-6CDD1C2A10A6}" srcOrd="1" destOrd="0" presId="urn:microsoft.com/office/officeart/2005/8/layout/chevron2"/>
    <dgm:cxn modelId="{EB4BF475-FCE6-491C-9FD9-EBEDD5F3A58A}" type="presParOf" srcId="{E4E3CA7E-0E24-4AEC-ABE2-E3C11055B40D}" destId="{06E70F29-3D6E-4FF5-8897-D6EA055DEEEB}" srcOrd="1" destOrd="0" presId="urn:microsoft.com/office/officeart/2005/8/layout/chevron2"/>
    <dgm:cxn modelId="{193E9C63-CC2E-47D7-85EC-CBD3B4F084E8}" type="presParOf" srcId="{E4E3CA7E-0E24-4AEC-ABE2-E3C11055B40D}" destId="{14639B19-BB85-42F5-93D2-6B3C437229FA}" srcOrd="2" destOrd="0" presId="urn:microsoft.com/office/officeart/2005/8/layout/chevron2"/>
    <dgm:cxn modelId="{37D6A545-C42F-4521-8E14-43AA45B78C82}" type="presParOf" srcId="{14639B19-BB85-42F5-93D2-6B3C437229FA}" destId="{253A772A-076E-476A-81FB-64BD2B942D1E}" srcOrd="0" destOrd="0" presId="urn:microsoft.com/office/officeart/2005/8/layout/chevron2"/>
    <dgm:cxn modelId="{79B61E61-48DE-40E9-81C3-5D17B66029AA}" type="presParOf" srcId="{14639B19-BB85-42F5-93D2-6B3C437229FA}" destId="{281A174C-FCE4-47CE-A645-F7C499E4E3A0}" srcOrd="1" destOrd="0" presId="urn:microsoft.com/office/officeart/2005/8/layout/chevron2"/>
    <dgm:cxn modelId="{F4182100-8635-479C-B5B7-CC10FC2EBBEA}" type="presParOf" srcId="{E4E3CA7E-0E24-4AEC-ABE2-E3C11055B40D}" destId="{6D3C7A63-6746-402F-A2C2-DB5664EA9432}" srcOrd="3" destOrd="0" presId="urn:microsoft.com/office/officeart/2005/8/layout/chevron2"/>
    <dgm:cxn modelId="{73ABFE73-4EC4-49B1-83B8-A1BB2A463B71}" type="presParOf" srcId="{E4E3CA7E-0E24-4AEC-ABE2-E3C11055B40D}" destId="{2E327011-0585-47BA-B3F4-E854302F5A0C}" srcOrd="4" destOrd="0" presId="urn:microsoft.com/office/officeart/2005/8/layout/chevron2"/>
    <dgm:cxn modelId="{D21F756E-7A89-4C5C-9284-136828EB2E44}" type="presParOf" srcId="{2E327011-0585-47BA-B3F4-E854302F5A0C}" destId="{4C082E2A-F1C7-437D-9790-4E83C61085EB}" srcOrd="0" destOrd="0" presId="urn:microsoft.com/office/officeart/2005/8/layout/chevron2"/>
    <dgm:cxn modelId="{D46145D4-110F-46BA-B7A9-DC816D1041EC}" type="presParOf" srcId="{2E327011-0585-47BA-B3F4-E854302F5A0C}" destId="{407C6C63-A6A1-4081-8872-9C8C1257EC05}" srcOrd="1" destOrd="0" presId="urn:microsoft.com/office/officeart/2005/8/layout/chevron2"/>
    <dgm:cxn modelId="{115792DC-BE4C-49C3-B5BD-584D51ABB82B}" type="presParOf" srcId="{E4E3CA7E-0E24-4AEC-ABE2-E3C11055B40D}" destId="{496CFEB7-BA8F-416F-9F3B-33A095B03C4C}" srcOrd="5" destOrd="0" presId="urn:microsoft.com/office/officeart/2005/8/layout/chevron2"/>
    <dgm:cxn modelId="{EA0FE673-F5EF-4087-ADBB-BE82FC22D221}" type="presParOf" srcId="{E4E3CA7E-0E24-4AEC-ABE2-E3C11055B40D}" destId="{85C7BAC0-14A5-46D8-B4C3-0107BB89CAC7}" srcOrd="6" destOrd="0" presId="urn:microsoft.com/office/officeart/2005/8/layout/chevron2"/>
    <dgm:cxn modelId="{9FC8BD3B-00E5-4340-A9DB-0DDD10826AD7}" type="presParOf" srcId="{85C7BAC0-14A5-46D8-B4C3-0107BB89CAC7}" destId="{9E304CE7-74C1-4562-B4FD-03F2BFE5A003}" srcOrd="0" destOrd="0" presId="urn:microsoft.com/office/officeart/2005/8/layout/chevron2"/>
    <dgm:cxn modelId="{D16A9DDD-0965-4E29-8C49-ABDEF42022CB}" type="presParOf" srcId="{85C7BAC0-14A5-46D8-B4C3-0107BB89CAC7}" destId="{42242245-48BE-4F0F-A7CD-3F12EFD6C694}"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ترويج المبيعات</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اعلان</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علاقات العام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البيع الشخصي</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تسويق المباشر</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5">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5">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5">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5">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5">
        <dgm:presLayoutVars>
          <dgm:bulletEnabled val="1"/>
        </dgm:presLayoutVars>
      </dgm:prSet>
      <dgm:spPr/>
      <dgm:t>
        <a:bodyPr/>
        <a:lstStyle/>
        <a:p>
          <a:pPr rtl="1"/>
          <a:endParaRPr lang="ar-IQ"/>
        </a:p>
      </dgm:t>
    </dgm:pt>
  </dgm:ptLst>
  <dgm:cxnLst>
    <dgm:cxn modelId="{3810FDCA-E8F1-4F7F-8C06-B0BFD7EF1B42}" srcId="{82FC9657-6BD3-4D69-88D8-6FC127E2848B}" destId="{63240922-26DE-4CE9-92DF-8B75C8C217AE}" srcOrd="0" destOrd="0" parTransId="{A85530AC-A0DC-442E-AAEE-B1A36D1964E0}" sibTransId="{4700A37C-D92B-4D78-ABD1-0C0EABF9D998}"/>
    <dgm:cxn modelId="{B893C479-C7CC-4D60-8565-62CC1F81DB53}" type="presOf" srcId="{ACE6B05E-46B9-4C2E-A853-0B5A7C874703}" destId="{BEC79D8D-A604-4050-BC4F-86D4830C484A}" srcOrd="0" destOrd="0" presId="urn:microsoft.com/office/officeart/2005/8/layout/default"/>
    <dgm:cxn modelId="{6E900819-9E5E-428A-97A5-174479DE2619}" type="presOf" srcId="{63240922-26DE-4CE9-92DF-8B75C8C217AE}" destId="{A1A93871-ABDE-4116-892D-F0CD364121BC}" srcOrd="0" destOrd="0" presId="urn:microsoft.com/office/officeart/2005/8/layout/default"/>
    <dgm:cxn modelId="{193D37CB-CD1A-4179-AB2A-DAAFF4A19FA0}" type="presOf" srcId="{8F452978-8492-42C3-822C-F7C97B8092FA}" destId="{19016A11-BC05-49E2-89A6-B95F7A937DAA}"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35C266AE-2B93-4007-87EB-95ED3DA03AA4}" srcId="{82FC9657-6BD3-4D69-88D8-6FC127E2848B}" destId="{47CDB915-5467-4DA9-9C7C-B6036E00662E}" srcOrd="3" destOrd="0" parTransId="{9D8CC327-79F9-40CB-8BB0-84445F829C81}" sibTransId="{0D538FB7-6739-4E64-8084-F97567A8C78B}"/>
    <dgm:cxn modelId="{F778B219-A93E-4588-B619-814AFE6532BC}" srcId="{82FC9657-6BD3-4D69-88D8-6FC127E2848B}" destId="{38BAD7F9-2C06-4DF7-8218-FF512D4AF10E}" srcOrd="4" destOrd="0" parTransId="{A69CA38B-D67A-45F7-A5A6-19655D1C2367}" sibTransId="{E9AAD48F-79EF-454B-8F19-D1FF4A92D255}"/>
    <dgm:cxn modelId="{AB75933D-D938-41E1-9F37-98D955932C75}" type="presOf" srcId="{47CDB915-5467-4DA9-9C7C-B6036E00662E}" destId="{963DB2CA-C84F-4459-ACA4-CAC281B99EF4}" srcOrd="0" destOrd="0" presId="urn:microsoft.com/office/officeart/2005/8/layout/default"/>
    <dgm:cxn modelId="{C3B95E06-2203-440B-A2D9-E87C24B60EB1}" srcId="{82FC9657-6BD3-4D69-88D8-6FC127E2848B}" destId="{ACE6B05E-46B9-4C2E-A853-0B5A7C874703}" srcOrd="2" destOrd="0" parTransId="{ADDE2578-5F8D-44E1-AAD4-B0C087B89CC7}" sibTransId="{836133D7-849E-4DCA-9322-D65525E5B09D}"/>
    <dgm:cxn modelId="{A3FE5899-075A-4EC5-97AA-D70015E66DFB}" type="presOf" srcId="{82FC9657-6BD3-4D69-88D8-6FC127E2848B}" destId="{66F778B4-7BA0-4F4B-8682-FF3DAEDF8067}" srcOrd="0" destOrd="0" presId="urn:microsoft.com/office/officeart/2005/8/layout/default"/>
    <dgm:cxn modelId="{C6529D69-28D1-4495-A111-DFAA44DD767D}" type="presOf" srcId="{38BAD7F9-2C06-4DF7-8218-FF512D4AF10E}" destId="{9B727FF9-EF5C-42BD-B701-516146ED6121}" srcOrd="0" destOrd="0" presId="urn:microsoft.com/office/officeart/2005/8/layout/default"/>
    <dgm:cxn modelId="{97CE3B40-699C-45FA-A92D-6EE7432C2B07}" type="presParOf" srcId="{66F778B4-7BA0-4F4B-8682-FF3DAEDF8067}" destId="{A1A93871-ABDE-4116-892D-F0CD364121BC}" srcOrd="0" destOrd="0" presId="urn:microsoft.com/office/officeart/2005/8/layout/default"/>
    <dgm:cxn modelId="{50DB29D7-102B-4223-ADD4-41B649C71C79}" type="presParOf" srcId="{66F778B4-7BA0-4F4B-8682-FF3DAEDF8067}" destId="{8D8BD28E-2746-4A6A-ACF0-BDEFEF893DE3}" srcOrd="1" destOrd="0" presId="urn:microsoft.com/office/officeart/2005/8/layout/default"/>
    <dgm:cxn modelId="{F6525335-3A95-4D5C-A7B2-E2E32FECF1AA}" type="presParOf" srcId="{66F778B4-7BA0-4F4B-8682-FF3DAEDF8067}" destId="{19016A11-BC05-49E2-89A6-B95F7A937DAA}" srcOrd="2" destOrd="0" presId="urn:microsoft.com/office/officeart/2005/8/layout/default"/>
    <dgm:cxn modelId="{42DDEC96-AD64-41C9-8086-82099FB68C61}" type="presParOf" srcId="{66F778B4-7BA0-4F4B-8682-FF3DAEDF8067}" destId="{C77895AE-5B3F-4321-A4B2-FE4FF5526861}" srcOrd="3" destOrd="0" presId="urn:microsoft.com/office/officeart/2005/8/layout/default"/>
    <dgm:cxn modelId="{F3C3A95C-3F95-4CD3-A67C-F1FE9B59A46D}" type="presParOf" srcId="{66F778B4-7BA0-4F4B-8682-FF3DAEDF8067}" destId="{BEC79D8D-A604-4050-BC4F-86D4830C484A}" srcOrd="4" destOrd="0" presId="urn:microsoft.com/office/officeart/2005/8/layout/default"/>
    <dgm:cxn modelId="{FD492413-8200-4699-B668-FE20EB079C42}" type="presParOf" srcId="{66F778B4-7BA0-4F4B-8682-FF3DAEDF8067}" destId="{CD8EEC53-BD9F-411A-8A13-35520F36452E}" srcOrd="5" destOrd="0" presId="urn:microsoft.com/office/officeart/2005/8/layout/default"/>
    <dgm:cxn modelId="{93963356-973C-48D4-B51F-67A12FE0175B}" type="presParOf" srcId="{66F778B4-7BA0-4F4B-8682-FF3DAEDF8067}" destId="{963DB2CA-C84F-4459-ACA4-CAC281B99EF4}" srcOrd="6" destOrd="0" presId="urn:microsoft.com/office/officeart/2005/8/layout/default"/>
    <dgm:cxn modelId="{04777A70-7B4A-48BE-A722-BC11243DA2E3}" type="presParOf" srcId="{66F778B4-7BA0-4F4B-8682-FF3DAEDF8067}" destId="{320B4E51-21E2-470F-9AA8-C620A5A69CBB}" srcOrd="7" destOrd="0" presId="urn:microsoft.com/office/officeart/2005/8/layout/default"/>
    <dgm:cxn modelId="{EEE2A271-A958-4F49-8F8B-5E771FD11FBC}" type="presParOf" srcId="{66F778B4-7BA0-4F4B-8682-FF3DAEDF8067}" destId="{9B727FF9-EF5C-42BD-B701-516146ED6121}" srcOrd="8"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ستراتيجيات الترويج</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98A74C50-95E6-4748-B856-ECEB10A72C32}">
      <dgm:prSet phldrT="[نص]">
        <dgm:style>
          <a:lnRef idx="3">
            <a:schemeClr val="lt1"/>
          </a:lnRef>
          <a:fillRef idx="1">
            <a:schemeClr val="accent4"/>
          </a:fillRef>
          <a:effectRef idx="1">
            <a:schemeClr val="accent4"/>
          </a:effectRef>
          <a:fontRef idx="minor">
            <a:schemeClr val="lt1"/>
          </a:fontRef>
        </dgm:style>
      </dgm:prSet>
      <dgm:spPr/>
      <dgm:t>
        <a:bodyPr/>
        <a:lstStyle/>
        <a:p>
          <a:pPr rtl="1"/>
          <a:r>
            <a:rPr lang="ar-IQ" dirty="0" smtClean="0">
              <a:solidFill>
                <a:schemeClr val="tx1"/>
              </a:solidFill>
            </a:rPr>
            <a:t>استراتيجية الدفع</a:t>
          </a:r>
          <a:endParaRPr lang="ar-IQ" dirty="0">
            <a:solidFill>
              <a:schemeClr val="tx1"/>
            </a:solidFill>
          </a:endParaRPr>
        </a:p>
      </dgm:t>
    </dgm:pt>
    <dgm:pt modelId="{8435C686-437A-4AC1-88BA-1D44ECD61BA3}" type="parTrans" cxnId="{886B051C-9442-4029-86B0-36A54F1AFCF9}">
      <dgm:prSet/>
      <dgm:spPr/>
      <dgm:t>
        <a:bodyPr/>
        <a:lstStyle/>
        <a:p>
          <a:pPr rtl="1"/>
          <a:endParaRPr lang="ar-IQ"/>
        </a:p>
      </dgm:t>
    </dgm:pt>
    <dgm:pt modelId="{1261AEF7-BB2D-408F-8351-1A6A34742266}" type="sibTrans" cxnId="{886B051C-9442-4029-86B0-36A54F1AFCF9}">
      <dgm:prSet/>
      <dgm:spPr/>
      <dgm:t>
        <a:bodyPr/>
        <a:lstStyle/>
        <a:p>
          <a:pPr rtl="1"/>
          <a:endParaRPr lang="ar-IQ"/>
        </a:p>
      </dgm:t>
    </dgm:pt>
    <dgm:pt modelId="{E5038EF0-4D26-4B3D-8D4A-BF538356A50F}">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ستراتيجية السحب</a:t>
          </a:r>
          <a:endParaRPr lang="ar-IQ"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solidFill>
                <a:schemeClr val="tx1"/>
              </a:solidFill>
            </a:rPr>
            <a:t>استراتيجية الضغط</a:t>
          </a:r>
          <a:endParaRPr lang="ar-IQ"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ستراتيجية الايحاء</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5" custScaleX="108003" custScaleY="107659"/>
      <dgm:spPr/>
      <dgm:t>
        <a:bodyPr/>
        <a:lstStyle/>
        <a:p>
          <a:pPr rtl="1"/>
          <a:endParaRPr lang="ar-IQ"/>
        </a:p>
      </dgm:t>
    </dgm:pt>
    <dgm:pt modelId="{317058BD-5BF0-4472-B3AE-73B7D8DE83C4}" type="pres">
      <dgm:prSet presAssocID="{98A74C50-95E6-4748-B856-ECEB10A72C32}" presName="node" presStyleLbl="vennNode1" presStyleIdx="1" presStyleCnt="5" custScaleX="126000" custScaleY="95216" custRadScaleRad="99756" custRadScaleInc="394">
        <dgm:presLayoutVars>
          <dgm:bulletEnabled val="1"/>
        </dgm:presLayoutVars>
      </dgm:prSet>
      <dgm:spPr/>
      <dgm:t>
        <a:bodyPr/>
        <a:lstStyle/>
        <a:p>
          <a:pPr rtl="1"/>
          <a:endParaRPr lang="ar-IQ"/>
        </a:p>
      </dgm:t>
    </dgm:pt>
    <dgm:pt modelId="{B169EAD5-5CBE-40BD-937C-E1FE47222266}" type="pres">
      <dgm:prSet presAssocID="{E5038EF0-4D26-4B3D-8D4A-BF538356A50F}" presName="node" presStyleLbl="vennNode1" presStyleIdx="2" presStyleCnt="5"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3" presStyleCnt="5"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4" presStyleCnt="5" custScaleX="114505" custScaleY="95166">
        <dgm:presLayoutVars>
          <dgm:bulletEnabled val="1"/>
        </dgm:presLayoutVars>
      </dgm:prSet>
      <dgm:spPr/>
      <dgm:t>
        <a:bodyPr/>
        <a:lstStyle/>
        <a:p>
          <a:pPr rtl="1"/>
          <a:endParaRPr lang="ar-IQ"/>
        </a:p>
      </dgm:t>
    </dgm:pt>
  </dgm:ptLst>
  <dgm:cxnLst>
    <dgm:cxn modelId="{886B051C-9442-4029-86B0-36A54F1AFCF9}" srcId="{C3A364C2-1CA8-44BF-B3E4-815DB5851073}" destId="{98A74C50-95E6-4748-B856-ECEB10A72C32}" srcOrd="0" destOrd="0" parTransId="{8435C686-437A-4AC1-88BA-1D44ECD61BA3}" sibTransId="{1261AEF7-BB2D-408F-8351-1A6A34742266}"/>
    <dgm:cxn modelId="{CFB22EE5-28D9-40AA-B818-E65AE084E81D}" type="presOf" srcId="{3E9567A3-9BAF-443F-96DD-F16DF1F3C9DA}" destId="{9E5AD3C0-3100-4018-AF70-FAEA0033A23F}" srcOrd="0" destOrd="0" presId="urn:microsoft.com/office/officeart/2005/8/layout/radial3"/>
    <dgm:cxn modelId="{5D93EFB1-39C0-45AD-9ADE-61B1F50B1520}" type="presOf" srcId="{98A74C50-95E6-4748-B856-ECEB10A72C32}" destId="{317058BD-5BF0-4472-B3AE-73B7D8DE83C4}" srcOrd="0" destOrd="0" presId="urn:microsoft.com/office/officeart/2005/8/layout/radial3"/>
    <dgm:cxn modelId="{B6CA4D5D-545D-4D34-A026-75416A532175}" type="presOf" srcId="{10029E96-5460-4E50-8035-940E55C761DE}" destId="{C133A265-43B8-4584-987F-6A7BC509038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AA5C6A9B-2457-446E-A0BC-B5F678E969AB}" type="presOf" srcId="{E5038EF0-4D26-4B3D-8D4A-BF538356A50F}" destId="{B169EAD5-5CBE-40BD-937C-E1FE47222266}" srcOrd="0" destOrd="0" presId="urn:microsoft.com/office/officeart/2005/8/layout/radial3"/>
    <dgm:cxn modelId="{8A4B27B4-FE55-462A-AB02-EDDD93BEC8A6}" srcId="{C3A364C2-1CA8-44BF-B3E4-815DB5851073}" destId="{E5038EF0-4D26-4B3D-8D4A-BF538356A50F}" srcOrd="1" destOrd="0" parTransId="{A86D1865-3B54-4A62-97DC-4A3D5CC907EB}" sibTransId="{67142EDE-AA7A-4E0D-8A04-1160E87A98AC}"/>
    <dgm:cxn modelId="{26C14024-9D93-4F4B-A39B-4D38D8BC05D8}" type="presOf" srcId="{BF4E3A42-4674-47DE-BF04-B3E66C65A586}" destId="{FE606BEE-67C0-46FF-AC25-80932D9ED6C6}" srcOrd="0" destOrd="0" presId="urn:microsoft.com/office/officeart/2005/8/layout/radial3"/>
    <dgm:cxn modelId="{228ED651-CF7A-4475-A58B-D7B8454C39E2}" type="presOf" srcId="{C3A364C2-1CA8-44BF-B3E4-815DB5851073}" destId="{3F060CA7-779C-4EC7-9FFE-DF9B8EF2BDDF}" srcOrd="0" destOrd="0" presId="urn:microsoft.com/office/officeart/2005/8/layout/radial3"/>
    <dgm:cxn modelId="{BFFE167B-4969-41EB-BF66-B16340B52041}" srcId="{C3A364C2-1CA8-44BF-B3E4-815DB5851073}" destId="{3E9567A3-9BAF-443F-96DD-F16DF1F3C9DA}" srcOrd="2" destOrd="0" parTransId="{E1C0944E-02BC-473C-AAA1-9A367B909B4D}" sibTransId="{96DC6010-3956-4941-9E9A-E46F86250780}"/>
    <dgm:cxn modelId="{30F95E05-D8C8-4BFC-A7D6-EA796AE2F583}" srcId="{C3A364C2-1CA8-44BF-B3E4-815DB5851073}" destId="{10029E96-5460-4E50-8035-940E55C761DE}" srcOrd="3" destOrd="0" parTransId="{588E1B45-E1C6-4D11-84DD-17001475BC50}" sibTransId="{44D673A6-CD07-4EAA-A9D7-6048BA244300}"/>
    <dgm:cxn modelId="{20CDDA18-4EBF-43FC-87F5-8EF7B35661C0}" type="presParOf" srcId="{FE606BEE-67C0-46FF-AC25-80932D9ED6C6}" destId="{CD74F4E5-D8BA-4349-9B3D-2A0E19C0CEDE}" srcOrd="0" destOrd="0" presId="urn:microsoft.com/office/officeart/2005/8/layout/radial3"/>
    <dgm:cxn modelId="{C5409A22-F43D-4698-8241-18218CE6B6B6}" type="presParOf" srcId="{CD74F4E5-D8BA-4349-9B3D-2A0E19C0CEDE}" destId="{3F060CA7-779C-4EC7-9FFE-DF9B8EF2BDDF}" srcOrd="0" destOrd="0" presId="urn:microsoft.com/office/officeart/2005/8/layout/radial3"/>
    <dgm:cxn modelId="{3CE265B2-A906-44C1-9E1A-1F69A33BDA07}" type="presParOf" srcId="{CD74F4E5-D8BA-4349-9B3D-2A0E19C0CEDE}" destId="{317058BD-5BF0-4472-B3AE-73B7D8DE83C4}" srcOrd="1" destOrd="0" presId="urn:microsoft.com/office/officeart/2005/8/layout/radial3"/>
    <dgm:cxn modelId="{6E5D44E3-D375-4FB8-8016-247DE10F43B7}" type="presParOf" srcId="{CD74F4E5-D8BA-4349-9B3D-2A0E19C0CEDE}" destId="{B169EAD5-5CBE-40BD-937C-E1FE47222266}" srcOrd="2" destOrd="0" presId="urn:microsoft.com/office/officeart/2005/8/layout/radial3"/>
    <dgm:cxn modelId="{DEF32F2C-75D6-4648-BD64-72DB262EA0C1}" type="presParOf" srcId="{CD74F4E5-D8BA-4349-9B3D-2A0E19C0CEDE}" destId="{9E5AD3C0-3100-4018-AF70-FAEA0033A23F}" srcOrd="3" destOrd="0" presId="urn:microsoft.com/office/officeart/2005/8/layout/radial3"/>
    <dgm:cxn modelId="{A8FF91F2-7FB5-488C-80C2-18A429AD9DB3}" type="presParOf" srcId="{CD74F4E5-D8BA-4349-9B3D-2A0E19C0CEDE}" destId="{C133A265-43B8-4584-987F-6A7BC5090384}" srcOrd="4" destOrd="0" presId="urn:microsoft.com/office/officeart/2005/8/layout/radial3"/>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7F6DA61-4BD1-483D-9631-7BE1C51F03F2}">
      <dsp:nvSpPr>
        <dsp:cNvPr id="0" name=""/>
        <dsp:cNvSpPr/>
      </dsp:nvSpPr>
      <dsp:spPr>
        <a:xfrm rot="5400000">
          <a:off x="-207822" y="210885"/>
          <a:ext cx="1385485" cy="969840"/>
        </a:xfrm>
        <a:prstGeom prst="chevron">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اعلام</a:t>
          </a:r>
          <a:endParaRPr lang="ar-IQ" sz="2800" kern="1200" dirty="0"/>
        </a:p>
      </dsp:txBody>
      <dsp:txXfrm rot="-5400000">
        <a:off x="1" y="487982"/>
        <a:ext cx="969840" cy="415645"/>
      </dsp:txXfrm>
    </dsp:sp>
    <dsp:sp modelId="{BF323DA2-1873-4DD2-8833-6CDD1C2A10A6}">
      <dsp:nvSpPr>
        <dsp:cNvPr id="0" name=""/>
        <dsp:cNvSpPr/>
      </dsp:nvSpPr>
      <dsp:spPr>
        <a:xfrm rot="5400000">
          <a:off x="4175097" y="-3205256"/>
          <a:ext cx="900565" cy="7311079"/>
        </a:xfrm>
        <a:prstGeom prst="round2Same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اكثر المنتجات تصبح مهملة اذا لم يعرف بها الناس</a:t>
          </a:r>
          <a:endParaRPr lang="ar-IQ" sz="2900" kern="1200" dirty="0"/>
        </a:p>
      </dsp:txBody>
      <dsp:txXfrm rot="-5400000">
        <a:off x="969840" y="43963"/>
        <a:ext cx="7267117" cy="812641"/>
      </dsp:txXfrm>
    </dsp:sp>
    <dsp:sp modelId="{253A772A-076E-476A-81FB-64BD2B942D1E}">
      <dsp:nvSpPr>
        <dsp:cNvPr id="0" name=""/>
        <dsp:cNvSpPr/>
      </dsp:nvSpPr>
      <dsp:spPr>
        <a:xfrm rot="5400000">
          <a:off x="-207822" y="1451204"/>
          <a:ext cx="1385485" cy="969840"/>
        </a:xfrm>
        <a:prstGeom prst="chevron">
          <a:avLst/>
        </a:prstGeom>
        <a:gradFill rotWithShape="1">
          <a:gsLst>
            <a:gs pos="0">
              <a:schemeClr val="accent4">
                <a:shade val="51000"/>
                <a:satMod val="130000"/>
              </a:schemeClr>
            </a:gs>
            <a:gs pos="80000">
              <a:schemeClr val="accent4">
                <a:shade val="93000"/>
                <a:satMod val="130000"/>
              </a:schemeClr>
            </a:gs>
            <a:gs pos="100000">
              <a:schemeClr val="accent4">
                <a:shade val="94000"/>
                <a:satMod val="135000"/>
              </a:schemeClr>
            </a:gs>
          </a:gsLst>
          <a:lin ang="16200000" scaled="0"/>
        </a:gradFill>
        <a:ln w="9525" cap="flat" cmpd="sng" algn="ctr">
          <a:solidFill>
            <a:schemeClr val="accent4">
              <a:shade val="95000"/>
              <a:satMod val="105000"/>
            </a:schemeClr>
          </a:solidFill>
          <a:prstDash val="solid"/>
        </a:ln>
        <a:effectLst>
          <a:outerShdw blurRad="40000" dist="23000" dir="5400000" rotWithShape="0">
            <a:srgbClr val="000000">
              <a:alpha val="35000"/>
            </a:srgbClr>
          </a:outerShdw>
        </a:effectLst>
      </dsp:spPr>
      <dsp:style>
        <a:lnRef idx="1">
          <a:schemeClr val="accent4"/>
        </a:lnRef>
        <a:fillRef idx="3">
          <a:schemeClr val="accent4"/>
        </a:fillRef>
        <a:effectRef idx="2">
          <a:schemeClr val="accent4"/>
        </a:effectRef>
        <a:fontRef idx="minor">
          <a:schemeClr val="lt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اقناع</a:t>
          </a:r>
          <a:endParaRPr lang="ar-IQ" sz="2800" kern="1200" dirty="0"/>
        </a:p>
      </dsp:txBody>
      <dsp:txXfrm rot="-5400000">
        <a:off x="1" y="1728301"/>
        <a:ext cx="969840" cy="415645"/>
      </dsp:txXfrm>
    </dsp:sp>
    <dsp:sp modelId="{281A174C-FCE4-47CE-A645-F7C499E4E3A0}">
      <dsp:nvSpPr>
        <dsp:cNvPr id="0" name=""/>
        <dsp:cNvSpPr/>
      </dsp:nvSpPr>
      <dsp:spPr>
        <a:xfrm rot="5400000">
          <a:off x="4175097" y="-1941270"/>
          <a:ext cx="900565" cy="7311079"/>
        </a:xfrm>
        <a:prstGeom prst="round2SameRect">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20400000"/>
          </a:lightRig>
        </a:scene3d>
        <a:sp3d contourW="6350">
          <a:bevelT w="41275" h="19050" prst="angle"/>
          <a:contourClr>
            <a:schemeClr val="accent5">
              <a:shade val="25000"/>
              <a:satMod val="150000"/>
            </a:schemeClr>
          </a:contourClr>
        </a:sp3d>
      </dsp:spPr>
      <dsp:style>
        <a:lnRef idx="0">
          <a:schemeClr val="accent5"/>
        </a:lnRef>
        <a:fillRef idx="3">
          <a:schemeClr val="accent5"/>
        </a:fillRef>
        <a:effectRef idx="3">
          <a:schemeClr val="accent5"/>
        </a:effectRef>
        <a:fontRef idx="minor">
          <a:schemeClr val="lt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يتم تصميم المنتج </a:t>
          </a:r>
          <a:r>
            <a:rPr lang="ar-IQ" sz="2900" kern="1200" dirty="0" err="1" smtClean="0"/>
            <a:t>لاشباع</a:t>
          </a:r>
          <a:r>
            <a:rPr lang="ar-IQ" sz="2900" kern="1200" dirty="0" smtClean="0"/>
            <a:t> حاجة فسيولوجية اساس ويحتاج لترويج قوي.</a:t>
          </a:r>
          <a:endParaRPr lang="ar-IQ" sz="2900" kern="1200" dirty="0"/>
        </a:p>
      </dsp:txBody>
      <dsp:txXfrm rot="-5400000">
        <a:off x="969840" y="1307949"/>
        <a:ext cx="7267117" cy="812641"/>
      </dsp:txXfrm>
    </dsp:sp>
    <dsp:sp modelId="{4C082E2A-F1C7-437D-9790-4E83C61085EB}">
      <dsp:nvSpPr>
        <dsp:cNvPr id="0" name=""/>
        <dsp:cNvSpPr/>
      </dsp:nvSpPr>
      <dsp:spPr>
        <a:xfrm rot="5400000">
          <a:off x="-207822" y="2691523"/>
          <a:ext cx="1385485" cy="969840"/>
        </a:xfrm>
        <a:prstGeom prst="chevron">
          <a:avLst/>
        </a:prstGeom>
        <a:gradFill rotWithShape="1">
          <a:gsLst>
            <a:gs pos="0">
              <a:schemeClr val="dk1">
                <a:shade val="51000"/>
                <a:satMod val="130000"/>
              </a:schemeClr>
            </a:gs>
            <a:gs pos="80000">
              <a:schemeClr val="dk1">
                <a:shade val="93000"/>
                <a:satMod val="130000"/>
              </a:schemeClr>
            </a:gs>
            <a:gs pos="100000">
              <a:schemeClr val="dk1">
                <a:shade val="94000"/>
                <a:satMod val="135000"/>
              </a:schemeClr>
            </a:gs>
          </a:gsLst>
          <a:lin ang="16200000" scaled="0"/>
        </a:gradFill>
        <a:ln w="9525" cap="flat" cmpd="sng" algn="ctr">
          <a:solidFill>
            <a:schemeClr val="dk1">
              <a:shade val="95000"/>
              <a:satMod val="105000"/>
            </a:schemeClr>
          </a:solidFill>
          <a:prstDash val="solid"/>
        </a:ln>
        <a:effectLst>
          <a:outerShdw blurRad="40000" dist="23000" dir="5400000" rotWithShape="0">
            <a:srgbClr val="000000">
              <a:alpha val="35000"/>
            </a:srgbClr>
          </a:outerShdw>
        </a:effectLst>
      </dsp:spPr>
      <dsp:style>
        <a:lnRef idx="1">
          <a:schemeClr val="dk1"/>
        </a:lnRef>
        <a:fillRef idx="3">
          <a:schemeClr val="dk1"/>
        </a:fillRef>
        <a:effectRef idx="2">
          <a:schemeClr val="dk1"/>
        </a:effectRef>
        <a:fontRef idx="minor">
          <a:schemeClr val="lt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تذكير</a:t>
          </a:r>
          <a:endParaRPr lang="ar-IQ" sz="2800" kern="1200" dirty="0"/>
        </a:p>
      </dsp:txBody>
      <dsp:txXfrm rot="-5400000">
        <a:off x="1" y="2968620"/>
        <a:ext cx="969840" cy="415645"/>
      </dsp:txXfrm>
    </dsp:sp>
    <dsp:sp modelId="{407C6C63-A6A1-4081-8872-9C8C1257EC05}">
      <dsp:nvSpPr>
        <dsp:cNvPr id="0" name=""/>
        <dsp:cNvSpPr/>
      </dsp:nvSpPr>
      <dsp:spPr>
        <a:xfrm rot="5400000">
          <a:off x="4175097" y="-721556"/>
          <a:ext cx="900565" cy="7311079"/>
        </a:xfrm>
        <a:prstGeom prst="round2SameRect">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يجب تذكير المستهلكين دائما بتوفر المنتج واحتمالات اشباعه لحاجاتهم.</a:t>
          </a:r>
          <a:endParaRPr lang="ar-IQ" sz="2900" kern="1200" dirty="0"/>
        </a:p>
      </dsp:txBody>
      <dsp:txXfrm rot="-5400000">
        <a:off x="969840" y="2527663"/>
        <a:ext cx="7267117" cy="812641"/>
      </dsp:txXfrm>
    </dsp:sp>
    <dsp:sp modelId="{9E304CE7-74C1-4562-B4FD-03F2BFE5A003}">
      <dsp:nvSpPr>
        <dsp:cNvPr id="0" name=""/>
        <dsp:cNvSpPr/>
      </dsp:nvSpPr>
      <dsp:spPr>
        <a:xfrm rot="5400000">
          <a:off x="-207822" y="3931842"/>
          <a:ext cx="1385485" cy="969840"/>
        </a:xfrm>
        <a:prstGeom prst="chevron">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تعزيز</a:t>
          </a:r>
          <a:endParaRPr lang="ar-IQ" sz="2800" kern="1200" dirty="0"/>
        </a:p>
      </dsp:txBody>
      <dsp:txXfrm rot="-5400000">
        <a:off x="1" y="4208939"/>
        <a:ext cx="969840" cy="415645"/>
      </dsp:txXfrm>
    </dsp:sp>
    <dsp:sp modelId="{42242245-48BE-4F0F-A7CD-3F12EFD6C694}">
      <dsp:nvSpPr>
        <dsp:cNvPr id="0" name=""/>
        <dsp:cNvSpPr/>
      </dsp:nvSpPr>
      <dsp:spPr>
        <a:xfrm rot="5400000">
          <a:off x="4175097" y="518762"/>
          <a:ext cx="900565" cy="7311079"/>
        </a:xfrm>
        <a:prstGeom prst="round2Same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اي تعزيز رضا الزبون بالمنتج بعد شرائه وتدعيم ولائهم له.</a:t>
          </a:r>
          <a:endParaRPr lang="ar-IQ" sz="2900" kern="1200" dirty="0"/>
        </a:p>
      </dsp:txBody>
      <dsp:txXfrm rot="-5400000">
        <a:off x="969840" y="3767981"/>
        <a:ext cx="7267117" cy="812641"/>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916483" y="1984"/>
          <a:ext cx="2030015" cy="121800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ترويج المبيعات</a:t>
          </a:r>
          <a:endParaRPr lang="ar-IQ" sz="3500" kern="1200" dirty="0"/>
        </a:p>
      </dsp:txBody>
      <dsp:txXfrm>
        <a:off x="916483" y="1984"/>
        <a:ext cx="2030015" cy="1218009"/>
      </dsp:txXfrm>
    </dsp:sp>
    <dsp:sp modelId="{19016A11-BC05-49E2-89A6-B95F7A937DAA}">
      <dsp:nvSpPr>
        <dsp:cNvPr id="0" name=""/>
        <dsp:cNvSpPr/>
      </dsp:nvSpPr>
      <dsp:spPr>
        <a:xfrm>
          <a:off x="3149500" y="1984"/>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اعلان</a:t>
          </a:r>
          <a:endParaRPr lang="ar-IQ" sz="3500" kern="1200" dirty="0"/>
        </a:p>
      </dsp:txBody>
      <dsp:txXfrm>
        <a:off x="3149500" y="1984"/>
        <a:ext cx="2030015" cy="1218009"/>
      </dsp:txXfrm>
    </dsp:sp>
    <dsp:sp modelId="{BEC79D8D-A604-4050-BC4F-86D4830C484A}">
      <dsp:nvSpPr>
        <dsp:cNvPr id="0" name=""/>
        <dsp:cNvSpPr/>
      </dsp:nvSpPr>
      <dsp:spPr>
        <a:xfrm>
          <a:off x="916483" y="1422995"/>
          <a:ext cx="2030015" cy="121800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علاقات العامة</a:t>
          </a:r>
          <a:endParaRPr lang="ar-IQ" sz="3500" kern="1200" dirty="0"/>
        </a:p>
      </dsp:txBody>
      <dsp:txXfrm>
        <a:off x="916483" y="1422995"/>
        <a:ext cx="2030015" cy="1218009"/>
      </dsp:txXfrm>
    </dsp:sp>
    <dsp:sp modelId="{963DB2CA-C84F-4459-ACA4-CAC281B99EF4}">
      <dsp:nvSpPr>
        <dsp:cNvPr id="0" name=""/>
        <dsp:cNvSpPr/>
      </dsp:nvSpPr>
      <dsp:spPr>
        <a:xfrm>
          <a:off x="3149500" y="1422995"/>
          <a:ext cx="2030015" cy="121800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بيع الشخصي</a:t>
          </a:r>
          <a:endParaRPr lang="ar-IQ" sz="3500" kern="1200" dirty="0"/>
        </a:p>
      </dsp:txBody>
      <dsp:txXfrm>
        <a:off x="3149500" y="1422995"/>
        <a:ext cx="2030015" cy="1218009"/>
      </dsp:txXfrm>
    </dsp:sp>
    <dsp:sp modelId="{9B727FF9-EF5C-42BD-B701-516146ED6121}">
      <dsp:nvSpPr>
        <dsp:cNvPr id="0" name=""/>
        <dsp:cNvSpPr/>
      </dsp:nvSpPr>
      <dsp:spPr>
        <a:xfrm>
          <a:off x="2032992" y="2844006"/>
          <a:ext cx="2030015" cy="1218009"/>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تسويق المباشر</a:t>
          </a:r>
          <a:endParaRPr lang="ar-IQ" sz="3500" kern="1200" dirty="0"/>
        </a:p>
      </dsp:txBody>
      <dsp:txXfrm>
        <a:off x="2032992" y="2844006"/>
        <a:ext cx="2030015" cy="1218009"/>
      </dsp:txXfrm>
    </dsp:sp>
  </dsp:spTree>
</dsp:drawing>
</file>

<file path=ppt/diagrams/layout1.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8EFEE-057E-405C-A99B-8E819F6F5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A2C6E-8E21-4219-9B5F-56CEA03E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6BA7-E291-44AA-AFB3-EF557AE15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B9C3F-A657-4B1B-A62C-47DC283E3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E3FCE-2E79-4208-B192-4BCE842E9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E6720-9832-422A-A57F-10CE4E2F4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6C49C-2092-4B7C-9B63-66F815F61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047E5-2679-45B0-895B-2056F631C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4AB62-BFA6-4B25-BF81-503A77858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3B960-172F-4A49-A31B-83E934494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89109-8D2D-408D-907F-1B2B4DA26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5B9B-C2F4-493E-A40F-5E42F667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7A4FA-81A1-4329-BBE5-D04388B96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81C43-F109-43C8-B405-DB744B7F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82124-AA32-47FF-85C6-74FB8B52A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C84DB-7659-4D96-BBA8-2C8750F80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DEC86-B652-405E-AB56-B3419A84D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AA85-9554-4EA0-8285-FA468E3C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8809A-0EDC-4C6E-A2D1-C0E7D5F98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6B5C-6C92-4F8E-AB10-5019FD06F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0F13-F256-4DEE-B6F3-D8016628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2F45-B136-4462-AA75-69D10E807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9F7B-B8D4-46F4-A314-676BF60D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2498-953B-4516-B30F-5738F75F2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355B277F-4306-4A13-BB3C-0BBE3C4A9D08}"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B7AAD0DE-FDAE-4786-B7E5-B4110256E0A8}"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7200" spc="-1" strike="noStrike" cap="all">
                <a:solidFill>
                  <a:srgbClr val="000000"/>
                </a:solidFill>
                <a:latin typeface="Franklin Gothic Medium"/>
              </a:rPr>
              <a:t>الترويج</a:t>
            </a:r>
            <a:endParaRPr b="0" lang="en-US" sz="72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8"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91" name="PlaceHolder 2"/>
          <p:cNvSpPr>
            <a:spLocks noGrp="1"/>
          </p:cNvSpPr>
          <p:nvPr>
            <p:ph/>
          </p:nvPr>
        </p:nvSpPr>
        <p:spPr>
          <a:xfrm>
            <a:off x="0" y="188640"/>
            <a:ext cx="9143640" cy="5688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ماذا يقصد بمفهوم الترويج ؟</a:t>
            </a:r>
            <a:endParaRPr b="1" lang="en-US" sz="6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رويج</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340640"/>
            <a:ext cx="9143640" cy="4536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r>
              <a:rPr b="1" lang="ar-IQ" sz="4000" spc="-1" strike="noStrike">
                <a:solidFill>
                  <a:srgbClr val="000000"/>
                </a:solidFill>
                <a:latin typeface="Franklin Gothic Book"/>
              </a:rPr>
              <a:t>يمثل النظام الاتصالي في المنظمة اذ تتدفق من خلاله المعلومات بين الاطراف ذات المصلحة اذ تحتاج المنظمة الى التعريف بالخدمات المقدمة الحالية والمحتملة وخصائصها وما تتميز به.</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مية الترويج :</a:t>
            </a:r>
            <a:endParaRPr b="0" lang="en-US" sz="4800" spc="-1" strike="noStrike">
              <a:solidFill>
                <a:srgbClr val="000000"/>
              </a:solidFill>
              <a:latin typeface="Franklin Gothic Book"/>
            </a:endParaRPr>
          </a:p>
        </p:txBody>
      </p:sp>
      <p:sp>
        <p:nvSpPr>
          <p:cNvPr id="95" name="PlaceHolder 2"/>
          <p:cNvSpPr>
            <a:spLocks noGrp="1"/>
          </p:cNvSpPr>
          <p:nvPr>
            <p:ph/>
          </p:nvPr>
        </p:nvSpPr>
        <p:spPr>
          <a:xfrm>
            <a:off x="107640" y="1100520"/>
            <a:ext cx="8856720" cy="5757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84264285"/>
              </p:ext>
            </p:extLst>
          </p:nvPr>
        </p:nvGraphicFramePr>
        <p:xfrm>
          <a:off x="395640" y="1268640"/>
          <a:ext cx="8280720" cy="5112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1640" y="1100520"/>
            <a:ext cx="8496720" cy="4776120"/>
          </a:xfrm>
          <a:prstGeom prst="rect">
            <a:avLst/>
          </a:prstGeom>
          <a:gradFill rotWithShape="0">
            <a:gsLst>
              <a:gs pos="0">
                <a:srgbClr val="968263"/>
              </a:gs>
              <a:gs pos="100000">
                <a:srgbClr val="c3a980"/>
              </a:gs>
            </a:gsLst>
            <a:lin ang="16200000"/>
          </a:gradFill>
          <a:ln w="0">
            <a:noFill/>
          </a:ln>
          <a:effectLst>
            <a:outerShdw dist="23040" dir="5400000" blurRad="39960" rotWithShape="0">
              <a:srgbClr val="000000">
                <a:alpha val="35000"/>
              </a:srgbClr>
            </a:outerShdw>
          </a:effectLst>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1</a:t>
            </a:r>
            <a:r>
              <a:rPr b="1" lang="en-US" sz="2800" spc="-1" strike="noStrike">
                <a:solidFill>
                  <a:schemeClr val="lt1"/>
                </a:solidFill>
                <a:latin typeface="Franklin Gothic Book"/>
              </a:rPr>
              <a:t>- التوسع في تقديم المنتجات.</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2</a:t>
            </a:r>
            <a:r>
              <a:rPr b="1" lang="en-US" sz="2800" spc="-1" strike="noStrike">
                <a:solidFill>
                  <a:schemeClr val="lt1"/>
                </a:solidFill>
                <a:latin typeface="Franklin Gothic Book"/>
              </a:rPr>
              <a:t>- تدعيم ما تقدمه المنظمة من منتوجات للمحتفظة على سوقها.</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3</a:t>
            </a:r>
            <a:r>
              <a:rPr b="1" lang="en-US" sz="2800" spc="-1" strike="noStrike">
                <a:solidFill>
                  <a:schemeClr val="lt1"/>
                </a:solidFill>
                <a:latin typeface="Franklin Gothic Book"/>
              </a:rPr>
              <a:t>- التركيز على السوق لايصال ارشادات المنظمة وافكارها المهمة.</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4</a:t>
            </a:r>
            <a:r>
              <a:rPr b="1" lang="en-US" sz="2800" spc="-1" strike="noStrike">
                <a:solidFill>
                  <a:schemeClr val="lt1"/>
                </a:solidFill>
                <a:latin typeface="Franklin Gothic Book"/>
              </a:rPr>
              <a:t>- تصحيح الاخطاء في ادراك المستهلكين عن المنتجات لهم.</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5</a:t>
            </a:r>
            <a:r>
              <a:rPr b="1" lang="en-US" sz="2800" spc="-1" strike="noStrike">
                <a:solidFill>
                  <a:schemeClr val="lt1"/>
                </a:solidFill>
                <a:latin typeface="Franklin Gothic Book"/>
              </a:rPr>
              <a:t>- التمسك بالزبائن الجيدين من خلال بناء علاقات جيدة مع الزبائن.</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6</a:t>
            </a:r>
            <a:r>
              <a:rPr b="1" lang="en-US" sz="2800" spc="-1" strike="noStrike">
                <a:solidFill>
                  <a:schemeClr val="lt1"/>
                </a:solidFill>
                <a:latin typeface="Franklin Gothic Book"/>
              </a:rPr>
              <a:t>- تقليل تقلبات السوق.</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2800" spc="-1" strike="noStrike">
              <a:solidFill>
                <a:srgbClr val="000000"/>
              </a:solidFill>
              <a:latin typeface="Franklin Gothic Book"/>
            </a:endParaRPr>
          </a:p>
        </p:txBody>
      </p:sp>
      <p:sp>
        <p:nvSpPr>
          <p:cNvPr id="97" name="PlaceHolder 2"/>
          <p:cNvSpPr>
            <a:spLocks noGrp="1"/>
          </p:cNvSpPr>
          <p:nvPr>
            <p:ph type="title"/>
          </p:nvPr>
        </p:nvSpPr>
        <p:spPr>
          <a:xfrm>
            <a:off x="251640" y="116640"/>
            <a:ext cx="8568720" cy="93564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ترويج :</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اتصالات التسويقية المتكاملة</a:t>
            </a:r>
            <a:endParaRPr b="0" lang="en-US" sz="4800" spc="-1" strike="noStrike">
              <a:solidFill>
                <a:srgbClr val="000000"/>
              </a:solidFill>
              <a:latin typeface="Franklin Gothic Book"/>
            </a:endParaRPr>
          </a:p>
        </p:txBody>
      </p:sp>
      <p:sp>
        <p:nvSpPr>
          <p:cNvPr id="99" name="PlaceHolder 2"/>
          <p:cNvSpPr>
            <a:spLocks noGrp="1"/>
          </p:cNvSpPr>
          <p:nvPr>
            <p:ph/>
          </p:nvPr>
        </p:nvSpPr>
        <p:spPr>
          <a:xfrm>
            <a:off x="107640" y="908640"/>
            <a:ext cx="8856720" cy="4776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sp>
        <p:nvSpPr>
          <p:cNvPr id="100" name="مستطيل 4"/>
          <p:cNvSpPr/>
          <p:nvPr/>
        </p:nvSpPr>
        <p:spPr>
          <a:xfrm>
            <a:off x="7007400" y="1541520"/>
            <a:ext cx="1511640" cy="1007640"/>
          </a:xfrm>
          <a:prstGeom prst="rect">
            <a:avLst/>
          </a:prstGeom>
          <a:solidFill>
            <a:srgbClr val="08a1d9"/>
          </a:solidFill>
          <a:ln>
            <a:solidFill>
              <a:srgbClr val="0577a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البيع الشخصي</a:t>
            </a:r>
            <a:endParaRPr b="0" lang="en-US" sz="2400" spc="-1" strike="noStrike">
              <a:solidFill>
                <a:srgbClr val="000000"/>
              </a:solidFill>
              <a:latin typeface="Arial"/>
            </a:endParaRPr>
          </a:p>
        </p:txBody>
      </p:sp>
      <p:sp>
        <p:nvSpPr>
          <p:cNvPr id="101" name="مستطيل 5"/>
          <p:cNvSpPr/>
          <p:nvPr/>
        </p:nvSpPr>
        <p:spPr>
          <a:xfrm>
            <a:off x="415800" y="1497960"/>
            <a:ext cx="1511640" cy="1007640"/>
          </a:xfrm>
          <a:prstGeom prst="rect">
            <a:avLst/>
          </a:prstGeom>
          <a:gradFill rotWithShape="0">
            <a:gsLst>
              <a:gs pos="0">
                <a:srgbClr val="c9d5ea"/>
              </a:gs>
              <a:gs pos="100000">
                <a:srgbClr val="e9f0f7"/>
              </a:gs>
            </a:gsLst>
            <a:lin ang="16200000"/>
          </a:gradFill>
          <a:ln>
            <a:solidFill>
              <a:srgbClr val="4c6b92"/>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400" spc="-1" strike="noStrike">
                <a:solidFill>
                  <a:schemeClr val="dk1"/>
                </a:solidFill>
                <a:latin typeface="Franklin Gothic Book"/>
              </a:rPr>
              <a:t>الاعلان</a:t>
            </a:r>
            <a:endParaRPr b="0" lang="en-US" sz="2400" spc="-1" strike="noStrike">
              <a:solidFill>
                <a:srgbClr val="000000"/>
              </a:solidFill>
              <a:latin typeface="Arial"/>
            </a:endParaRPr>
          </a:p>
        </p:txBody>
      </p:sp>
      <p:sp>
        <p:nvSpPr>
          <p:cNvPr id="102" name="مستطيل 6"/>
          <p:cNvSpPr/>
          <p:nvPr/>
        </p:nvSpPr>
        <p:spPr>
          <a:xfrm>
            <a:off x="3780000" y="2462760"/>
            <a:ext cx="1872000" cy="1325880"/>
          </a:xfrm>
          <a:prstGeom prst="rect">
            <a:avLst/>
          </a:prstGeom>
          <a:solidFill>
            <a:srgbClr val="7c984a"/>
          </a:solidFill>
          <a:ln>
            <a:solidFill>
              <a:srgbClr val="5b7036"/>
            </a:solidFill>
            <a:round/>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ثبات، وضوح، تعديل رسائل المنظمة وعلامتها</a:t>
            </a:r>
            <a:endParaRPr b="0" lang="en-US" sz="2400" spc="-1" strike="noStrike">
              <a:solidFill>
                <a:srgbClr val="000000"/>
              </a:solidFill>
              <a:latin typeface="Arial"/>
            </a:endParaRPr>
          </a:p>
        </p:txBody>
      </p:sp>
      <p:sp>
        <p:nvSpPr>
          <p:cNvPr id="103" name="مستطيل 7"/>
          <p:cNvSpPr/>
          <p:nvPr/>
        </p:nvSpPr>
        <p:spPr>
          <a:xfrm>
            <a:off x="7007400" y="3645000"/>
            <a:ext cx="1511640" cy="1007640"/>
          </a:xfrm>
          <a:prstGeom prst="rect">
            <a:avLst/>
          </a:prstGeom>
          <a:solidFill>
            <a:srgbClr val="f96a1b"/>
          </a:solidFill>
          <a:ln>
            <a:solidFill>
              <a:srgbClr val="b84e13"/>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لعلاقات العامة</a:t>
            </a:r>
            <a:endParaRPr b="0" lang="en-US" sz="2400" spc="-1" strike="noStrike">
              <a:solidFill>
                <a:srgbClr val="000000"/>
              </a:solidFill>
              <a:latin typeface="Arial"/>
            </a:endParaRPr>
          </a:p>
        </p:txBody>
      </p:sp>
      <p:sp>
        <p:nvSpPr>
          <p:cNvPr id="104" name="مستطيل 8"/>
          <p:cNvSpPr/>
          <p:nvPr/>
        </p:nvSpPr>
        <p:spPr>
          <a:xfrm>
            <a:off x="3960000" y="4437000"/>
            <a:ext cx="1511640" cy="1007640"/>
          </a:xfrm>
          <a:prstGeom prst="rect">
            <a:avLst/>
          </a:prstGeom>
          <a:solidFill>
            <a:srgbClr val="506e94"/>
          </a:solidFill>
          <a:ln>
            <a:solidFill>
              <a:srgbClr val="3b516d"/>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التسويق المباشر</a:t>
            </a:r>
            <a:endParaRPr b="0" lang="en-US" sz="2400" spc="-1" strike="noStrike">
              <a:solidFill>
                <a:srgbClr val="000000"/>
              </a:solidFill>
              <a:latin typeface="Arial"/>
            </a:endParaRPr>
          </a:p>
        </p:txBody>
      </p:sp>
      <p:sp>
        <p:nvSpPr>
          <p:cNvPr id="105" name="مستطيل 9"/>
          <p:cNvSpPr/>
          <p:nvPr/>
        </p:nvSpPr>
        <p:spPr>
          <a:xfrm>
            <a:off x="392760" y="3645000"/>
            <a:ext cx="1511640" cy="1007640"/>
          </a:xfrm>
          <a:prstGeom prst="rect">
            <a:avLst/>
          </a:prstGeom>
          <a:gradFill rotWithShape="0">
            <a:gsLst>
              <a:gs pos="0">
                <a:srgbClr val="ffd5cd"/>
              </a:gs>
              <a:gs pos="100000">
                <a:srgbClr val="ffefec"/>
              </a:gs>
            </a:gsLst>
            <a:lin ang="16200000"/>
          </a:gradFill>
          <a:ln>
            <a:solidFill>
              <a:srgbClr val="f86515"/>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rtl="1">
              <a:lnSpc>
                <a:spcPct val="100000"/>
              </a:lnSpc>
            </a:pPr>
            <a:r>
              <a:rPr b="1" lang="ar-IQ" sz="2400" spc="-1" strike="noStrike">
                <a:solidFill>
                  <a:schemeClr val="dk1"/>
                </a:solidFill>
                <a:latin typeface="Franklin Gothic Book"/>
              </a:rPr>
              <a:t>ترويج المبيعات</a:t>
            </a:r>
            <a:endParaRPr b="0" lang="en-US" sz="2400" spc="-1" strike="noStrike">
              <a:solidFill>
                <a:srgbClr val="000000"/>
              </a:solidFill>
              <a:latin typeface="Arial"/>
            </a:endParaRPr>
          </a:p>
        </p:txBody>
      </p:sp>
      <p:cxnSp>
        <p:nvCxnSpPr>
          <p:cNvPr id="106" name="رابط كسهم مستقيم 11"/>
          <p:cNvCxnSpPr/>
          <p:nvPr/>
        </p:nvCxnSpPr>
        <p:spPr>
          <a:xfrm flipH="1" flipV="1">
            <a:off x="1904760" y="1958400"/>
            <a:ext cx="5115600" cy="87480"/>
          </a:xfrm>
          <a:prstGeom prst="straightConnector1">
            <a:avLst/>
          </a:prstGeom>
          <a:ln>
            <a:solidFill>
              <a:srgbClr val="76787b"/>
            </a:solidFill>
            <a:round/>
            <a:headEnd len="med" type="arrow" w="med"/>
            <a:tailEnd len="med" type="arrow" w="med"/>
          </a:ln>
        </p:spPr>
      </p:cxnSp>
      <p:cxnSp>
        <p:nvCxnSpPr>
          <p:cNvPr id="107" name="رابط كسهم مستقيم 15"/>
          <p:cNvCxnSpPr>
            <a:stCxn id="100" idx="2"/>
          </p:cNvCxnSpPr>
          <p:nvPr/>
        </p:nvCxnSpPr>
        <p:spPr>
          <a:xfrm>
            <a:off x="7763040" y="2549520"/>
            <a:ext cx="360" cy="1008720"/>
          </a:xfrm>
          <a:prstGeom prst="straightConnector1">
            <a:avLst/>
          </a:prstGeom>
          <a:ln>
            <a:solidFill>
              <a:srgbClr val="76787b"/>
            </a:solidFill>
            <a:round/>
            <a:headEnd len="med" type="arrow" w="med"/>
            <a:tailEnd len="med" type="arrow" w="med"/>
          </a:ln>
        </p:spPr>
      </p:cxnSp>
      <p:cxnSp>
        <p:nvCxnSpPr>
          <p:cNvPr id="108" name="رابط كسهم مستقيم 17"/>
          <p:cNvCxnSpPr>
            <a:endCxn id="104" idx="3"/>
          </p:cNvCxnSpPr>
          <p:nvPr/>
        </p:nvCxnSpPr>
        <p:spPr>
          <a:xfrm flipH="1">
            <a:off x="5472000" y="4437000"/>
            <a:ext cx="1535400" cy="504360"/>
          </a:xfrm>
          <a:prstGeom prst="straightConnector1">
            <a:avLst/>
          </a:prstGeom>
          <a:ln>
            <a:solidFill>
              <a:srgbClr val="76787b"/>
            </a:solidFill>
            <a:round/>
            <a:headEnd len="med" type="arrow" w="med"/>
            <a:tailEnd len="med" type="arrow" w="med"/>
          </a:ln>
        </p:spPr>
      </p:cxnSp>
      <p:cxnSp>
        <p:nvCxnSpPr>
          <p:cNvPr id="109" name="رابط كسهم مستقيم 20"/>
          <p:cNvCxnSpPr>
            <a:stCxn id="104" idx="1"/>
          </p:cNvCxnSpPr>
          <p:nvPr/>
        </p:nvCxnSpPr>
        <p:spPr>
          <a:xfrm flipH="1" flipV="1">
            <a:off x="1904760" y="4149000"/>
            <a:ext cx="2055240" cy="792360"/>
          </a:xfrm>
          <a:prstGeom prst="straightConnector1">
            <a:avLst/>
          </a:prstGeom>
          <a:ln>
            <a:solidFill>
              <a:srgbClr val="76787b"/>
            </a:solidFill>
            <a:round/>
            <a:headEnd len="med" type="arrow" w="med"/>
            <a:tailEnd len="med" type="arrow" w="med"/>
          </a:ln>
        </p:spPr>
      </p:cxnSp>
      <p:cxnSp>
        <p:nvCxnSpPr>
          <p:cNvPr id="110" name="رابط كسهم مستقيم 23"/>
          <p:cNvCxnSpPr>
            <a:stCxn id="101" idx="2"/>
          </p:cNvCxnSpPr>
          <p:nvPr/>
        </p:nvCxnSpPr>
        <p:spPr>
          <a:xfrm>
            <a:off x="1171800" y="2505960"/>
            <a:ext cx="360" cy="1182960"/>
          </a:xfrm>
          <a:prstGeom prst="straightConnector1">
            <a:avLst/>
          </a:prstGeom>
          <a:ln>
            <a:solidFill>
              <a:srgbClr val="76787b"/>
            </a:solidFill>
            <a:round/>
            <a:headEnd len="med" type="arrow" w="med"/>
            <a:tailEnd len="med" type="arrow" w="med"/>
          </a:ln>
        </p:spPr>
      </p:cxn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12"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مزيج التسويقي</a:t>
            </a:r>
            <a:endParaRPr b="0" lang="en-US" sz="48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572998828"/>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78000"/>
          </a:bodyPr>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1</a:t>
            </a:r>
            <a:r>
              <a:rPr b="0" lang="en-US" sz="3600" spc="-1" strike="noStrike">
                <a:solidFill>
                  <a:srgbClr val="000000"/>
                </a:solidFill>
                <a:latin typeface="Franklin Gothic Book"/>
              </a:rPr>
              <a:t>- انه وسيلة غير شخصية تتم بين المعلن والجمهور المعلن اليه ويختلف باختلاف السلع والخدمات المعلن عنها.</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2</a:t>
            </a:r>
            <a:r>
              <a:rPr b="0" lang="en-US" sz="3600" spc="-1" strike="noStrike">
                <a:solidFill>
                  <a:srgbClr val="000000"/>
                </a:solidFill>
                <a:latin typeface="Franklin Gothic Book"/>
              </a:rPr>
              <a:t>- ان المعلن يهدف الى احداث تأثيرا والاقناع الايجابي لحث الزبون على اقتناء سلعته او خدماته المعلن.</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3</a:t>
            </a:r>
            <a:r>
              <a:rPr b="0" lang="en-US" sz="3600" spc="-1" strike="noStrike">
                <a:solidFill>
                  <a:srgbClr val="000000"/>
                </a:solidFill>
                <a:latin typeface="Franklin Gothic Book"/>
              </a:rPr>
              <a:t>- ان تحقيق المعلن لاهدافه المرجوة يعتمد على مجموعة من الاعتبارات ويأتي على راسها الوسيلة الاعلانية المختارة الاذاعة او نشر الرسالة الاعلانية من خلالها، وان اختيار احداهما بشكل خاطىء سيؤدي الى ردود فعل شخصي.</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14"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صفات المميزة للاعلان:</a:t>
            </a:r>
            <a:endParaRPr b="0" lang="en-US" sz="4800" spc="-1" strike="noStrike">
              <a:solidFill>
                <a:srgbClr val="000000"/>
              </a:solidFill>
              <a:latin typeface="Franklin Gothic Book"/>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6"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980505880"/>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27</TotalTime>
  <Application>LibreOffice/7.4.7.2$Linux_X86_64 LibreOffice_project/40$Build-2</Application>
  <AppVersion>15.0000</AppVersion>
  <Words>284</Words>
  <Paragraphs>67</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6T20:16:46Z</dcterms:modified>
  <cp:revision>55</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