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E6BE3E0-91C6-46BC-B7F1-A7AE6954B187}" type="doc">
      <dgm:prSet loTypeId="urn:microsoft.com/office/officeart/2005/8/layout/b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4BEEE09B-36FE-4289-8495-7098E5094CC9}">
      <dgm:prSet phldrT="[نص]">
        <dgm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فهم حاجات ورغبات الزبائن والسوق</a:t>
          </a:r>
          <a:endParaRPr lang="ar-IQ" dirty="0"/>
        </a:p>
      </dgm:t>
    </dgm:pt>
    <dgm:pt modelId="{F424DC51-3648-4839-B886-B0F36C4CD0F7}" type="parTrans" cxnId="{26BEB164-2E4B-48D0-98D8-04F1167D5D9C}">
      <dgm:prSet/>
      <dgm:spPr/>
      <dgm:t>
        <a:bodyPr/>
        <a:lstStyle/>
        <a:p>
          <a:pPr rtl="1"/>
          <a:endParaRPr lang="ar-IQ"/>
        </a:p>
      </dgm:t>
    </dgm:pt>
    <dgm:pt modelId="{23B67C6A-2427-4C7C-A06B-65F47AB66346}" type="sibTrans" cxnId="{26BEB164-2E4B-48D0-98D8-04F1167D5D9C}">
      <dgm:prSet/>
      <dgm:spPr/>
      <dgm:t>
        <a:bodyPr/>
        <a:lstStyle/>
        <a:p>
          <a:pPr rtl="1"/>
          <a:endParaRPr lang="ar-IQ"/>
        </a:p>
      </dgm:t>
    </dgm:pt>
    <dgm:pt modelId="{F2D28C11-9AC7-4C89-8C30-828D786F4FD2}">
      <dgm:prSet phldrT="[نص]">
        <dgm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تصميم استراتيجية تسويقية مستندة الى الزبون</a:t>
          </a:r>
          <a:endParaRPr lang="ar-IQ" dirty="0"/>
        </a:p>
      </dgm:t>
    </dgm:pt>
    <dgm:pt modelId="{DDA0426B-9358-4259-B92B-C509E5D2FCE9}" type="parTrans" cxnId="{51FD6105-E2A5-4E6B-83AF-2D41924090EF}">
      <dgm:prSet/>
      <dgm:spPr/>
      <dgm:t>
        <a:bodyPr/>
        <a:lstStyle/>
        <a:p>
          <a:pPr rtl="1"/>
          <a:endParaRPr lang="ar-IQ"/>
        </a:p>
      </dgm:t>
    </dgm:pt>
    <dgm:pt modelId="{C3637EF8-F4E7-4684-8628-C41DF21AEAB4}" type="sibTrans" cxnId="{51FD6105-E2A5-4E6B-83AF-2D41924090EF}">
      <dgm:prSet/>
      <dgm:spPr/>
      <dgm:t>
        <a:bodyPr/>
        <a:lstStyle/>
        <a:p>
          <a:pPr rtl="1"/>
          <a:endParaRPr lang="ar-IQ"/>
        </a:p>
      </dgm:t>
    </dgm:pt>
    <dgm:pt modelId="{955B8E1E-32DD-44C5-AF5B-ED4C640D8FB1}">
      <dgm:prSet phldrT="[نص]">
        <dgm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بناء برنامج تسويقي متكامل يعطي قيمة فائقة</a:t>
          </a:r>
          <a:endParaRPr lang="ar-IQ" dirty="0"/>
        </a:p>
      </dgm:t>
    </dgm:pt>
    <dgm:pt modelId="{31296235-3E0B-44E7-8396-3E5F98BF0C26}" type="parTrans" cxnId="{2A1A1630-5F4A-436A-9EB7-6E0CA5C3C2DD}">
      <dgm:prSet/>
      <dgm:spPr/>
      <dgm:t>
        <a:bodyPr/>
        <a:lstStyle/>
        <a:p>
          <a:pPr rtl="1"/>
          <a:endParaRPr lang="ar-IQ"/>
        </a:p>
      </dgm:t>
    </dgm:pt>
    <dgm:pt modelId="{2F63B376-BDD0-4A16-9B9F-484C5DB57F71}" type="sibTrans" cxnId="{2A1A1630-5F4A-436A-9EB7-6E0CA5C3C2DD}">
      <dgm:prSet/>
      <dgm:spPr/>
      <dgm:t>
        <a:bodyPr/>
        <a:lstStyle/>
        <a:p>
          <a:pPr rtl="1"/>
          <a:endParaRPr lang="ar-IQ"/>
        </a:p>
      </dgm:t>
    </dgm:pt>
    <dgm:pt modelId="{A2F26D3F-730D-4D49-9C93-50401101FE5A}">
      <dgm:prSet phldrT="[نص]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بناء علاقات مربحة وخلق راحة للزبون</a:t>
          </a:r>
          <a:endParaRPr lang="ar-IQ" dirty="0"/>
        </a:p>
      </dgm:t>
    </dgm:pt>
    <dgm:pt modelId="{F3FE6C0F-A381-4099-9338-73EF00047DB8}" type="parTrans" cxnId="{0BC3ED29-08AA-446B-9FC2-C75AE76F919D}">
      <dgm:prSet/>
      <dgm:spPr/>
      <dgm:t>
        <a:bodyPr/>
        <a:lstStyle/>
        <a:p>
          <a:pPr rtl="1"/>
          <a:endParaRPr lang="ar-IQ"/>
        </a:p>
      </dgm:t>
    </dgm:pt>
    <dgm:pt modelId="{A0E52E08-0B6B-48D2-818E-5B11E026D163}" type="sibTrans" cxnId="{0BC3ED29-08AA-446B-9FC2-C75AE76F919D}">
      <dgm:prSet/>
      <dgm:spPr/>
      <dgm:t>
        <a:bodyPr/>
        <a:lstStyle/>
        <a:p>
          <a:pPr rtl="1"/>
          <a:endParaRPr lang="ar-IQ"/>
        </a:p>
      </dgm:t>
    </dgm:pt>
    <dgm:pt modelId="{55626AA2-41A3-4637-8187-B5D1CDD32BBC}">
      <dgm:prSet phldrT="[نص]">
        <dgm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الحصول على قيمة من الزبون من اجل خلق الارباح</a:t>
          </a:r>
          <a:endParaRPr lang="ar-IQ" dirty="0"/>
        </a:p>
      </dgm:t>
    </dgm:pt>
    <dgm:pt modelId="{7F01D785-3FA8-4816-A9E4-03B087D467A4}" type="parTrans" cxnId="{9262172E-B3A7-42FA-AD2D-57DA46E87478}">
      <dgm:prSet/>
      <dgm:spPr/>
      <dgm:t>
        <a:bodyPr/>
        <a:lstStyle/>
        <a:p>
          <a:pPr rtl="1"/>
          <a:endParaRPr lang="ar-IQ"/>
        </a:p>
      </dgm:t>
    </dgm:pt>
    <dgm:pt modelId="{09BFE028-5940-436D-B693-0A8415293513}" type="sibTrans" cxnId="{9262172E-B3A7-42FA-AD2D-57DA46E87478}">
      <dgm:prSet/>
      <dgm:spPr/>
      <dgm:t>
        <a:bodyPr/>
        <a:lstStyle/>
        <a:p>
          <a:pPr rtl="1"/>
          <a:endParaRPr lang="ar-IQ"/>
        </a:p>
      </dgm:t>
    </dgm:pt>
    <dgm:pt modelId="{98BD6C70-0F9F-43FD-A72F-31AF148DD6F2}" type="pres">
      <dgm:prSet presAssocID="{CE6BE3E0-91C6-46BC-B7F1-A7AE6954B187}" presName="Name0" presStyleCnt="0">
        <dgm:presLayoutVars>
          <dgm:dir/>
          <dgm:resizeHandles val="exact"/>
        </dgm:presLayoutVars>
      </dgm:prSet>
      <dgm:spPr/>
    </dgm:pt>
    <dgm:pt modelId="{DAB4F74F-842C-4966-8B9C-F931107BEEBD}" type="pres">
      <dgm:prSet presAssocID="{4BEEE09B-36FE-4289-8495-7098E5094CC9}" presName="node" presStyleLbl="node1" presStyleIdx="0" presStyleCnt="5">
        <dgm:presLayoutVars>
          <dgm:bulletEnabled val="1"/>
        </dgm:presLayoutVars>
      </dgm:prSet>
      <dgm:spPr/>
    </dgm:pt>
    <dgm:pt modelId="{4B70ADD2-1F9E-4FFD-86E4-6B05AA4C4FE3}" type="pres">
      <dgm:prSet presAssocID="{23B67C6A-2427-4C7C-A06B-65F47AB66346}" presName="sibTrans" presStyleLbl="sibTrans1D1" presStyleIdx="0" presStyleCnt="4"/>
      <dgm:spPr/>
    </dgm:pt>
    <dgm:pt modelId="{6CB91E3B-8CD3-4F60-8431-DB53C7FFE99D}" type="pres">
      <dgm:prSet presAssocID="{23B67C6A-2427-4C7C-A06B-65F47AB66346}" presName="connectorText" presStyleLbl="sibTrans1D1" presStyleIdx="0" presStyleCnt="4"/>
      <dgm:spPr/>
    </dgm:pt>
    <dgm:pt modelId="{808709DF-EFCF-44E6-BCDC-BE45FA671334}" type="pres">
      <dgm:prSet presAssocID="{F2D28C11-9AC7-4C89-8C30-828D786F4FD2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F563984F-3071-491D-B786-D3B9C7CD51F7}" type="pres">
      <dgm:prSet presAssocID="{C3637EF8-F4E7-4684-8628-C41DF21AEAB4}" presName="sibTrans" presStyleLbl="sibTrans1D1" presStyleIdx="1" presStyleCnt="4"/>
      <dgm:spPr/>
    </dgm:pt>
    <dgm:pt modelId="{770EF45F-78B8-4AEE-806E-AB6C7069CDA6}" type="pres">
      <dgm:prSet presAssocID="{C3637EF8-F4E7-4684-8628-C41DF21AEAB4}" presName="connectorText" presStyleLbl="sibTrans1D1" presStyleIdx="1" presStyleCnt="4"/>
      <dgm:spPr/>
    </dgm:pt>
    <dgm:pt modelId="{BCDCA5D8-3C04-4341-B5BE-2FBEFCA38A96}" type="pres">
      <dgm:prSet presAssocID="{955B8E1E-32DD-44C5-AF5B-ED4C640D8FB1}" presName="node" presStyleLbl="node1" presStyleIdx="2" presStyleCnt="5">
        <dgm:presLayoutVars>
          <dgm:bulletEnabled val="1"/>
        </dgm:presLayoutVars>
      </dgm:prSet>
      <dgm:spPr/>
    </dgm:pt>
    <dgm:pt modelId="{A4325A0F-0A6F-42A7-8B6A-02C4082F83E9}" type="pres">
      <dgm:prSet presAssocID="{2F63B376-BDD0-4A16-9B9F-484C5DB57F71}" presName="sibTrans" presStyleLbl="sibTrans1D1" presStyleIdx="2" presStyleCnt="4"/>
      <dgm:spPr/>
    </dgm:pt>
    <dgm:pt modelId="{18C3336B-114A-47D1-80F9-9A05AAE7FBD9}" type="pres">
      <dgm:prSet presAssocID="{2F63B376-BDD0-4A16-9B9F-484C5DB57F71}" presName="connectorText" presStyleLbl="sibTrans1D1" presStyleIdx="2" presStyleCnt="4"/>
      <dgm:spPr/>
    </dgm:pt>
    <dgm:pt modelId="{559E760A-CDD6-4C7A-9CCB-2D28C445B64B}" type="pres">
      <dgm:prSet presAssocID="{A2F26D3F-730D-4D49-9C93-50401101FE5A}" presName="node" presStyleLbl="node1" presStyleIdx="3" presStyleCnt="5">
        <dgm:presLayoutVars>
          <dgm:bulletEnabled val="1"/>
        </dgm:presLayoutVars>
      </dgm:prSet>
      <dgm:spPr/>
    </dgm:pt>
    <dgm:pt modelId="{8C1B676B-D194-4D3D-A85B-B75BCAA1C501}" type="pres">
      <dgm:prSet presAssocID="{A0E52E08-0B6B-48D2-818E-5B11E026D163}" presName="sibTrans" presStyleLbl="sibTrans1D1" presStyleIdx="3" presStyleCnt="4"/>
      <dgm:spPr/>
    </dgm:pt>
    <dgm:pt modelId="{C1ACEC78-249E-4683-AF5A-FC898971B59A}" type="pres">
      <dgm:prSet presAssocID="{A0E52E08-0B6B-48D2-818E-5B11E026D163}" presName="connectorText" presStyleLbl="sibTrans1D1" presStyleIdx="3" presStyleCnt="4"/>
      <dgm:spPr/>
    </dgm:pt>
    <dgm:pt modelId="{5D6BABF9-16AD-4C89-A631-5BA10EE82633}" type="pres">
      <dgm:prSet presAssocID="{55626AA2-41A3-4637-8187-B5D1CDD32BBC}" presName="node" presStyleLbl="node1" presStyleIdx="4" presStyleCnt="5">
        <dgm:presLayoutVars>
          <dgm:bulletEnabled val="1"/>
        </dgm:presLayoutVars>
      </dgm:prSet>
      <dgm:spPr/>
    </dgm:pt>
  </dgm:ptLst>
  <dgm:cxnLst>
    <dgm:cxn modelId="{0BC3ED29-08AA-446B-9FC2-C75AE76F919D}" srcId="{CE6BE3E0-91C6-46BC-B7F1-A7AE6954B187}" destId="{A2F26D3F-730D-4D49-9C93-50401101FE5A}" srcOrd="3" destOrd="0" parTransId="{F3FE6C0F-A381-4099-9338-73EF00047DB8}" sibTransId="{A0E52E08-0B6B-48D2-818E-5B11E026D163}"/>
    <dgm:cxn modelId="{51FD6105-E2A5-4E6B-83AF-2D41924090EF}" srcId="{CE6BE3E0-91C6-46BC-B7F1-A7AE6954B187}" destId="{F2D28C11-9AC7-4C89-8C30-828D786F4FD2}" srcOrd="1" destOrd="0" parTransId="{DDA0426B-9358-4259-B92B-C509E5D2FCE9}" sibTransId="{C3637EF8-F4E7-4684-8628-C41DF21AEAB4}"/>
    <dgm:cxn modelId="{9BC060C5-5BD2-493C-A073-6597CD9BF050}" type="presOf" srcId="{A0E52E08-0B6B-48D2-818E-5B11E026D163}" destId="{8C1B676B-D194-4D3D-A85B-B75BCAA1C501}" srcOrd="0" destOrd="0" presId="urn:microsoft.com/office/officeart/2005/8/layout/bProcess3"/>
    <dgm:cxn modelId="{AE791E73-F0DF-413B-8C85-FE24E4D63109}" type="presOf" srcId="{23B67C6A-2427-4C7C-A06B-65F47AB66346}" destId="{6CB91E3B-8CD3-4F60-8431-DB53C7FFE99D}" srcOrd="1" destOrd="0" presId="urn:microsoft.com/office/officeart/2005/8/layout/bProcess3"/>
    <dgm:cxn modelId="{6B933AB0-83D1-494F-8824-45FBD0043144}" type="presOf" srcId="{955B8E1E-32DD-44C5-AF5B-ED4C640D8FB1}" destId="{BCDCA5D8-3C04-4341-B5BE-2FBEFCA38A96}" srcOrd="0" destOrd="0" presId="urn:microsoft.com/office/officeart/2005/8/layout/bProcess3"/>
    <dgm:cxn modelId="{838199F4-25B9-4863-BE4A-4AC6FBE0571F}" type="presOf" srcId="{55626AA2-41A3-4637-8187-B5D1CDD32BBC}" destId="{5D6BABF9-16AD-4C89-A631-5BA10EE82633}" srcOrd="0" destOrd="0" presId="urn:microsoft.com/office/officeart/2005/8/layout/bProcess3"/>
    <dgm:cxn modelId="{A1ED2D8C-07E4-42BD-A599-501CCB06C262}" type="presOf" srcId="{2F63B376-BDD0-4A16-9B9F-484C5DB57F71}" destId="{A4325A0F-0A6F-42A7-8B6A-02C4082F83E9}" srcOrd="0" destOrd="0" presId="urn:microsoft.com/office/officeart/2005/8/layout/bProcess3"/>
    <dgm:cxn modelId="{8402A564-DD43-46DB-A6FE-80E11090E5D0}" type="presOf" srcId="{A2F26D3F-730D-4D49-9C93-50401101FE5A}" destId="{559E760A-CDD6-4C7A-9CCB-2D28C445B64B}" srcOrd="0" destOrd="0" presId="urn:microsoft.com/office/officeart/2005/8/layout/bProcess3"/>
    <dgm:cxn modelId="{60A6D371-6E9F-4CA5-80B3-D5E4B1077090}" type="presOf" srcId="{23B67C6A-2427-4C7C-A06B-65F47AB66346}" destId="{4B70ADD2-1F9E-4FFD-86E4-6B05AA4C4FE3}" srcOrd="0" destOrd="0" presId="urn:microsoft.com/office/officeart/2005/8/layout/bProcess3"/>
    <dgm:cxn modelId="{B95F77A0-B0FF-43F8-B062-DD886720B1BA}" type="presOf" srcId="{C3637EF8-F4E7-4684-8628-C41DF21AEAB4}" destId="{770EF45F-78B8-4AEE-806E-AB6C7069CDA6}" srcOrd="1" destOrd="0" presId="urn:microsoft.com/office/officeart/2005/8/layout/bProcess3"/>
    <dgm:cxn modelId="{918A36B7-350A-4704-9687-25C001D4B6D8}" type="presOf" srcId="{C3637EF8-F4E7-4684-8628-C41DF21AEAB4}" destId="{F563984F-3071-491D-B786-D3B9C7CD51F7}" srcOrd="0" destOrd="0" presId="urn:microsoft.com/office/officeart/2005/8/layout/bProcess3"/>
    <dgm:cxn modelId="{A00E89C0-620A-4A36-AC01-9774DE583B1B}" type="presOf" srcId="{2F63B376-BDD0-4A16-9B9F-484C5DB57F71}" destId="{18C3336B-114A-47D1-80F9-9A05AAE7FBD9}" srcOrd="1" destOrd="0" presId="urn:microsoft.com/office/officeart/2005/8/layout/bProcess3"/>
    <dgm:cxn modelId="{2A1A1630-5F4A-436A-9EB7-6E0CA5C3C2DD}" srcId="{CE6BE3E0-91C6-46BC-B7F1-A7AE6954B187}" destId="{955B8E1E-32DD-44C5-AF5B-ED4C640D8FB1}" srcOrd="2" destOrd="0" parTransId="{31296235-3E0B-44E7-8396-3E5F98BF0C26}" sibTransId="{2F63B376-BDD0-4A16-9B9F-484C5DB57F71}"/>
    <dgm:cxn modelId="{26BEB164-2E4B-48D0-98D8-04F1167D5D9C}" srcId="{CE6BE3E0-91C6-46BC-B7F1-A7AE6954B187}" destId="{4BEEE09B-36FE-4289-8495-7098E5094CC9}" srcOrd="0" destOrd="0" parTransId="{F424DC51-3648-4839-B886-B0F36C4CD0F7}" sibTransId="{23B67C6A-2427-4C7C-A06B-65F47AB66346}"/>
    <dgm:cxn modelId="{2CEB4711-1CD5-4AD3-B6FD-9F96676B63F4}" type="presOf" srcId="{F2D28C11-9AC7-4C89-8C30-828D786F4FD2}" destId="{808709DF-EFCF-44E6-BCDC-BE45FA671334}" srcOrd="0" destOrd="0" presId="urn:microsoft.com/office/officeart/2005/8/layout/bProcess3"/>
    <dgm:cxn modelId="{00B47367-9476-4FCB-B526-002C9A5E3AE6}" type="presOf" srcId="{4BEEE09B-36FE-4289-8495-7098E5094CC9}" destId="{DAB4F74F-842C-4966-8B9C-F931107BEEBD}" srcOrd="0" destOrd="0" presId="urn:microsoft.com/office/officeart/2005/8/layout/bProcess3"/>
    <dgm:cxn modelId="{0619B65A-389E-4ED1-8967-FF73BA54D3C2}" type="presOf" srcId="{CE6BE3E0-91C6-46BC-B7F1-A7AE6954B187}" destId="{98BD6C70-0F9F-43FD-A72F-31AF148DD6F2}" srcOrd="0" destOrd="0" presId="urn:microsoft.com/office/officeart/2005/8/layout/bProcess3"/>
    <dgm:cxn modelId="{872A784A-F0DB-4DC0-AB1C-B0E604C6612D}" type="presOf" srcId="{A0E52E08-0B6B-48D2-818E-5B11E026D163}" destId="{C1ACEC78-249E-4683-AF5A-FC898971B59A}" srcOrd="1" destOrd="0" presId="urn:microsoft.com/office/officeart/2005/8/layout/bProcess3"/>
    <dgm:cxn modelId="{9262172E-B3A7-42FA-AD2D-57DA46E87478}" srcId="{CE6BE3E0-91C6-46BC-B7F1-A7AE6954B187}" destId="{55626AA2-41A3-4637-8187-B5D1CDD32BBC}" srcOrd="4" destOrd="0" parTransId="{7F01D785-3FA8-4816-A9E4-03B087D467A4}" sibTransId="{09BFE028-5940-436D-B693-0A8415293513}"/>
    <dgm:cxn modelId="{794AA42D-8CF8-4E42-90EF-6C142BE756C5}" type="presParOf" srcId="{98BD6C70-0F9F-43FD-A72F-31AF148DD6F2}" destId="{DAB4F74F-842C-4966-8B9C-F931107BEEBD}" srcOrd="0" destOrd="0" presId="urn:microsoft.com/office/officeart/2005/8/layout/bProcess3"/>
    <dgm:cxn modelId="{F380378D-1E13-4519-8A84-28CA60082DC5}" type="presParOf" srcId="{98BD6C70-0F9F-43FD-A72F-31AF148DD6F2}" destId="{4B70ADD2-1F9E-4FFD-86E4-6B05AA4C4FE3}" srcOrd="1" destOrd="0" presId="urn:microsoft.com/office/officeart/2005/8/layout/bProcess3"/>
    <dgm:cxn modelId="{5B5714B9-49C0-49B5-8594-376B4803EDE1}" type="presParOf" srcId="{4B70ADD2-1F9E-4FFD-86E4-6B05AA4C4FE3}" destId="{6CB91E3B-8CD3-4F60-8431-DB53C7FFE99D}" srcOrd="0" destOrd="0" presId="urn:microsoft.com/office/officeart/2005/8/layout/bProcess3"/>
    <dgm:cxn modelId="{05A56058-D88F-4D28-B6B9-EBC25B01359C}" type="presParOf" srcId="{98BD6C70-0F9F-43FD-A72F-31AF148DD6F2}" destId="{808709DF-EFCF-44E6-BCDC-BE45FA671334}" srcOrd="2" destOrd="0" presId="urn:microsoft.com/office/officeart/2005/8/layout/bProcess3"/>
    <dgm:cxn modelId="{14C966CC-34D4-422B-9704-82A32DAB4616}" type="presParOf" srcId="{98BD6C70-0F9F-43FD-A72F-31AF148DD6F2}" destId="{F563984F-3071-491D-B786-D3B9C7CD51F7}" srcOrd="3" destOrd="0" presId="urn:microsoft.com/office/officeart/2005/8/layout/bProcess3"/>
    <dgm:cxn modelId="{C0D51A3D-3EF9-49AA-B61F-23573806CAC0}" type="presParOf" srcId="{F563984F-3071-491D-B786-D3B9C7CD51F7}" destId="{770EF45F-78B8-4AEE-806E-AB6C7069CDA6}" srcOrd="0" destOrd="0" presId="urn:microsoft.com/office/officeart/2005/8/layout/bProcess3"/>
    <dgm:cxn modelId="{ECFDF716-6F1E-49A9-A278-A6F9A152563B}" type="presParOf" srcId="{98BD6C70-0F9F-43FD-A72F-31AF148DD6F2}" destId="{BCDCA5D8-3C04-4341-B5BE-2FBEFCA38A96}" srcOrd="4" destOrd="0" presId="urn:microsoft.com/office/officeart/2005/8/layout/bProcess3"/>
    <dgm:cxn modelId="{C7B626AA-D08C-4FFF-A96F-73DCF2A89470}" type="presParOf" srcId="{98BD6C70-0F9F-43FD-A72F-31AF148DD6F2}" destId="{A4325A0F-0A6F-42A7-8B6A-02C4082F83E9}" srcOrd="5" destOrd="0" presId="urn:microsoft.com/office/officeart/2005/8/layout/bProcess3"/>
    <dgm:cxn modelId="{1D137277-19E5-4FEB-A56C-896A7DFB6611}" type="presParOf" srcId="{A4325A0F-0A6F-42A7-8B6A-02C4082F83E9}" destId="{18C3336B-114A-47D1-80F9-9A05AAE7FBD9}" srcOrd="0" destOrd="0" presId="urn:microsoft.com/office/officeart/2005/8/layout/bProcess3"/>
    <dgm:cxn modelId="{0191E8E5-12C4-4BE0-AD9C-586D20BF1D6D}" type="presParOf" srcId="{98BD6C70-0F9F-43FD-A72F-31AF148DD6F2}" destId="{559E760A-CDD6-4C7A-9CCB-2D28C445B64B}" srcOrd="6" destOrd="0" presId="urn:microsoft.com/office/officeart/2005/8/layout/bProcess3"/>
    <dgm:cxn modelId="{A0DD93E4-3389-457E-AC9F-9B21C783D62E}" type="presParOf" srcId="{98BD6C70-0F9F-43FD-A72F-31AF148DD6F2}" destId="{8C1B676B-D194-4D3D-A85B-B75BCAA1C501}" srcOrd="7" destOrd="0" presId="urn:microsoft.com/office/officeart/2005/8/layout/bProcess3"/>
    <dgm:cxn modelId="{D75E7F7F-5D12-4346-9D94-37D6AB6D64DC}" type="presParOf" srcId="{8C1B676B-D194-4D3D-A85B-B75BCAA1C501}" destId="{C1ACEC78-249E-4683-AF5A-FC898971B59A}" srcOrd="0" destOrd="0" presId="urn:microsoft.com/office/officeart/2005/8/layout/bProcess3"/>
    <dgm:cxn modelId="{8B5B5823-1043-4C9B-AE43-FA763E5DD2D5}" type="presParOf" srcId="{98BD6C70-0F9F-43FD-A72F-31AF148DD6F2}" destId="{5D6BABF9-16AD-4C89-A631-5BA10EE82633}" srcOrd="8" destOrd="0" presId="urn:microsoft.com/office/officeart/2005/8/layout/bProcess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2FC9657-6BD3-4D69-88D8-6FC127E2848B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63240922-26DE-4CE9-92DF-8B75C8C217AE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بحث عن الربح</a:t>
          </a:r>
          <a:endParaRPr lang="ar-IQ" dirty="0"/>
        </a:p>
      </dgm:t>
    </dgm:pt>
    <dgm:pt modelId="{A85530AC-A0DC-442E-AAEE-B1A36D1964E0}" type="par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4700A37C-D92B-4D78-ABD1-0C0EABF9D998}" type="sib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8F452978-8492-42C3-822C-F7C97B8092FA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صور الوظيفي</a:t>
          </a:r>
          <a:endParaRPr lang="ar-IQ" dirty="0"/>
        </a:p>
      </dgm:t>
    </dgm:pt>
    <dgm:pt modelId="{B6FA4A59-3DA4-4535-82DB-3E02B5A61B19}" type="par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2530E29-A5AA-4248-BAA9-B78A2AF570E1}" type="sib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CE6B05E-46B9-4C2E-A853-0B5A7C874703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مجال التركيز</a:t>
          </a:r>
          <a:endParaRPr lang="ar-IQ" dirty="0"/>
        </a:p>
      </dgm:t>
    </dgm:pt>
    <dgm:pt modelId="{ADDE2578-5F8D-44E1-AAD4-B0C087B89CC7}" type="par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836133D7-849E-4DCA-9322-D65525E5B09D}" type="sib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47CDB915-5467-4DA9-9C7C-B6036E00662E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موقع من انشطة المؤسسة </a:t>
          </a:r>
          <a:endParaRPr lang="ar-IQ" dirty="0"/>
        </a:p>
      </dgm:t>
    </dgm:pt>
    <dgm:pt modelId="{9D8CC327-79F9-40CB-8BB0-84445F829C81}" type="par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0D538FB7-6739-4E64-8084-F97567A8C78B}" type="sib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38BAD7F9-2C06-4DF7-8218-FF512D4AF10E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كامل وانفراد الجهود</a:t>
          </a:r>
          <a:endParaRPr lang="ar-IQ" dirty="0"/>
        </a:p>
      </dgm:t>
    </dgm:pt>
    <dgm:pt modelId="{A69CA38B-D67A-45F7-A5A6-19655D1C2367}" type="par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E9AAD48F-79EF-454B-8F19-D1FF4A92D255}" type="sib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66F778B4-7BA0-4F4B-8682-FF3DAEDF8067}" type="pres">
      <dgm:prSet presAssocID="{82FC9657-6BD3-4D69-88D8-6FC127E2848B}" presName="diagram" presStyleCnt="0">
        <dgm:presLayoutVars>
          <dgm:dir/>
          <dgm:resizeHandles val="exact"/>
        </dgm:presLayoutVars>
      </dgm:prSet>
      <dgm:spPr/>
    </dgm:pt>
    <dgm:pt modelId="{A1A93871-ABDE-4116-892D-F0CD364121BC}" type="pres">
      <dgm:prSet presAssocID="{63240922-26DE-4CE9-92DF-8B75C8C217AE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D8BD28E-2746-4A6A-ACF0-BDEFEF893DE3}" type="pres">
      <dgm:prSet presAssocID="{4700A37C-D92B-4D78-ABD1-0C0EABF9D998}" presName="sibTrans" presStyleCnt="0"/>
      <dgm:spPr/>
    </dgm:pt>
    <dgm:pt modelId="{19016A11-BC05-49E2-89A6-B95F7A937DAA}" type="pres">
      <dgm:prSet presAssocID="{8F452978-8492-42C3-822C-F7C97B8092FA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77895AE-5B3F-4321-A4B2-FE4FF5526861}" type="pres">
      <dgm:prSet presAssocID="{A2530E29-A5AA-4248-BAA9-B78A2AF570E1}" presName="sibTrans" presStyleCnt="0"/>
      <dgm:spPr/>
    </dgm:pt>
    <dgm:pt modelId="{BEC79D8D-A604-4050-BC4F-86D4830C484A}" type="pres">
      <dgm:prSet presAssocID="{ACE6B05E-46B9-4C2E-A853-0B5A7C874703}" presName="node" presStyleLbl="node1" presStyleIdx="2" presStyleCnt="5">
        <dgm:presLayoutVars>
          <dgm:bulletEnabled val="1"/>
        </dgm:presLayoutVars>
      </dgm:prSet>
      <dgm:spPr/>
    </dgm:pt>
    <dgm:pt modelId="{CD8EEC53-BD9F-411A-8A13-35520F36452E}" type="pres">
      <dgm:prSet presAssocID="{836133D7-849E-4DCA-9322-D65525E5B09D}" presName="sibTrans" presStyleCnt="0"/>
      <dgm:spPr/>
    </dgm:pt>
    <dgm:pt modelId="{963DB2CA-C84F-4459-ACA4-CAC281B99EF4}" type="pres">
      <dgm:prSet presAssocID="{47CDB915-5467-4DA9-9C7C-B6036E00662E}" presName="node" presStyleLbl="node1" presStyleIdx="3" presStyleCnt="5">
        <dgm:presLayoutVars>
          <dgm:bulletEnabled val="1"/>
        </dgm:presLayoutVars>
      </dgm:prSet>
      <dgm:spPr/>
    </dgm:pt>
    <dgm:pt modelId="{320B4E51-21E2-470F-9AA8-C620A5A69CBB}" type="pres">
      <dgm:prSet presAssocID="{0D538FB7-6739-4E64-8084-F97567A8C78B}" presName="sibTrans" presStyleCnt="0"/>
      <dgm:spPr/>
    </dgm:pt>
    <dgm:pt modelId="{9B727FF9-EF5C-42BD-B701-516146ED6121}" type="pres">
      <dgm:prSet presAssocID="{38BAD7F9-2C06-4DF7-8218-FF512D4AF10E}" presName="node" presStyleLbl="node1" presStyleIdx="4" presStyleCnt="5">
        <dgm:presLayoutVars>
          <dgm:bulletEnabled val="1"/>
        </dgm:presLayoutVars>
      </dgm:prSet>
      <dgm:spPr/>
    </dgm:pt>
  </dgm:ptLst>
  <dgm:cxnLst>
    <dgm:cxn modelId="{B893C479-C7CC-4D60-8565-62CC1F81DB53}" type="presOf" srcId="{ACE6B05E-46B9-4C2E-A853-0B5A7C874703}" destId="{BEC79D8D-A604-4050-BC4F-86D4830C484A}" srcOrd="0" destOrd="0" presId="urn:microsoft.com/office/officeart/2005/8/layout/default"/>
    <dgm:cxn modelId="{35C266AE-2B93-4007-87EB-95ED3DA03AA4}" srcId="{82FC9657-6BD3-4D69-88D8-6FC127E2848B}" destId="{47CDB915-5467-4DA9-9C7C-B6036E00662E}" srcOrd="3" destOrd="0" parTransId="{9D8CC327-79F9-40CB-8BB0-84445F829C81}" sibTransId="{0D538FB7-6739-4E64-8084-F97567A8C78B}"/>
    <dgm:cxn modelId="{193D37CB-CD1A-4179-AB2A-DAAFF4A19FA0}" type="presOf" srcId="{8F452978-8492-42C3-822C-F7C97B8092FA}" destId="{19016A11-BC05-49E2-89A6-B95F7A937DAA}" srcOrd="0" destOrd="0" presId="urn:microsoft.com/office/officeart/2005/8/layout/default"/>
    <dgm:cxn modelId="{6E900819-9E5E-428A-97A5-174479DE2619}" type="presOf" srcId="{63240922-26DE-4CE9-92DF-8B75C8C217AE}" destId="{A1A93871-ABDE-4116-892D-F0CD364121BC}" srcOrd="0" destOrd="0" presId="urn:microsoft.com/office/officeart/2005/8/layout/default"/>
    <dgm:cxn modelId="{A3FE5899-075A-4EC5-97AA-D70015E66DFB}" type="presOf" srcId="{82FC9657-6BD3-4D69-88D8-6FC127E2848B}" destId="{66F778B4-7BA0-4F4B-8682-FF3DAEDF8067}" srcOrd="0" destOrd="0" presId="urn:microsoft.com/office/officeart/2005/8/layout/default"/>
    <dgm:cxn modelId="{AB75933D-D938-41E1-9F37-98D955932C75}" type="presOf" srcId="{47CDB915-5467-4DA9-9C7C-B6036E00662E}" destId="{963DB2CA-C84F-4459-ACA4-CAC281B99EF4}" srcOrd="0" destOrd="0" presId="urn:microsoft.com/office/officeart/2005/8/layout/default"/>
    <dgm:cxn modelId="{3810FDCA-E8F1-4F7F-8C06-B0BFD7EF1B42}" srcId="{82FC9657-6BD3-4D69-88D8-6FC127E2848B}" destId="{63240922-26DE-4CE9-92DF-8B75C8C217AE}" srcOrd="0" destOrd="0" parTransId="{A85530AC-A0DC-442E-AAEE-B1A36D1964E0}" sibTransId="{4700A37C-D92B-4D78-ABD1-0C0EABF9D998}"/>
    <dgm:cxn modelId="{C6529D69-28D1-4495-A111-DFAA44DD767D}" type="presOf" srcId="{38BAD7F9-2C06-4DF7-8218-FF512D4AF10E}" destId="{9B727FF9-EF5C-42BD-B701-516146ED6121}" srcOrd="0" destOrd="0" presId="urn:microsoft.com/office/officeart/2005/8/layout/default"/>
    <dgm:cxn modelId="{59B5A5C8-2B83-44CE-956B-46AB2288B854}" srcId="{82FC9657-6BD3-4D69-88D8-6FC127E2848B}" destId="{8F452978-8492-42C3-822C-F7C97B8092FA}" srcOrd="1" destOrd="0" parTransId="{B6FA4A59-3DA4-4535-82DB-3E02B5A61B19}" sibTransId="{A2530E29-A5AA-4248-BAA9-B78A2AF570E1}"/>
    <dgm:cxn modelId="{C3B95E06-2203-440B-A2D9-E87C24B60EB1}" srcId="{82FC9657-6BD3-4D69-88D8-6FC127E2848B}" destId="{ACE6B05E-46B9-4C2E-A853-0B5A7C874703}" srcOrd="2" destOrd="0" parTransId="{ADDE2578-5F8D-44E1-AAD4-B0C087B89CC7}" sibTransId="{836133D7-849E-4DCA-9322-D65525E5B09D}"/>
    <dgm:cxn modelId="{F778B219-A93E-4588-B619-814AFE6532BC}" srcId="{82FC9657-6BD3-4D69-88D8-6FC127E2848B}" destId="{38BAD7F9-2C06-4DF7-8218-FF512D4AF10E}" srcOrd="4" destOrd="0" parTransId="{A69CA38B-D67A-45F7-A5A6-19655D1C2367}" sibTransId="{E9AAD48F-79EF-454B-8F19-D1FF4A92D255}"/>
    <dgm:cxn modelId="{97CE3B40-699C-45FA-A92D-6EE7432C2B07}" type="presParOf" srcId="{66F778B4-7BA0-4F4B-8682-FF3DAEDF8067}" destId="{A1A93871-ABDE-4116-892D-F0CD364121BC}" srcOrd="0" destOrd="0" presId="urn:microsoft.com/office/officeart/2005/8/layout/default"/>
    <dgm:cxn modelId="{50DB29D7-102B-4223-ADD4-41B649C71C79}" type="presParOf" srcId="{66F778B4-7BA0-4F4B-8682-FF3DAEDF8067}" destId="{8D8BD28E-2746-4A6A-ACF0-BDEFEF893DE3}" srcOrd="1" destOrd="0" presId="urn:microsoft.com/office/officeart/2005/8/layout/default"/>
    <dgm:cxn modelId="{F6525335-3A95-4D5C-A7B2-E2E32FECF1AA}" type="presParOf" srcId="{66F778B4-7BA0-4F4B-8682-FF3DAEDF8067}" destId="{19016A11-BC05-49E2-89A6-B95F7A937DAA}" srcOrd="2" destOrd="0" presId="urn:microsoft.com/office/officeart/2005/8/layout/default"/>
    <dgm:cxn modelId="{42DDEC96-AD64-41C9-8086-82099FB68C61}" type="presParOf" srcId="{66F778B4-7BA0-4F4B-8682-FF3DAEDF8067}" destId="{C77895AE-5B3F-4321-A4B2-FE4FF5526861}" srcOrd="3" destOrd="0" presId="urn:microsoft.com/office/officeart/2005/8/layout/default"/>
    <dgm:cxn modelId="{F3C3A95C-3F95-4CD3-A67C-F1FE9B59A46D}" type="presParOf" srcId="{66F778B4-7BA0-4F4B-8682-FF3DAEDF8067}" destId="{BEC79D8D-A604-4050-BC4F-86D4830C484A}" srcOrd="4" destOrd="0" presId="urn:microsoft.com/office/officeart/2005/8/layout/default"/>
    <dgm:cxn modelId="{FD492413-8200-4699-B668-FE20EB079C42}" type="presParOf" srcId="{66F778B4-7BA0-4F4B-8682-FF3DAEDF8067}" destId="{CD8EEC53-BD9F-411A-8A13-35520F36452E}" srcOrd="5" destOrd="0" presId="urn:microsoft.com/office/officeart/2005/8/layout/default"/>
    <dgm:cxn modelId="{93963356-973C-48D4-B51F-67A12FE0175B}" type="presParOf" srcId="{66F778B4-7BA0-4F4B-8682-FF3DAEDF8067}" destId="{963DB2CA-C84F-4459-ACA4-CAC281B99EF4}" srcOrd="6" destOrd="0" presId="urn:microsoft.com/office/officeart/2005/8/layout/default"/>
    <dgm:cxn modelId="{04777A70-7B4A-48BE-A722-BC11243DA2E3}" type="presParOf" srcId="{66F778B4-7BA0-4F4B-8682-FF3DAEDF8067}" destId="{320B4E51-21E2-470F-9AA8-C620A5A69CBB}" srcOrd="7" destOrd="0" presId="urn:microsoft.com/office/officeart/2005/8/layout/default"/>
    <dgm:cxn modelId="{EEE2A271-A958-4F49-8F8B-5E771FD11FBC}" type="presParOf" srcId="{66F778B4-7BA0-4F4B-8682-FF3DAEDF8067}" destId="{9B727FF9-EF5C-42BD-B701-516146ED6121}" srcOrd="8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E4823F6D-B5A1-405C-93E6-6579A5155B3E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BBA9A30C-7E3D-493E-BBAA-C01A54D31564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هدف الربح</a:t>
          </a:r>
          <a:endParaRPr lang="ar-IQ" dirty="0"/>
        </a:p>
      </dgm:t>
    </dgm:pt>
    <dgm:pt modelId="{7C7F8358-0C0D-43D2-8474-AC0B20839650}" type="par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E1FAA625-2A4F-4C91-AA58-328D93E45E09}" type="sib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43EDC1E3-3371-4DF0-A543-E101B70E94F2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دور التسويق في تحقيق الربح</a:t>
          </a:r>
          <a:endParaRPr lang="ar-IQ" dirty="0"/>
        </a:p>
      </dgm:t>
    </dgm:pt>
    <dgm:pt modelId="{79EF8125-9B6B-47DC-9AE5-175A52752B89}" type="par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4A203A14-4A7A-42EB-B49E-35BE42EA8CCD}" type="sib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F4ADA3BC-50CF-42AD-839D-0B32A3CEEBFD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علاقة الربح بربحية المؤسسة</a:t>
          </a:r>
          <a:endParaRPr lang="ar-IQ" dirty="0"/>
        </a:p>
      </dgm:t>
    </dgm:pt>
    <dgm:pt modelId="{52FF6DE7-80DE-4F1F-878E-83EE7849AE4A}" type="par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8E45C31-7C58-41DF-AD91-617D4F1F95D5}" type="sib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7F9A133-B387-42C2-B6D1-C61198CA9641}">
      <dgm:prSet phldrT="[نص]">
        <dgm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هدف النمو</a:t>
          </a:r>
          <a:endParaRPr lang="ar-IQ" dirty="0"/>
        </a:p>
      </dgm:t>
    </dgm:pt>
    <dgm:pt modelId="{EBB41BE2-0C0B-4AF2-967D-BAE526AF16AF}" type="par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001A12FB-8AFD-4672-A15B-266E67A655A4}" type="sib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9736FDD5-40BE-46FF-B21C-474F44C5CA03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زيادة الطلب على الانتاج</a:t>
          </a:r>
          <a:endParaRPr lang="ar-IQ" dirty="0"/>
        </a:p>
      </dgm:t>
    </dgm:pt>
    <dgm:pt modelId="{EF049F47-1562-470A-8F6B-4F635A71016D}" type="par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E3AAD37D-70F4-498E-8BED-A22D29BA4622}" type="sib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D979BB6A-A43E-460A-BD66-F808543E2789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زيادة شدة المنافسة</a:t>
          </a:r>
          <a:endParaRPr lang="ar-IQ" dirty="0"/>
        </a:p>
      </dgm:t>
    </dgm:pt>
    <dgm:pt modelId="{22427EA8-9926-40AE-9488-955B4C629BBC}" type="par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CEDE123A-DC19-4B05-8591-378A8C048E82}" type="sib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A7C1BC5E-CD26-43E9-B303-D793BF072CD6}">
      <dgm:prSet phldrT="[نص]">
        <dgm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هدف البقاء</a:t>
          </a:r>
          <a:endParaRPr lang="ar-IQ" dirty="0"/>
        </a:p>
      </dgm:t>
    </dgm:pt>
    <dgm:pt modelId="{4152AE9C-FF2F-4985-A055-0DD14D38F5CA}" type="par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4619A1FE-0E0C-4645-9C1D-8BB9F7FBAB8E}" type="sib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10B9B185-E459-4CB9-8BB5-8458504CEB06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بحث باستمرار على فرص تسويقية جديدة </a:t>
          </a:r>
          <a:endParaRPr lang="ar-IQ" dirty="0"/>
        </a:p>
      </dgm:t>
    </dgm:pt>
    <dgm:pt modelId="{D1C2A8C8-8332-40A9-99EC-A2C428C46115}" type="par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F0AF1FE7-F2AB-4E70-8B93-11B0316F78EE}" type="sib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C8FC8052-E850-40E5-B589-33830EE060A3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ضرورة تنظيم وتطوير نظم المعلومات التسويقية</a:t>
          </a:r>
          <a:endParaRPr lang="ar-IQ" dirty="0"/>
        </a:p>
      </dgm:t>
    </dgm:pt>
    <dgm:pt modelId="{34A48C1C-8B25-4139-BE47-1E727C0F1006}" type="par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159613-F08D-48BC-B6B0-A23F24130F09}" type="sib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E3CA7E-0E24-4AEC-ABE2-E3C11055B40D}" type="pres">
      <dgm:prSet presAssocID="{E4823F6D-B5A1-405C-93E6-6579A5155B3E}" presName="linearFlow" presStyleCnt="0">
        <dgm:presLayoutVars>
          <dgm:dir/>
          <dgm:animLvl val="lvl"/>
          <dgm:resizeHandles val="exact"/>
        </dgm:presLayoutVars>
      </dgm:prSet>
      <dgm:spPr/>
    </dgm:pt>
    <dgm:pt modelId="{164FDAA0-9165-4AB5-98CB-9661BC41F1AD}" type="pres">
      <dgm:prSet presAssocID="{BBA9A30C-7E3D-493E-BBAA-C01A54D31564}" presName="composite" presStyleCnt="0"/>
      <dgm:spPr/>
    </dgm:pt>
    <dgm:pt modelId="{07F6DA61-4BD1-483D-9631-7BE1C51F03F2}" type="pres">
      <dgm:prSet presAssocID="{BBA9A30C-7E3D-493E-BBAA-C01A54D31564}" presName="parentText" presStyleLbl="alignNode1" presStyleIdx="0" presStyleCnt="3">
        <dgm:presLayoutVars>
          <dgm:chMax val="1"/>
          <dgm:bulletEnabled val="1"/>
        </dgm:presLayoutVars>
      </dgm:prSet>
      <dgm:spPr/>
    </dgm:pt>
    <dgm:pt modelId="{BF323DA2-1873-4DD2-8833-6CDD1C2A10A6}" type="pres">
      <dgm:prSet presAssocID="{BBA9A30C-7E3D-493E-BBAA-C01A54D31564}" presName="descendantText" presStyleLbl="alignAcc1" presStyleIdx="0" presStyleCnt="3">
        <dgm:presLayoutVars>
          <dgm:bulletEnabled val="1"/>
        </dgm:presLayoutVars>
      </dgm:prSet>
      <dgm:spPr/>
    </dgm:pt>
    <dgm:pt modelId="{06E70F29-3D6E-4FF5-8897-D6EA055DEEEB}" type="pres">
      <dgm:prSet presAssocID="{E1FAA625-2A4F-4C91-AA58-328D93E45E09}" presName="sp" presStyleCnt="0"/>
      <dgm:spPr/>
    </dgm:pt>
    <dgm:pt modelId="{14639B19-BB85-42F5-93D2-6B3C437229FA}" type="pres">
      <dgm:prSet presAssocID="{C7F9A133-B387-42C2-B6D1-C61198CA9641}" presName="composite" presStyleCnt="0"/>
      <dgm:spPr/>
    </dgm:pt>
    <dgm:pt modelId="{253A772A-076E-476A-81FB-64BD2B942D1E}" type="pres">
      <dgm:prSet presAssocID="{C7F9A133-B387-42C2-B6D1-C61198CA9641}" presName="parentText" presStyleLbl="alignNode1" presStyleIdx="1" presStyleCnt="3">
        <dgm:presLayoutVars>
          <dgm:chMax val="1"/>
          <dgm:bulletEnabled val="1"/>
        </dgm:presLayoutVars>
      </dgm:prSet>
      <dgm:spPr/>
    </dgm:pt>
    <dgm:pt modelId="{281A174C-FCE4-47CE-A645-F7C499E4E3A0}" type="pres">
      <dgm:prSet presAssocID="{C7F9A133-B387-42C2-B6D1-C61198CA9641}" presName="descendantText" presStyleLbl="alignAcc1" presStyleIdx="1" presStyleCnt="3" custLinFactNeighborX="1767" custLinFactNeighborY="228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6D3C7A63-6746-402F-A2C2-DB5664EA9432}" type="pres">
      <dgm:prSet presAssocID="{001A12FB-8AFD-4672-A15B-266E67A655A4}" presName="sp" presStyleCnt="0"/>
      <dgm:spPr/>
    </dgm:pt>
    <dgm:pt modelId="{2E327011-0585-47BA-B3F4-E854302F5A0C}" type="pres">
      <dgm:prSet presAssocID="{A7C1BC5E-CD26-43E9-B303-D793BF072CD6}" presName="composite" presStyleCnt="0"/>
      <dgm:spPr/>
    </dgm:pt>
    <dgm:pt modelId="{4C082E2A-F1C7-437D-9790-4E83C61085EB}" type="pres">
      <dgm:prSet presAssocID="{A7C1BC5E-CD26-43E9-B303-D793BF072CD6}" presName="parentText" presStyleLbl="alignNode1" presStyleIdx="2" presStyleCnt="3">
        <dgm:presLayoutVars>
          <dgm:chMax val="1"/>
          <dgm:bulletEnabled val="1"/>
        </dgm:presLayoutVars>
      </dgm:prSet>
      <dgm:spPr/>
    </dgm:pt>
    <dgm:pt modelId="{407C6C63-A6A1-4081-8872-9C8C1257EC05}" type="pres">
      <dgm:prSet presAssocID="{A7C1BC5E-CD26-43E9-B303-D793BF072CD6}" presName="descendantText" presStyleLbl="alignAcc1" presStyleIdx="2" presStyleCnt="3">
        <dgm:presLayoutVars>
          <dgm:bulletEnabled val="1"/>
        </dgm:presLayoutVars>
      </dgm:prSet>
      <dgm:spPr/>
    </dgm:pt>
  </dgm:ptLst>
  <dgm:cxnLst>
    <dgm:cxn modelId="{9A4C0DE0-E1AA-4BD2-BE86-8E8CA1C6797E}" type="presOf" srcId="{E4823F6D-B5A1-405C-93E6-6579A5155B3E}" destId="{E4E3CA7E-0E24-4AEC-ABE2-E3C11055B40D}" srcOrd="0" destOrd="0" presId="urn:microsoft.com/office/officeart/2005/8/layout/chevron2"/>
    <dgm:cxn modelId="{66C07E01-AC89-4F4B-91DA-8DD446516C09}" type="presOf" srcId="{9736FDD5-40BE-46FF-B21C-474F44C5CA03}" destId="{281A174C-FCE4-47CE-A645-F7C499E4E3A0}" srcOrd="0" destOrd="0" presId="urn:microsoft.com/office/officeart/2005/8/layout/chevron2"/>
    <dgm:cxn modelId="{750BD575-6748-49AD-B786-07D27638EB8E}" type="presOf" srcId="{D979BB6A-A43E-460A-BD66-F808543E2789}" destId="{281A174C-FCE4-47CE-A645-F7C499E4E3A0}" srcOrd="0" destOrd="1" presId="urn:microsoft.com/office/officeart/2005/8/layout/chevron2"/>
    <dgm:cxn modelId="{19568907-6048-41BE-916E-78BAE7CFB527}" srcId="{BBA9A30C-7E3D-493E-BBAA-C01A54D31564}" destId="{43EDC1E3-3371-4DF0-A543-E101B70E94F2}" srcOrd="0" destOrd="0" parTransId="{79EF8125-9B6B-47DC-9AE5-175A52752B89}" sibTransId="{4A203A14-4A7A-42EB-B49E-35BE42EA8CCD}"/>
    <dgm:cxn modelId="{226919A8-11A7-4B57-90CA-8995494BCB1E}" srcId="{C7F9A133-B387-42C2-B6D1-C61198CA9641}" destId="{9736FDD5-40BE-46FF-B21C-474F44C5CA03}" srcOrd="0" destOrd="0" parTransId="{EF049F47-1562-470A-8F6B-4F635A71016D}" sibTransId="{E3AAD37D-70F4-498E-8BED-A22D29BA4622}"/>
    <dgm:cxn modelId="{8670D923-2ACA-4BD3-8385-3BE795082DE2}" type="presOf" srcId="{43EDC1E3-3371-4DF0-A543-E101B70E94F2}" destId="{BF323DA2-1873-4DD2-8833-6CDD1C2A10A6}" srcOrd="0" destOrd="0" presId="urn:microsoft.com/office/officeart/2005/8/layout/chevron2"/>
    <dgm:cxn modelId="{18E033B6-BFBA-475B-AFA4-B41D2859870B}" srcId="{A7C1BC5E-CD26-43E9-B303-D793BF072CD6}" destId="{10B9B185-E459-4CB9-8BB5-8458504CEB06}" srcOrd="0" destOrd="0" parTransId="{D1C2A8C8-8332-40A9-99EC-A2C428C46115}" sibTransId="{F0AF1FE7-F2AB-4E70-8B93-11B0316F78EE}"/>
    <dgm:cxn modelId="{ABF18D37-19F5-4FCB-A87D-2404213945C9}" type="presOf" srcId="{A7C1BC5E-CD26-43E9-B303-D793BF072CD6}" destId="{4C082E2A-F1C7-437D-9790-4E83C61085EB}" srcOrd="0" destOrd="0" presId="urn:microsoft.com/office/officeart/2005/8/layout/chevron2"/>
    <dgm:cxn modelId="{37946F54-DF32-4950-91B8-CD1EDEC65114}" srcId="{A7C1BC5E-CD26-43E9-B303-D793BF072CD6}" destId="{C8FC8052-E850-40E5-B589-33830EE060A3}" srcOrd="1" destOrd="0" parTransId="{34A48C1C-8B25-4139-BE47-1E727C0F1006}" sibTransId="{E4159613-F08D-48BC-B6B0-A23F24130F09}"/>
    <dgm:cxn modelId="{9E76FCC7-9757-497D-A7CF-13101D24CFB4}" type="presOf" srcId="{C8FC8052-E850-40E5-B589-33830EE060A3}" destId="{407C6C63-A6A1-4081-8872-9C8C1257EC05}" srcOrd="0" destOrd="1" presId="urn:microsoft.com/office/officeart/2005/8/layout/chevron2"/>
    <dgm:cxn modelId="{9506A0B2-1158-4873-91DC-7A6E1128C16A}" srcId="{C7F9A133-B387-42C2-B6D1-C61198CA9641}" destId="{D979BB6A-A43E-460A-BD66-F808543E2789}" srcOrd="1" destOrd="0" parTransId="{22427EA8-9926-40AE-9488-955B4C629BBC}" sibTransId="{CEDE123A-DC19-4B05-8591-378A8C048E82}"/>
    <dgm:cxn modelId="{B911B800-2470-4B27-AB79-09282F8B4C44}" type="presOf" srcId="{F4ADA3BC-50CF-42AD-839D-0B32A3CEEBFD}" destId="{BF323DA2-1873-4DD2-8833-6CDD1C2A10A6}" srcOrd="0" destOrd="1" presId="urn:microsoft.com/office/officeart/2005/8/layout/chevron2"/>
    <dgm:cxn modelId="{B365BDBD-2542-4A80-82B7-5E4AC70B6A48}" type="presOf" srcId="{10B9B185-E459-4CB9-8BB5-8458504CEB06}" destId="{407C6C63-A6A1-4081-8872-9C8C1257EC05}" srcOrd="0" destOrd="0" presId="urn:microsoft.com/office/officeart/2005/8/layout/chevron2"/>
    <dgm:cxn modelId="{6823EE2A-BFE1-4E18-BC56-BFFF6C8A6DD5}" srcId="{BBA9A30C-7E3D-493E-BBAA-C01A54D31564}" destId="{F4ADA3BC-50CF-42AD-839D-0B32A3CEEBFD}" srcOrd="1" destOrd="0" parTransId="{52FF6DE7-80DE-4F1F-878E-83EE7849AE4A}" sibTransId="{C8E45C31-7C58-41DF-AD91-617D4F1F95D5}"/>
    <dgm:cxn modelId="{86EC3E48-8826-4BBF-B04E-A97155F6788A}" srcId="{E4823F6D-B5A1-405C-93E6-6579A5155B3E}" destId="{A7C1BC5E-CD26-43E9-B303-D793BF072CD6}" srcOrd="2" destOrd="0" parTransId="{4152AE9C-FF2F-4985-A055-0DD14D38F5CA}" sibTransId="{4619A1FE-0E0C-4645-9C1D-8BB9F7FBAB8E}"/>
    <dgm:cxn modelId="{1267867A-5D69-41E4-8E50-728142E1ACC3}" type="presOf" srcId="{C7F9A133-B387-42C2-B6D1-C61198CA9641}" destId="{253A772A-076E-476A-81FB-64BD2B942D1E}" srcOrd="0" destOrd="0" presId="urn:microsoft.com/office/officeart/2005/8/layout/chevron2"/>
    <dgm:cxn modelId="{EA6817CF-F155-4E9E-88E5-7A60547EEF88}" srcId="{E4823F6D-B5A1-405C-93E6-6579A5155B3E}" destId="{C7F9A133-B387-42C2-B6D1-C61198CA9641}" srcOrd="1" destOrd="0" parTransId="{EBB41BE2-0C0B-4AF2-967D-BAE526AF16AF}" sibTransId="{001A12FB-8AFD-4672-A15B-266E67A655A4}"/>
    <dgm:cxn modelId="{FE12C4C6-E765-4C5C-B184-E5DF8410F909}" srcId="{E4823F6D-B5A1-405C-93E6-6579A5155B3E}" destId="{BBA9A30C-7E3D-493E-BBAA-C01A54D31564}" srcOrd="0" destOrd="0" parTransId="{7C7F8358-0C0D-43D2-8474-AC0B20839650}" sibTransId="{E1FAA625-2A4F-4C91-AA58-328D93E45E09}"/>
    <dgm:cxn modelId="{54508D49-6754-4FAD-88F8-EB4DFACD1D56}" type="presOf" srcId="{BBA9A30C-7E3D-493E-BBAA-C01A54D31564}" destId="{07F6DA61-4BD1-483D-9631-7BE1C51F03F2}" srcOrd="0" destOrd="0" presId="urn:microsoft.com/office/officeart/2005/8/layout/chevron2"/>
    <dgm:cxn modelId="{768B0C54-C285-407B-A97C-88F6066EAFC4}" type="presParOf" srcId="{E4E3CA7E-0E24-4AEC-ABE2-E3C11055B40D}" destId="{164FDAA0-9165-4AB5-98CB-9661BC41F1AD}" srcOrd="0" destOrd="0" presId="urn:microsoft.com/office/officeart/2005/8/layout/chevron2"/>
    <dgm:cxn modelId="{02C1E15F-DFE3-441F-95BA-DD85DE7E8AC7}" type="presParOf" srcId="{164FDAA0-9165-4AB5-98CB-9661BC41F1AD}" destId="{07F6DA61-4BD1-483D-9631-7BE1C51F03F2}" srcOrd="0" destOrd="0" presId="urn:microsoft.com/office/officeart/2005/8/layout/chevron2"/>
    <dgm:cxn modelId="{197F3C61-7DC1-4880-A87B-79A15A5907C2}" type="presParOf" srcId="{164FDAA0-9165-4AB5-98CB-9661BC41F1AD}" destId="{BF323DA2-1873-4DD2-8833-6CDD1C2A10A6}" srcOrd="1" destOrd="0" presId="urn:microsoft.com/office/officeart/2005/8/layout/chevron2"/>
    <dgm:cxn modelId="{CFC36635-CAC3-4B34-A1CE-F661C3E9336D}" type="presParOf" srcId="{E4E3CA7E-0E24-4AEC-ABE2-E3C11055B40D}" destId="{06E70F29-3D6E-4FF5-8897-D6EA055DEEEB}" srcOrd="1" destOrd="0" presId="urn:microsoft.com/office/officeart/2005/8/layout/chevron2"/>
    <dgm:cxn modelId="{CA85092F-1062-45D5-992F-CEDFB5E0A30C}" type="presParOf" srcId="{E4E3CA7E-0E24-4AEC-ABE2-E3C11055B40D}" destId="{14639B19-BB85-42F5-93D2-6B3C437229FA}" srcOrd="2" destOrd="0" presId="urn:microsoft.com/office/officeart/2005/8/layout/chevron2"/>
    <dgm:cxn modelId="{7852B05A-0570-4AFC-ACAF-50F87AA6ACE3}" type="presParOf" srcId="{14639B19-BB85-42F5-93D2-6B3C437229FA}" destId="{253A772A-076E-476A-81FB-64BD2B942D1E}" srcOrd="0" destOrd="0" presId="urn:microsoft.com/office/officeart/2005/8/layout/chevron2"/>
    <dgm:cxn modelId="{EB812F80-7B24-41EE-BD55-77C2ECF3C82C}" type="presParOf" srcId="{14639B19-BB85-42F5-93D2-6B3C437229FA}" destId="{281A174C-FCE4-47CE-A645-F7C499E4E3A0}" srcOrd="1" destOrd="0" presId="urn:microsoft.com/office/officeart/2005/8/layout/chevron2"/>
    <dgm:cxn modelId="{96FDB955-3D4C-45F5-A16D-03AAAF2D482B}" type="presParOf" srcId="{E4E3CA7E-0E24-4AEC-ABE2-E3C11055B40D}" destId="{6D3C7A63-6746-402F-A2C2-DB5664EA9432}" srcOrd="3" destOrd="0" presId="urn:microsoft.com/office/officeart/2005/8/layout/chevron2"/>
    <dgm:cxn modelId="{891FF33A-3C79-473A-8CEC-55D48FFD00A8}" type="presParOf" srcId="{E4E3CA7E-0E24-4AEC-ABE2-E3C11055B40D}" destId="{2E327011-0585-47BA-B3F4-E854302F5A0C}" srcOrd="4" destOrd="0" presId="urn:microsoft.com/office/officeart/2005/8/layout/chevron2"/>
    <dgm:cxn modelId="{239E3FCB-E7FE-4406-9C48-AA626BDABB55}" type="presParOf" srcId="{2E327011-0585-47BA-B3F4-E854302F5A0C}" destId="{4C082E2A-F1C7-437D-9790-4E83C61085EB}" srcOrd="0" destOrd="0" presId="urn:microsoft.com/office/officeart/2005/8/layout/chevron2"/>
    <dgm:cxn modelId="{604B919E-E4F0-4A8B-99D8-B40C18F27D31}" type="presParOf" srcId="{2E327011-0585-47BA-B3F4-E854302F5A0C}" destId="{407C6C63-A6A1-4081-8872-9C8C1257EC05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F4E3A42-4674-47DE-BF04-B3E66C65A586}" type="doc">
      <dgm:prSet loTypeId="urn:microsoft.com/office/officeart/2005/8/layout/radial3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C3A364C2-1CA8-44BF-B3E4-815DB5851073}">
      <dgm:prSet phldrT="[نص]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الاسواق الرئيسة في التسويق</a:t>
          </a:r>
          <a:endParaRPr lang="ar-IQ" dirty="0"/>
        </a:p>
      </dgm:t>
    </dgm:pt>
    <dgm:pt modelId="{3269DDCA-FACF-4305-821B-591AE60341D1}" type="par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30398122-3EF9-42CF-85FA-91A6BF32EE04}" type="sib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98A74C50-95E6-4748-B856-ECEB10A72C32}">
      <dgm:prSet phldrT="[نص]">
        <dgm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>
              <a:solidFill>
                <a:schemeClr val="tx1"/>
              </a:solidFill>
            </a:rPr>
            <a:t>اسواق الزبون</a:t>
          </a:r>
          <a:endParaRPr lang="ar-IQ" dirty="0">
            <a:solidFill>
              <a:schemeClr val="tx1"/>
            </a:solidFill>
          </a:endParaRPr>
        </a:p>
      </dgm:t>
    </dgm:pt>
    <dgm:pt modelId="{8435C686-437A-4AC1-88BA-1D44ECD61BA3}" type="par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1261AEF7-BB2D-408F-8351-1A6A34742266}" type="sib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E5038EF0-4D26-4B3D-8D4A-BF538356A50F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سواق الاعمال</a:t>
          </a:r>
          <a:endParaRPr lang="ar-IQ" dirty="0"/>
        </a:p>
      </dgm:t>
    </dgm:pt>
    <dgm:pt modelId="{A86D1865-3B54-4A62-97DC-4A3D5CC907EB}" type="parTrans" cxnId="{8A4B27B4-FE55-462A-AB02-EDDD93BEC8A6}">
      <dgm:prSet/>
      <dgm:spPr/>
      <dgm:t>
        <a:bodyPr/>
        <a:lstStyle/>
        <a:p>
          <a:pPr rtl="1"/>
          <a:endParaRPr lang="ar-IQ"/>
        </a:p>
      </dgm:t>
    </dgm:pt>
    <dgm:pt modelId="{67142EDE-AA7A-4E0D-8A04-1160E87A98AC}" type="sibTrans" cxnId="{8A4B27B4-FE55-462A-AB02-EDDD93BEC8A6}">
      <dgm:prSet/>
      <dgm:spPr/>
      <dgm:t>
        <a:bodyPr/>
        <a:lstStyle/>
        <a:p>
          <a:pPr rtl="1"/>
          <a:endParaRPr lang="ar-IQ"/>
        </a:p>
      </dgm:t>
    </dgm:pt>
    <dgm:pt modelId="{3E9567A3-9BAF-443F-96DD-F16DF1F3C9DA}">
      <dgm:prSet phldrT="[نص]">
        <dgm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>
              <a:solidFill>
                <a:schemeClr val="tx1"/>
              </a:solidFill>
            </a:rPr>
            <a:t>الاسواق العالمية</a:t>
          </a:r>
          <a:endParaRPr lang="ar-IQ" dirty="0">
            <a:solidFill>
              <a:schemeClr val="tx1"/>
            </a:solidFill>
          </a:endParaRPr>
        </a:p>
      </dgm:t>
    </dgm:pt>
    <dgm:pt modelId="{E1C0944E-02BC-473C-AAA1-9A367B909B4D}" type="par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96DC6010-3956-4941-9E9A-E46F86250780}" type="sib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10029E96-5460-4E50-8035-940E55C761DE}">
      <dgm:prSet phldrT="[نص]">
        <dgm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>
              <a:solidFill>
                <a:schemeClr val="tx1"/>
              </a:solidFill>
            </a:rPr>
            <a:t>الاسواق الحكومية </a:t>
          </a:r>
          <a:r>
            <a:rPr lang="ar-IQ" dirty="0" err="1" smtClean="0">
              <a:solidFill>
                <a:schemeClr val="tx1"/>
              </a:solidFill>
            </a:rPr>
            <a:t>واللاربحية</a:t>
          </a:r>
          <a:endParaRPr lang="ar-IQ" dirty="0">
            <a:solidFill>
              <a:schemeClr val="tx1"/>
            </a:solidFill>
          </a:endParaRPr>
        </a:p>
      </dgm:t>
    </dgm:pt>
    <dgm:pt modelId="{588E1B45-E1C6-4D11-84DD-17001475BC50}" type="parTrans" cxnId="{30F95E05-D8C8-4BFC-A7D6-EA796AE2F583}">
      <dgm:prSet/>
      <dgm:spPr/>
      <dgm:t>
        <a:bodyPr/>
        <a:lstStyle/>
        <a:p>
          <a:pPr rtl="1"/>
          <a:endParaRPr lang="ar-IQ"/>
        </a:p>
      </dgm:t>
    </dgm:pt>
    <dgm:pt modelId="{44D673A6-CD07-4EAA-A9D7-6048BA244300}" type="sibTrans" cxnId="{30F95E05-D8C8-4BFC-A7D6-EA796AE2F583}">
      <dgm:prSet/>
      <dgm:spPr/>
      <dgm:t>
        <a:bodyPr/>
        <a:lstStyle/>
        <a:p>
          <a:pPr rtl="1"/>
          <a:endParaRPr lang="ar-IQ"/>
        </a:p>
      </dgm:t>
    </dgm:pt>
    <dgm:pt modelId="{FE606BEE-67C0-46FF-AC25-80932D9ED6C6}" type="pres">
      <dgm:prSet presAssocID="{BF4E3A42-4674-47DE-BF04-B3E66C65A586}" presName="composite" presStyleCnt="0">
        <dgm:presLayoutVars>
          <dgm:chMax val="1"/>
          <dgm:dir/>
          <dgm:resizeHandles val="exact"/>
        </dgm:presLayoutVars>
      </dgm:prSet>
      <dgm:spPr/>
    </dgm:pt>
    <dgm:pt modelId="{CD74F4E5-D8BA-4349-9B3D-2A0E19C0CEDE}" type="pres">
      <dgm:prSet presAssocID="{BF4E3A42-4674-47DE-BF04-B3E66C65A586}" presName="radial" presStyleCnt="0">
        <dgm:presLayoutVars>
          <dgm:animLvl val="ctr"/>
        </dgm:presLayoutVars>
      </dgm:prSet>
      <dgm:spPr/>
    </dgm:pt>
    <dgm:pt modelId="{3F060CA7-779C-4EC7-9FFE-DF9B8EF2BDDF}" type="pres">
      <dgm:prSet presAssocID="{C3A364C2-1CA8-44BF-B3E4-815DB5851073}" presName="centerShape" presStyleLbl="vennNode1" presStyleIdx="0" presStyleCnt="5" custScaleX="108003" custScaleY="107659"/>
      <dgm:spPr/>
    </dgm:pt>
    <dgm:pt modelId="{317058BD-5BF0-4472-B3AE-73B7D8DE83C4}" type="pres">
      <dgm:prSet presAssocID="{98A74C50-95E6-4748-B856-ECEB10A72C32}" presName="node" presStyleLbl="vennNode1" presStyleIdx="1" presStyleCnt="5" custScaleX="126000" custScaleY="95216" custRadScaleRad="99756" custRadScaleInc="394">
        <dgm:presLayoutVars>
          <dgm:bulletEnabled val="1"/>
        </dgm:presLayoutVars>
      </dgm:prSet>
      <dgm:spPr/>
    </dgm:pt>
    <dgm:pt modelId="{B169EAD5-5CBE-40BD-937C-E1FE47222266}" type="pres">
      <dgm:prSet presAssocID="{E5038EF0-4D26-4B3D-8D4A-BF538356A50F}" presName="node" presStyleLbl="vennNode1" presStyleIdx="2" presStyleCnt="5" custScaleX="116114" custScaleY="105182">
        <dgm:presLayoutVars>
          <dgm:bulletEnabled val="1"/>
        </dgm:presLayoutVars>
      </dgm:prSet>
      <dgm:spPr/>
    </dgm:pt>
    <dgm:pt modelId="{9E5AD3C0-3100-4018-AF70-FAEA0033A23F}" type="pres">
      <dgm:prSet presAssocID="{3E9567A3-9BAF-443F-96DD-F16DF1F3C9DA}" presName="node" presStyleLbl="vennNode1" presStyleIdx="3" presStyleCnt="5" custScaleX="124391" custScaleY="86177">
        <dgm:presLayoutVars>
          <dgm:bulletEnabled val="1"/>
        </dgm:presLayoutVars>
      </dgm:prSet>
      <dgm:spPr/>
    </dgm:pt>
    <dgm:pt modelId="{C133A265-43B8-4584-987F-6A7BC5090384}" type="pres">
      <dgm:prSet presAssocID="{10029E96-5460-4E50-8035-940E55C761DE}" presName="node" presStyleLbl="vennNode1" presStyleIdx="4" presStyleCnt="5" custScaleX="114505" custScaleY="95166">
        <dgm:presLayoutVars>
          <dgm:bulletEnabled val="1"/>
        </dgm:presLayoutVars>
      </dgm:prSet>
      <dgm:spPr/>
    </dgm:pt>
  </dgm:ptLst>
  <dgm:cxnLst>
    <dgm:cxn modelId="{BFFE167B-4969-41EB-BF66-B16340B52041}" srcId="{C3A364C2-1CA8-44BF-B3E4-815DB5851073}" destId="{3E9567A3-9BAF-443F-96DD-F16DF1F3C9DA}" srcOrd="2" destOrd="0" parTransId="{E1C0944E-02BC-473C-AAA1-9A367B909B4D}" sibTransId="{96DC6010-3956-4941-9E9A-E46F86250780}"/>
    <dgm:cxn modelId="{886B051C-9442-4029-86B0-36A54F1AFCF9}" srcId="{C3A364C2-1CA8-44BF-B3E4-815DB5851073}" destId="{98A74C50-95E6-4748-B856-ECEB10A72C32}" srcOrd="0" destOrd="0" parTransId="{8435C686-437A-4AC1-88BA-1D44ECD61BA3}" sibTransId="{1261AEF7-BB2D-408F-8351-1A6A34742266}"/>
    <dgm:cxn modelId="{CFB22EE5-28D9-40AA-B818-E65AE084E81D}" type="presOf" srcId="{3E9567A3-9BAF-443F-96DD-F16DF1F3C9DA}" destId="{9E5AD3C0-3100-4018-AF70-FAEA0033A23F}" srcOrd="0" destOrd="0" presId="urn:microsoft.com/office/officeart/2005/8/layout/radial3"/>
    <dgm:cxn modelId="{B6933C43-F66D-47D3-AC95-A0FBA79AF5CA}" srcId="{BF4E3A42-4674-47DE-BF04-B3E66C65A586}" destId="{C3A364C2-1CA8-44BF-B3E4-815DB5851073}" srcOrd="0" destOrd="0" parTransId="{3269DDCA-FACF-4305-821B-591AE60341D1}" sibTransId="{30398122-3EF9-42CF-85FA-91A6BF32EE04}"/>
    <dgm:cxn modelId="{8A4B27B4-FE55-462A-AB02-EDDD93BEC8A6}" srcId="{C3A364C2-1CA8-44BF-B3E4-815DB5851073}" destId="{E5038EF0-4D26-4B3D-8D4A-BF538356A50F}" srcOrd="1" destOrd="0" parTransId="{A86D1865-3B54-4A62-97DC-4A3D5CC907EB}" sibTransId="{67142EDE-AA7A-4E0D-8A04-1160E87A98AC}"/>
    <dgm:cxn modelId="{B6CA4D5D-545D-4D34-A026-75416A532175}" type="presOf" srcId="{10029E96-5460-4E50-8035-940E55C761DE}" destId="{C133A265-43B8-4584-987F-6A7BC5090384}" srcOrd="0" destOrd="0" presId="urn:microsoft.com/office/officeart/2005/8/layout/radial3"/>
    <dgm:cxn modelId="{AA5C6A9B-2457-446E-A0BC-B5F678E969AB}" type="presOf" srcId="{E5038EF0-4D26-4B3D-8D4A-BF538356A50F}" destId="{B169EAD5-5CBE-40BD-937C-E1FE47222266}" srcOrd="0" destOrd="0" presId="urn:microsoft.com/office/officeart/2005/8/layout/radial3"/>
    <dgm:cxn modelId="{30F95E05-D8C8-4BFC-A7D6-EA796AE2F583}" srcId="{C3A364C2-1CA8-44BF-B3E4-815DB5851073}" destId="{10029E96-5460-4E50-8035-940E55C761DE}" srcOrd="3" destOrd="0" parTransId="{588E1B45-E1C6-4D11-84DD-17001475BC50}" sibTransId="{44D673A6-CD07-4EAA-A9D7-6048BA244300}"/>
    <dgm:cxn modelId="{5D93EFB1-39C0-45AD-9ADE-61B1F50B1520}" type="presOf" srcId="{98A74C50-95E6-4748-B856-ECEB10A72C32}" destId="{317058BD-5BF0-4472-B3AE-73B7D8DE83C4}" srcOrd="0" destOrd="0" presId="urn:microsoft.com/office/officeart/2005/8/layout/radial3"/>
    <dgm:cxn modelId="{228ED651-CF7A-4475-A58B-D7B8454C39E2}" type="presOf" srcId="{C3A364C2-1CA8-44BF-B3E4-815DB5851073}" destId="{3F060CA7-779C-4EC7-9FFE-DF9B8EF2BDDF}" srcOrd="0" destOrd="0" presId="urn:microsoft.com/office/officeart/2005/8/layout/radial3"/>
    <dgm:cxn modelId="{26C14024-9D93-4F4B-A39B-4D38D8BC05D8}" type="presOf" srcId="{BF4E3A42-4674-47DE-BF04-B3E66C65A586}" destId="{FE606BEE-67C0-46FF-AC25-80932D9ED6C6}" srcOrd="0" destOrd="0" presId="urn:microsoft.com/office/officeart/2005/8/layout/radial3"/>
    <dgm:cxn modelId="{20CDDA18-4EBF-43FC-87F5-8EF7B35661C0}" type="presParOf" srcId="{FE606BEE-67C0-46FF-AC25-80932D9ED6C6}" destId="{CD74F4E5-D8BA-4349-9B3D-2A0E19C0CEDE}" srcOrd="0" destOrd="0" presId="urn:microsoft.com/office/officeart/2005/8/layout/radial3"/>
    <dgm:cxn modelId="{C5409A22-F43D-4698-8241-18218CE6B6B6}" type="presParOf" srcId="{CD74F4E5-D8BA-4349-9B3D-2A0E19C0CEDE}" destId="{3F060CA7-779C-4EC7-9FFE-DF9B8EF2BDDF}" srcOrd="0" destOrd="0" presId="urn:microsoft.com/office/officeart/2005/8/layout/radial3"/>
    <dgm:cxn modelId="{3CE265B2-A906-44C1-9E1A-1F69A33BDA07}" type="presParOf" srcId="{CD74F4E5-D8BA-4349-9B3D-2A0E19C0CEDE}" destId="{317058BD-5BF0-4472-B3AE-73B7D8DE83C4}" srcOrd="1" destOrd="0" presId="urn:microsoft.com/office/officeart/2005/8/layout/radial3"/>
    <dgm:cxn modelId="{6E5D44E3-D375-4FB8-8016-247DE10F43B7}" type="presParOf" srcId="{CD74F4E5-D8BA-4349-9B3D-2A0E19C0CEDE}" destId="{B169EAD5-5CBE-40BD-937C-E1FE47222266}" srcOrd="2" destOrd="0" presId="urn:microsoft.com/office/officeart/2005/8/layout/radial3"/>
    <dgm:cxn modelId="{DEF32F2C-75D6-4648-BD64-72DB262EA0C1}" type="presParOf" srcId="{CD74F4E5-D8BA-4349-9B3D-2A0E19C0CEDE}" destId="{9E5AD3C0-3100-4018-AF70-FAEA0033A23F}" srcOrd="3" destOrd="0" presId="urn:microsoft.com/office/officeart/2005/8/layout/radial3"/>
    <dgm:cxn modelId="{A8FF91F2-7FB5-488C-80C2-18A429AD9DB3}" type="presParOf" srcId="{CD74F4E5-D8BA-4349-9B3D-2A0E19C0CEDE}" destId="{C133A265-43B8-4584-987F-6A7BC5090384}" srcOrd="4" destOrd="0" presId="urn:microsoft.com/office/officeart/2005/8/layout/radial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B70ADD2-1F9E-4FFD-86E4-6B05AA4C4FE3}">
      <dsp:nvSpPr>
        <dsp:cNvPr id="0" name=""/>
        <dsp:cNvSpPr/>
      </dsp:nvSpPr>
      <dsp:spPr>
        <a:xfrm>
          <a:off x="2839447" y="494069"/>
          <a:ext cx="38290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382904" y="45720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3020562" y="537722"/>
        <a:ext cx="20675" cy="4135"/>
      </dsp:txXfrm>
    </dsp:sp>
    <dsp:sp modelId="{DAB4F74F-842C-4966-8B9C-F931107BEEBD}">
      <dsp:nvSpPr>
        <dsp:cNvPr id="0" name=""/>
        <dsp:cNvSpPr/>
      </dsp:nvSpPr>
      <dsp:spPr>
        <a:xfrm>
          <a:off x="1043404" y="436"/>
          <a:ext cx="1797843" cy="1078706"/>
        </a:xfrm>
        <a:prstGeom prst="rect">
          <a:avLst/>
        </a:prstGeom>
        <a:solidFill>
          <a:schemeClr val="accent5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5"/>
        </a:fillRef>
        <a:effectRef idx="1">
          <a:schemeClr val="accent5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فهم حاجات ورغبات الزبائن والسوق</a:t>
          </a:r>
          <a:endParaRPr lang="ar-IQ" sz="2000" kern="1200" dirty="0"/>
        </a:p>
      </dsp:txBody>
      <dsp:txXfrm>
        <a:off x="1043404" y="436"/>
        <a:ext cx="1797843" cy="1078706"/>
      </dsp:txXfrm>
    </dsp:sp>
    <dsp:sp modelId="{F563984F-3071-491D-B786-D3B9C7CD51F7}">
      <dsp:nvSpPr>
        <dsp:cNvPr id="0" name=""/>
        <dsp:cNvSpPr/>
      </dsp:nvSpPr>
      <dsp:spPr>
        <a:xfrm>
          <a:off x="1942326" y="1077342"/>
          <a:ext cx="2211347" cy="382904"/>
        </a:xfrm>
        <a:custGeom>
          <a:avLst/>
          <a:gdLst/>
          <a:ahLst/>
          <a:cxnLst/>
          <a:rect l="0" t="0" r="0" b="0"/>
          <a:pathLst>
            <a:path>
              <a:moveTo>
                <a:pt x="2211347" y="0"/>
              </a:moveTo>
              <a:lnTo>
                <a:pt x="2211347" y="208552"/>
              </a:lnTo>
              <a:lnTo>
                <a:pt x="0" y="208552"/>
              </a:lnTo>
              <a:lnTo>
                <a:pt x="0" y="382904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2991758" y="1266727"/>
        <a:ext cx="112483" cy="4135"/>
      </dsp:txXfrm>
    </dsp:sp>
    <dsp:sp modelId="{808709DF-EFCF-44E6-BCDC-BE45FA671334}">
      <dsp:nvSpPr>
        <dsp:cNvPr id="0" name=""/>
        <dsp:cNvSpPr/>
      </dsp:nvSpPr>
      <dsp:spPr>
        <a:xfrm>
          <a:off x="3254752" y="436"/>
          <a:ext cx="1797843" cy="1078706"/>
        </a:xfrm>
        <a:prstGeom prst="rect">
          <a:avLst/>
        </a:prstGeom>
        <a:solidFill>
          <a:schemeClr val="accent4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4"/>
        </a:fillRef>
        <a:effectRef idx="1">
          <a:schemeClr val="accent4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تصميم استراتيجية تسويقية مستندة الى الزبون</a:t>
          </a:r>
          <a:endParaRPr lang="ar-IQ" sz="2000" kern="1200" dirty="0"/>
        </a:p>
      </dsp:txBody>
      <dsp:txXfrm>
        <a:off x="3254752" y="436"/>
        <a:ext cx="1797843" cy="1078706"/>
      </dsp:txXfrm>
    </dsp:sp>
    <dsp:sp modelId="{A4325A0F-0A6F-42A7-8B6A-02C4082F83E9}">
      <dsp:nvSpPr>
        <dsp:cNvPr id="0" name=""/>
        <dsp:cNvSpPr/>
      </dsp:nvSpPr>
      <dsp:spPr>
        <a:xfrm>
          <a:off x="2839447" y="1986280"/>
          <a:ext cx="38290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382904" y="45720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3020562" y="2029932"/>
        <a:ext cx="20675" cy="4135"/>
      </dsp:txXfrm>
    </dsp:sp>
    <dsp:sp modelId="{BCDCA5D8-3C04-4341-B5BE-2FBEFCA38A96}">
      <dsp:nvSpPr>
        <dsp:cNvPr id="0" name=""/>
        <dsp:cNvSpPr/>
      </dsp:nvSpPr>
      <dsp:spPr>
        <a:xfrm>
          <a:off x="1043404" y="1492646"/>
          <a:ext cx="1797843" cy="1078706"/>
        </a:xfrm>
        <a:prstGeom prst="rect">
          <a:avLst/>
        </a:prstGeom>
        <a:solidFill>
          <a:schemeClr val="accent3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3"/>
        </a:fillRef>
        <a:effectRef idx="1">
          <a:schemeClr val="accent3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بناء برنامج تسويقي متكامل يعطي قيمة فائقة</a:t>
          </a:r>
          <a:endParaRPr lang="ar-IQ" sz="2000" kern="1200" dirty="0"/>
        </a:p>
      </dsp:txBody>
      <dsp:txXfrm>
        <a:off x="1043404" y="1492646"/>
        <a:ext cx="1797843" cy="1078706"/>
      </dsp:txXfrm>
    </dsp:sp>
    <dsp:sp modelId="{8C1B676B-D194-4D3D-A85B-B75BCAA1C501}">
      <dsp:nvSpPr>
        <dsp:cNvPr id="0" name=""/>
        <dsp:cNvSpPr/>
      </dsp:nvSpPr>
      <dsp:spPr>
        <a:xfrm>
          <a:off x="1942326" y="2569553"/>
          <a:ext cx="2211347" cy="382904"/>
        </a:xfrm>
        <a:custGeom>
          <a:avLst/>
          <a:gdLst/>
          <a:ahLst/>
          <a:cxnLst/>
          <a:rect l="0" t="0" r="0" b="0"/>
          <a:pathLst>
            <a:path>
              <a:moveTo>
                <a:pt x="2211347" y="0"/>
              </a:moveTo>
              <a:lnTo>
                <a:pt x="2211347" y="208552"/>
              </a:lnTo>
              <a:lnTo>
                <a:pt x="0" y="208552"/>
              </a:lnTo>
              <a:lnTo>
                <a:pt x="0" y="382904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2991758" y="2758937"/>
        <a:ext cx="112483" cy="4135"/>
      </dsp:txXfrm>
    </dsp:sp>
    <dsp:sp modelId="{559E760A-CDD6-4C7A-9CCB-2D28C445B64B}">
      <dsp:nvSpPr>
        <dsp:cNvPr id="0" name=""/>
        <dsp:cNvSpPr/>
      </dsp:nvSpPr>
      <dsp:spPr>
        <a:xfrm>
          <a:off x="3254752" y="1492646"/>
          <a:ext cx="1797843" cy="1078706"/>
        </a:xfrm>
        <a:prstGeom prst="rect">
          <a:avLst/>
        </a:prstGeom>
        <a:solidFill>
          <a:schemeClr val="accent2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بناء علاقات مربحة وخلق راحة للزبون</a:t>
          </a:r>
          <a:endParaRPr lang="ar-IQ" sz="2000" kern="1200" dirty="0"/>
        </a:p>
      </dsp:txBody>
      <dsp:txXfrm>
        <a:off x="3254752" y="1492646"/>
        <a:ext cx="1797843" cy="1078706"/>
      </dsp:txXfrm>
    </dsp:sp>
    <dsp:sp modelId="{5D6BABF9-16AD-4C89-A631-5BA10EE82633}">
      <dsp:nvSpPr>
        <dsp:cNvPr id="0" name=""/>
        <dsp:cNvSpPr/>
      </dsp:nvSpPr>
      <dsp:spPr>
        <a:xfrm>
          <a:off x="1043404" y="2984857"/>
          <a:ext cx="1797843" cy="1078706"/>
        </a:xfrm>
        <a:prstGeom prst="rect">
          <a:avLst/>
        </a:prstGeom>
        <a:solidFill>
          <a:schemeClr val="dk1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dk1"/>
        </a:fillRef>
        <a:effectRef idx="1">
          <a:schemeClr val="dk1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الحصول على قيمة من الزبون من اجل خلق الارباح</a:t>
          </a:r>
          <a:endParaRPr lang="ar-IQ" sz="2000" kern="1200" dirty="0"/>
        </a:p>
      </dsp:txBody>
      <dsp:txXfrm>
        <a:off x="1043404" y="2984857"/>
        <a:ext cx="1797843" cy="1078706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1A93871-ABDE-4116-892D-F0CD364121BC}">
      <dsp:nvSpPr>
        <dsp:cNvPr id="0" name=""/>
        <dsp:cNvSpPr/>
      </dsp:nvSpPr>
      <dsp:spPr>
        <a:xfrm>
          <a:off x="916483" y="1984"/>
          <a:ext cx="2030015" cy="1218009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البحث عن الربح</a:t>
          </a:r>
          <a:endParaRPr lang="ar-IQ" sz="2900" kern="1200" dirty="0"/>
        </a:p>
      </dsp:txBody>
      <dsp:txXfrm>
        <a:off x="916483" y="1984"/>
        <a:ext cx="2030015" cy="1218009"/>
      </dsp:txXfrm>
    </dsp:sp>
    <dsp:sp modelId="{19016A11-BC05-49E2-89A6-B95F7A937DAA}">
      <dsp:nvSpPr>
        <dsp:cNvPr id="0" name=""/>
        <dsp:cNvSpPr/>
      </dsp:nvSpPr>
      <dsp:spPr>
        <a:xfrm>
          <a:off x="3149500" y="1984"/>
          <a:ext cx="2030015" cy="1218009"/>
        </a:xfrm>
        <a:prstGeom prst="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التصور الوظيفي</a:t>
          </a:r>
          <a:endParaRPr lang="ar-IQ" sz="2900" kern="1200" dirty="0"/>
        </a:p>
      </dsp:txBody>
      <dsp:txXfrm>
        <a:off x="3149500" y="1984"/>
        <a:ext cx="2030015" cy="1218009"/>
      </dsp:txXfrm>
    </dsp:sp>
    <dsp:sp modelId="{BEC79D8D-A604-4050-BC4F-86D4830C484A}">
      <dsp:nvSpPr>
        <dsp:cNvPr id="0" name=""/>
        <dsp:cNvSpPr/>
      </dsp:nvSpPr>
      <dsp:spPr>
        <a:xfrm>
          <a:off x="916483" y="1422995"/>
          <a:ext cx="2030015" cy="1218009"/>
        </a:xfrm>
        <a:prstGeom prst="rect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مجال التركيز</a:t>
          </a:r>
          <a:endParaRPr lang="ar-IQ" sz="2900" kern="1200" dirty="0"/>
        </a:p>
      </dsp:txBody>
      <dsp:txXfrm>
        <a:off x="916483" y="1422995"/>
        <a:ext cx="2030015" cy="1218009"/>
      </dsp:txXfrm>
    </dsp:sp>
    <dsp:sp modelId="{963DB2CA-C84F-4459-ACA4-CAC281B99EF4}">
      <dsp:nvSpPr>
        <dsp:cNvPr id="0" name=""/>
        <dsp:cNvSpPr/>
      </dsp:nvSpPr>
      <dsp:spPr>
        <a:xfrm>
          <a:off x="3149500" y="1422995"/>
          <a:ext cx="2030015" cy="1218009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الموقع من انشطة المؤسسة </a:t>
          </a:r>
          <a:endParaRPr lang="ar-IQ" sz="2900" kern="1200" dirty="0"/>
        </a:p>
      </dsp:txBody>
      <dsp:txXfrm>
        <a:off x="3149500" y="1422995"/>
        <a:ext cx="2030015" cy="1218009"/>
      </dsp:txXfrm>
    </dsp:sp>
    <dsp:sp modelId="{9B727FF9-EF5C-42BD-B701-516146ED6121}">
      <dsp:nvSpPr>
        <dsp:cNvPr id="0" name=""/>
        <dsp:cNvSpPr/>
      </dsp:nvSpPr>
      <dsp:spPr>
        <a:xfrm>
          <a:off x="2032992" y="2844006"/>
          <a:ext cx="2030015" cy="1218009"/>
        </a:xfrm>
        <a:prstGeom prst="rect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تكامل وانفراد الجهود</a:t>
          </a:r>
          <a:endParaRPr lang="ar-IQ" sz="2900" kern="1200" dirty="0"/>
        </a:p>
      </dsp:txBody>
      <dsp:txXfrm>
        <a:off x="2032992" y="2844006"/>
        <a:ext cx="2030015" cy="1218009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7F6DA61-4BD1-483D-9631-7BE1C51F03F2}">
      <dsp:nvSpPr>
        <dsp:cNvPr id="0" name=""/>
        <dsp:cNvSpPr/>
      </dsp:nvSpPr>
      <dsp:spPr>
        <a:xfrm rot="5400000">
          <a:off x="-253337" y="253515"/>
          <a:ext cx="1688918" cy="1182242"/>
        </a:xfrm>
        <a:prstGeom prst="chevron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5875" tIns="15875" rIns="15875" bIns="15875" numCol="1" spcCol="1270" anchor="ctr" anchorCtr="0">
          <a:noAutofit/>
        </a:bodyPr>
        <a:lstStyle/>
        <a:p>
          <a:pPr lvl="0" algn="ctr" defTabSz="1111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500" kern="1200" dirty="0" smtClean="0"/>
            <a:t>هدف الربح</a:t>
          </a:r>
          <a:endParaRPr lang="ar-IQ" sz="2500" kern="1200" dirty="0"/>
        </a:p>
      </dsp:txBody>
      <dsp:txXfrm rot="-5400000">
        <a:off x="1" y="591298"/>
        <a:ext cx="1182242" cy="506676"/>
      </dsp:txXfrm>
    </dsp:sp>
    <dsp:sp modelId="{BF323DA2-1873-4DD2-8833-6CDD1C2A10A6}">
      <dsp:nvSpPr>
        <dsp:cNvPr id="0" name=""/>
        <dsp:cNvSpPr/>
      </dsp:nvSpPr>
      <dsp:spPr>
        <a:xfrm rot="5400000">
          <a:off x="4182682" y="-3000262"/>
          <a:ext cx="1097796" cy="7098677"/>
        </a:xfrm>
        <a:prstGeom prst="round2Same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234696" tIns="20955" rIns="20955" bIns="20955" numCol="1" spcCol="1270" anchor="ctr" anchorCtr="0">
          <a:noAutofit/>
        </a:bodyPr>
        <a:lstStyle/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دور التسويق في تحقيق الربح</a:t>
          </a:r>
          <a:endParaRPr lang="ar-IQ" sz="3300" kern="1200" dirty="0"/>
        </a:p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علاقة الربح بربحية المؤسسة</a:t>
          </a:r>
          <a:endParaRPr lang="ar-IQ" sz="3300" kern="1200" dirty="0"/>
        </a:p>
      </dsp:txBody>
      <dsp:txXfrm rot="-5400000">
        <a:off x="1182242" y="53768"/>
        <a:ext cx="7045087" cy="990616"/>
      </dsp:txXfrm>
    </dsp:sp>
    <dsp:sp modelId="{253A772A-076E-476A-81FB-64BD2B942D1E}">
      <dsp:nvSpPr>
        <dsp:cNvPr id="0" name=""/>
        <dsp:cNvSpPr/>
      </dsp:nvSpPr>
      <dsp:spPr>
        <a:xfrm rot="5400000">
          <a:off x="-253337" y="1749138"/>
          <a:ext cx="1688918" cy="1182242"/>
        </a:xfrm>
        <a:prstGeom prst="chevron">
          <a:avLst/>
        </a:prstGeom>
        <a:gradFill rotWithShape="1">
          <a:gsLst>
            <a:gs pos="0">
              <a:schemeClr val="accent4">
                <a:shade val="51000"/>
                <a:satMod val="130000"/>
              </a:schemeClr>
            </a:gs>
            <a:gs pos="80000">
              <a:schemeClr val="accent4">
                <a:shade val="93000"/>
                <a:satMod val="130000"/>
              </a:schemeClr>
            </a:gs>
            <a:gs pos="100000">
              <a:schemeClr val="accent4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4"/>
        </a:lnRef>
        <a:fillRef idx="3">
          <a:schemeClr val="accent4"/>
        </a:fillRef>
        <a:effectRef idx="2">
          <a:schemeClr val="accent4"/>
        </a:effectRef>
        <a:fontRef idx="minor">
          <a:schemeClr val="lt1"/>
        </a:fontRef>
      </dsp:style>
      <dsp:txBody>
        <a:bodyPr spcFirstLastPara="0" vert="horz" wrap="square" lIns="15875" tIns="15875" rIns="15875" bIns="15875" numCol="1" spcCol="1270" anchor="ctr" anchorCtr="0">
          <a:noAutofit/>
        </a:bodyPr>
        <a:lstStyle/>
        <a:p>
          <a:pPr lvl="0" algn="ctr" defTabSz="1111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500" kern="1200" dirty="0" smtClean="0"/>
            <a:t>هدف النمو</a:t>
          </a:r>
          <a:endParaRPr lang="ar-IQ" sz="2500" kern="1200" dirty="0"/>
        </a:p>
      </dsp:txBody>
      <dsp:txXfrm rot="-5400000">
        <a:off x="1" y="2086921"/>
        <a:ext cx="1182242" cy="506676"/>
      </dsp:txXfrm>
    </dsp:sp>
    <dsp:sp modelId="{281A174C-FCE4-47CE-A645-F7C499E4E3A0}">
      <dsp:nvSpPr>
        <dsp:cNvPr id="0" name=""/>
        <dsp:cNvSpPr/>
      </dsp:nvSpPr>
      <dsp:spPr>
        <a:xfrm rot="5400000">
          <a:off x="4182682" y="-1479521"/>
          <a:ext cx="1097796" cy="7098677"/>
        </a:xfrm>
        <a:prstGeom prst="round2SameRect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20400000"/>
          </a:lightRig>
        </a:scene3d>
        <a:sp3d contourW="6350">
          <a:bevelT w="41275" h="19050" prst="angle"/>
          <a:contourClr>
            <a:schemeClr val="accent5">
              <a:shade val="25000"/>
              <a:satMod val="150000"/>
            </a:schemeClr>
          </a:contourClr>
        </a:sp3d>
      </dsp:spPr>
      <dsp:style>
        <a:lnRef idx="0">
          <a:schemeClr val="accent5"/>
        </a:lnRef>
        <a:fillRef idx="3">
          <a:schemeClr val="accent5"/>
        </a:fillRef>
        <a:effectRef idx="3">
          <a:schemeClr val="accent5"/>
        </a:effectRef>
        <a:fontRef idx="minor">
          <a:schemeClr val="lt1"/>
        </a:fontRef>
      </dsp:style>
      <dsp:txBody>
        <a:bodyPr spcFirstLastPara="0" vert="horz" wrap="square" lIns="234696" tIns="20955" rIns="20955" bIns="20955" numCol="1" spcCol="1270" anchor="ctr" anchorCtr="0">
          <a:noAutofit/>
        </a:bodyPr>
        <a:lstStyle/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زيادة الطلب على الانتاج</a:t>
          </a:r>
          <a:endParaRPr lang="ar-IQ" sz="3300" kern="1200" dirty="0"/>
        </a:p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زيادة شدة المنافسة</a:t>
          </a:r>
          <a:endParaRPr lang="ar-IQ" sz="3300" kern="1200" dirty="0"/>
        </a:p>
      </dsp:txBody>
      <dsp:txXfrm rot="-5400000">
        <a:off x="1182242" y="1574509"/>
        <a:ext cx="7045087" cy="990616"/>
      </dsp:txXfrm>
    </dsp:sp>
    <dsp:sp modelId="{4C082E2A-F1C7-437D-9790-4E83C61085EB}">
      <dsp:nvSpPr>
        <dsp:cNvPr id="0" name=""/>
        <dsp:cNvSpPr/>
      </dsp:nvSpPr>
      <dsp:spPr>
        <a:xfrm rot="5400000">
          <a:off x="-253337" y="3244762"/>
          <a:ext cx="1688918" cy="1182242"/>
        </a:xfrm>
        <a:prstGeom prst="chevron">
          <a:avLst/>
        </a:prstGeom>
        <a:gradFill rotWithShape="1">
          <a:gsLst>
            <a:gs pos="0">
              <a:schemeClr val="dk1">
                <a:shade val="51000"/>
                <a:satMod val="130000"/>
              </a:schemeClr>
            </a:gs>
            <a:gs pos="80000">
              <a:schemeClr val="dk1">
                <a:shade val="93000"/>
                <a:satMod val="130000"/>
              </a:schemeClr>
            </a:gs>
            <a:gs pos="100000">
              <a:schemeClr val="dk1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dk1"/>
        </a:lnRef>
        <a:fillRef idx="3">
          <a:schemeClr val="dk1"/>
        </a:fillRef>
        <a:effectRef idx="2">
          <a:schemeClr val="dk1"/>
        </a:effectRef>
        <a:fontRef idx="minor">
          <a:schemeClr val="lt1"/>
        </a:fontRef>
      </dsp:style>
      <dsp:txBody>
        <a:bodyPr spcFirstLastPara="0" vert="horz" wrap="square" lIns="15875" tIns="15875" rIns="15875" bIns="15875" numCol="1" spcCol="1270" anchor="ctr" anchorCtr="0">
          <a:noAutofit/>
        </a:bodyPr>
        <a:lstStyle/>
        <a:p>
          <a:pPr lvl="0" algn="ctr" defTabSz="1111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500" kern="1200" dirty="0" smtClean="0"/>
            <a:t>هدف البقاء</a:t>
          </a:r>
          <a:endParaRPr lang="ar-IQ" sz="2500" kern="1200" dirty="0"/>
        </a:p>
      </dsp:txBody>
      <dsp:txXfrm rot="-5400000">
        <a:off x="1" y="3582545"/>
        <a:ext cx="1182242" cy="506676"/>
      </dsp:txXfrm>
    </dsp:sp>
    <dsp:sp modelId="{407C6C63-A6A1-4081-8872-9C8C1257EC05}">
      <dsp:nvSpPr>
        <dsp:cNvPr id="0" name=""/>
        <dsp:cNvSpPr/>
      </dsp:nvSpPr>
      <dsp:spPr>
        <a:xfrm rot="5400000">
          <a:off x="4182682" y="-9015"/>
          <a:ext cx="1097796" cy="7098677"/>
        </a:xfrm>
        <a:prstGeom prst="round2SameRect">
          <a:avLst/>
        </a:prstGeom>
        <a:gradFill rotWithShape="1">
          <a:gsLst>
            <a:gs pos="0">
              <a:schemeClr val="dk1">
                <a:tint val="50000"/>
                <a:satMod val="300000"/>
              </a:schemeClr>
            </a:gs>
            <a:gs pos="35000">
              <a:schemeClr val="dk1">
                <a:tint val="37000"/>
                <a:satMod val="300000"/>
              </a:schemeClr>
            </a:gs>
            <a:gs pos="100000">
              <a:schemeClr val="dk1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dk1"/>
        </a:lnRef>
        <a:fillRef idx="2">
          <a:schemeClr val="dk1"/>
        </a:fillRef>
        <a:effectRef idx="1">
          <a:schemeClr val="dk1"/>
        </a:effectRef>
        <a:fontRef idx="minor">
          <a:schemeClr val="dk1"/>
        </a:fontRef>
      </dsp:style>
      <dsp:txBody>
        <a:bodyPr spcFirstLastPara="0" vert="horz" wrap="square" lIns="234696" tIns="20955" rIns="20955" bIns="20955" numCol="1" spcCol="1270" anchor="ctr" anchorCtr="0">
          <a:noAutofit/>
        </a:bodyPr>
        <a:lstStyle/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البحث باستمرار على فرص تسويقية جديدة </a:t>
          </a:r>
          <a:endParaRPr lang="ar-IQ" sz="3300" kern="1200" dirty="0"/>
        </a:p>
        <a:p>
          <a:pPr marL="285750" lvl="1" indent="-285750" algn="r" defTabSz="14668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300" kern="1200" dirty="0" smtClean="0"/>
            <a:t>ضرورة تنظيم وتطوير نظم المعلومات التسويقية</a:t>
          </a:r>
          <a:endParaRPr lang="ar-IQ" sz="3300" kern="1200" dirty="0"/>
        </a:p>
      </dsp:txBody>
      <dsp:txXfrm rot="-5400000">
        <a:off x="1182242" y="3045015"/>
        <a:ext cx="7045087" cy="990616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F060CA7-779C-4EC7-9FFE-DF9B8EF2BDDF}">
      <dsp:nvSpPr>
        <dsp:cNvPr id="0" name=""/>
        <dsp:cNvSpPr/>
      </dsp:nvSpPr>
      <dsp:spPr>
        <a:xfrm>
          <a:off x="2581690" y="1076741"/>
          <a:ext cx="3105971" cy="3096078"/>
        </a:xfrm>
        <a:prstGeom prst="ellipse">
          <a:avLst/>
        </a:prstGeom>
        <a:solidFill>
          <a:schemeClr val="accent2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59690" tIns="59690" rIns="59690" bIns="59690" numCol="1" spcCol="1270" anchor="ctr" anchorCtr="0">
          <a:noAutofit/>
        </a:bodyPr>
        <a:lstStyle/>
        <a:p>
          <a:pPr lvl="0" algn="ctr" defTabSz="20891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700" kern="1200" dirty="0" smtClean="0"/>
            <a:t>الاسواق الرئيسة في التسويق</a:t>
          </a:r>
          <a:endParaRPr lang="ar-IQ" sz="4700" kern="1200" dirty="0"/>
        </a:p>
      </dsp:txBody>
      <dsp:txXfrm>
        <a:off x="3036549" y="1530151"/>
        <a:ext cx="2196253" cy="2189258"/>
      </dsp:txXfrm>
    </dsp:sp>
    <dsp:sp modelId="{317058BD-5BF0-4472-B3AE-73B7D8DE83C4}">
      <dsp:nvSpPr>
        <dsp:cNvPr id="0" name=""/>
        <dsp:cNvSpPr/>
      </dsp:nvSpPr>
      <dsp:spPr>
        <a:xfrm>
          <a:off x="3240355" y="72006"/>
          <a:ext cx="1811766" cy="1369120"/>
        </a:xfrm>
        <a:prstGeom prst="ellipse">
          <a:avLst/>
        </a:prstGeom>
        <a:solidFill>
          <a:schemeClr val="accent4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4"/>
        </a:fillRef>
        <a:effectRef idx="1">
          <a:schemeClr val="accent4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10223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300" kern="1200" dirty="0" smtClean="0">
              <a:solidFill>
                <a:schemeClr val="tx1"/>
              </a:solidFill>
            </a:rPr>
            <a:t>اسواق الزبون</a:t>
          </a:r>
          <a:endParaRPr lang="ar-IQ" sz="2300" kern="1200" dirty="0">
            <a:solidFill>
              <a:schemeClr val="tx1"/>
            </a:solidFill>
          </a:endParaRPr>
        </a:p>
      </dsp:txBody>
      <dsp:txXfrm>
        <a:off x="3505682" y="272509"/>
        <a:ext cx="1281112" cy="968114"/>
      </dsp:txXfrm>
    </dsp:sp>
    <dsp:sp modelId="{B169EAD5-5CBE-40BD-937C-E1FE47222266}">
      <dsp:nvSpPr>
        <dsp:cNvPr id="0" name=""/>
        <dsp:cNvSpPr/>
      </dsp:nvSpPr>
      <dsp:spPr>
        <a:xfrm>
          <a:off x="5172688" y="1868570"/>
          <a:ext cx="1669614" cy="1512422"/>
        </a:xfrm>
        <a:prstGeom prst="ellipse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10223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300" kern="1200" dirty="0" smtClean="0"/>
            <a:t>اسواق الاعمال</a:t>
          </a:r>
          <a:endParaRPr lang="ar-IQ" sz="2300" kern="1200" dirty="0"/>
        </a:p>
      </dsp:txBody>
      <dsp:txXfrm>
        <a:off x="5417197" y="2090059"/>
        <a:ext cx="1180596" cy="1069444"/>
      </dsp:txXfrm>
    </dsp:sp>
    <dsp:sp modelId="{9E5AD3C0-3100-4018-AF70-FAEA0033A23F}">
      <dsp:nvSpPr>
        <dsp:cNvPr id="0" name=""/>
        <dsp:cNvSpPr/>
      </dsp:nvSpPr>
      <dsp:spPr>
        <a:xfrm>
          <a:off x="3240360" y="3878027"/>
          <a:ext cx="1788630" cy="1239147"/>
        </a:xfrm>
        <a:prstGeom prst="ellipse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5"/>
        </a:lnRef>
        <a:fillRef idx="3">
          <a:schemeClr val="accent5"/>
        </a:fillRef>
        <a:effectRef idx="2">
          <a:schemeClr val="accent5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10223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300" kern="1200" dirty="0" smtClean="0">
              <a:solidFill>
                <a:schemeClr val="tx1"/>
              </a:solidFill>
            </a:rPr>
            <a:t>الاسواق العالمية</a:t>
          </a:r>
          <a:endParaRPr lang="ar-IQ" sz="2300" kern="1200" dirty="0">
            <a:solidFill>
              <a:schemeClr val="tx1"/>
            </a:solidFill>
          </a:endParaRPr>
        </a:p>
      </dsp:txBody>
      <dsp:txXfrm>
        <a:off x="3502299" y="4059496"/>
        <a:ext cx="1264752" cy="876209"/>
      </dsp:txXfrm>
    </dsp:sp>
    <dsp:sp modelId="{C133A265-43B8-4584-987F-6A7BC5090384}">
      <dsp:nvSpPr>
        <dsp:cNvPr id="0" name=""/>
        <dsp:cNvSpPr/>
      </dsp:nvSpPr>
      <dsp:spPr>
        <a:xfrm>
          <a:off x="1438616" y="1940580"/>
          <a:ext cx="1646478" cy="1368401"/>
        </a:xfrm>
        <a:prstGeom prst="ellipse">
          <a:avLst/>
        </a:prstGeom>
        <a:gradFill rotWithShape="1">
          <a:gsLst>
            <a:gs pos="0">
              <a:schemeClr val="accent3">
                <a:shade val="51000"/>
                <a:satMod val="130000"/>
              </a:schemeClr>
            </a:gs>
            <a:gs pos="80000">
              <a:schemeClr val="accent3">
                <a:shade val="93000"/>
                <a:satMod val="130000"/>
              </a:schemeClr>
            </a:gs>
            <a:gs pos="100000">
              <a:schemeClr val="accent3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3"/>
        </a:lnRef>
        <a:fillRef idx="3">
          <a:schemeClr val="accent3"/>
        </a:fillRef>
        <a:effectRef idx="2">
          <a:schemeClr val="accent3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10223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300" kern="1200" dirty="0" smtClean="0">
              <a:solidFill>
                <a:schemeClr val="tx1"/>
              </a:solidFill>
            </a:rPr>
            <a:t>الاسواق الحكومية </a:t>
          </a:r>
          <a:r>
            <a:rPr lang="ar-IQ" sz="2300" kern="1200" dirty="0" err="1" smtClean="0">
              <a:solidFill>
                <a:schemeClr val="tx1"/>
              </a:solidFill>
            </a:rPr>
            <a:t>واللاربحية</a:t>
          </a:r>
          <a:endParaRPr lang="ar-IQ" sz="2300" kern="1200" dirty="0">
            <a:solidFill>
              <a:schemeClr val="tx1"/>
            </a:solidFill>
          </a:endParaRPr>
        </a:p>
      </dsp:txBody>
      <dsp:txXfrm>
        <a:off x="1679737" y="2140978"/>
        <a:ext cx="1164236" cy="96760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bProcess3">
  <dgm:title val=""/>
  <dgm:desc val=""/>
  <dgm:catLst>
    <dgm:cat type="process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self" func="var" arg="dir" op="equ" val="norm">
        <dgm:alg type="snake">
          <dgm:param type="grDir" val="tL"/>
          <dgm:param type="flowDir" val="row"/>
          <dgm:param type="contDir" val="sameDir"/>
          <dgm:param type="bkpt" val="endCnv"/>
        </dgm:alg>
      </dgm:if>
      <dgm:else name="Name3">
        <dgm:alg type="snake">
          <dgm:param type="grDir" val="tR"/>
          <dgm:param type="flowDir" val="row"/>
          <dgm:param type="contDir" val="same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23"/>
      <dgm:constr type="sp" refType="w" refFor="ch" refForName="sibTrans" op="equ"/>
      <dgm:constr type="userB" for="des" forName="connectorText" refType="sp"/>
      <dgm:constr type="primFontSz" for="ch" ptType="node" op="equ" val="65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 fact="0.6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choose name="Name4">
            <dgm:if name="Name5" axis="self" func="var" arg="dir" op="equ" val="norm">
              <dgm:alg type="conn">
                <dgm:param type="connRout" val="bend"/>
                <dgm:param type="dim" val="1D"/>
                <dgm:param type="begPts" val="midR bCtr"/>
                <dgm:param type="endPts" val="midL tCtr"/>
              </dgm:alg>
            </dgm:if>
            <dgm:else name="Name6">
              <dgm:alg type="conn">
                <dgm:param type="connRout" val="bend"/>
                <dgm:param type="dim" val="1D"/>
                <dgm:param type="begPts" val="midL bCtr"/>
                <dgm:param type="endPts" val="midR tCtr"/>
              </dgm:alg>
            </dgm:else>
          </dgm:choose>
          <dgm:shape xmlns:r="http://schemas.openxmlformats.org/officeDocument/2006/relationships" type="conn" r:blip="" zOrderOff="-2">
            <dgm:adjLst/>
          </dgm:shape>
          <dgm:presOf axis="self"/>
          <dgm:constrLst>
            <dgm:constr type="begPad" val="-0.05"/>
            <dgm:constr type="endPad" val="0.9"/>
            <dgm:constr type="userA" for="ch" ref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rect" r:blip="" hideGeom="1">
              <dgm:adjLst/>
            </dgm:shape>
            <dgm:presOf axis="self"/>
            <dgm:constrLst>
              <dgm:constr type="userA"/>
              <dgm:constr type="userB"/>
              <dgm:constr type="w" refType="userA" fact="0.05"/>
              <dgm:constr type="h" refType="userB" fact="0.01"/>
              <dgm:constr type="lMarg" val="1"/>
              <dgm:constr type="rMarg" val="1"/>
              <dgm:constr type="tMarg"/>
              <dgm:constr type="bMarg"/>
            </dgm:constrLst>
            <dgm:ruleLst>
              <dgm:rule type="w" val="NaN" fact="0.6" max="NaN"/>
              <dgm:rule type="h" val="NaN" fact="0.6" max="NaN"/>
              <dgm:rule type="primFontSz" val="5" fact="NaN" max="NaN"/>
            </dgm:ruleLst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3">
  <dgm:title val=""/>
  <dgm:desc val=""/>
  <dgm:catLst>
    <dgm:cat type="relationship" pri="31000"/>
    <dgm:cat type="cycle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onstrLst/>
    <dgm:ruleLst/>
    <dgm:layoutNode name="radial">
      <dgm:varLst>
        <dgm:animLvl val="ctr"/>
      </dgm:varLst>
      <dgm:choose name="Name0">
        <dgm:if name="Name1" func="var" arg="dir" op="equ" val="norm">
          <dgm:choose name="Name2">
            <dgm:if name="Name3" axis="ch ch" ptType="node node" st="1 1" cnt="1 0" func="cnt" op="lte" val="1">
              <dgm:alg type="cycle">
                <dgm:param type="stAng" val="90"/>
                <dgm:param type="spanAng" val="360"/>
                <dgm:param type="ctrShpMap" val="fNode"/>
              </dgm:alg>
            </dgm:if>
            <dgm:else name="Name4">
              <dgm:alg type="cycle">
                <dgm:param type="stAng" val="0"/>
                <dgm:param type="spanAng" val="360"/>
                <dgm:param type="ctrShpMap" val="fNode"/>
              </dgm:alg>
            </dgm:else>
          </dgm:choose>
        </dgm:if>
        <dgm:else name="Name5">
          <dgm:alg type="cycle">
            <dgm:param type="stAng" val="0"/>
            <dgm:param type="spanAng" val="-360"/>
            <dgm:param type="ctrShpMap" val="fNode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enterShape" refType="w"/>
        <dgm:constr type="h" for="ch" forName="centerShape" refType="h"/>
        <dgm:constr type="w" for="ch" forName="node" refType="w" fact="0.5"/>
        <dgm:constr type="h" for="ch" forName="node" refType="h" fact="0.5"/>
        <dgm:constr type="sp" refType="w" refFor="ch" refForName="node" fact="-0.2"/>
        <dgm:constr type="sibSp" refType="w" refFor="ch" refForName="node" fact="-0.2"/>
        <dgm:constr type="primFontSz" for="ch" forName="centerShape" val="65"/>
        <dgm:constr type="primFontSz" for="des" forName="node" val="65"/>
        <dgm:constr type="primFontSz" for="ch" forName="node" refType="primFontSz" refFor="ch" refForName="centerShape" op="lte"/>
      </dgm:constrLst>
      <dgm:ruleLst/>
      <dgm:forEach name="Name6" axis="ch" ptType="node" cnt="1">
        <dgm:layoutNode name="centerShape" styleLbl="vennNode1">
          <dgm:alg type="tx"/>
          <dgm:shape xmlns:r="http://schemas.openxmlformats.org/officeDocument/2006/relationships" type="ellipse" r:blip="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</dgm:constrLst>
          <dgm:ruleLst>
            <dgm:rule type="primFontSz" val="5" fact="NaN" max="NaN"/>
          </dgm:ruleLst>
        </dgm:layoutNode>
        <dgm:forEach name="Name7" axis="ch" ptType="node">
          <dgm:layoutNode name="node" styleLbl="venn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3F6-6241-4F77-8AE0-221C7AF6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7FE-762A-4C43-B208-7D2E150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C17-7A4C-4767-A944-9A7D39D2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C03-69C0-4220-B879-567D815F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3652-EA1D-4F22-8D4F-54400DD4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EE0-70AA-4076-8BCE-1EFE1B75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CE4-6F81-42EE-ACD7-3924BDF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0AA-DF8C-4DF2-AE6B-A38DB57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966-E736-4A81-8ABC-68E5B3CF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CEA2-00AF-456A-A993-9D99D72F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781-001F-4F6D-91C6-DD3EFDCE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78F-AABB-47BF-84B1-BD1DB0E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5F25-9192-474C-BE5A-7DF4CDD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B1F-D932-43DE-B41B-07BD5BB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B944-F662-4A49-A9CE-933AFA0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1B9-675D-40BB-83D0-8201310E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A2F-FBEB-4354-BB78-9169EACF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06B-D57D-4D3E-859C-B535E1A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02E-ECD5-4BE4-9AD7-7A765B4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291-B91D-4AD6-8D4A-29C10B7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EE2-4653-4FEC-9A13-B17D910E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E5C-CA05-46B0-A871-0D61537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D41-C1DB-47FC-B4E4-9B11D7E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EA3-DDAE-44CA-ADE8-58FF386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2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02ADB89-C00E-4F4E-AF00-321EF01A2425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28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Franklin Gothic Book"/>
              </a:rPr>
              <a:t>انقر لتحرير أنماط النص الرئيسي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ني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لث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راب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خامس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BB0C66EB-49BA-4913-9F8C-A41A297F3422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 rot="19140000">
            <a:off x="822960" y="1699920"/>
            <a:ext cx="5648400" cy="1220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400" spc="-1" strike="noStrike" cap="all">
                <a:solidFill>
                  <a:srgbClr val="000000"/>
                </a:solidFill>
                <a:latin typeface="Franklin Gothic Medium"/>
              </a:rPr>
              <a:t>التسويق:مدخل مفاهيمي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 rot="19140000">
            <a:off x="2133360" y="2719080"/>
            <a:ext cx="7036560" cy="112428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tIns="9000"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ar-IQ" sz="5400" spc="398" strike="noStrike" cap="all">
                <a:solidFill>
                  <a:srgbClr val="000000"/>
                </a:solidFill>
                <a:latin typeface="Franklin Gothic Book"/>
              </a:rPr>
              <a:t>الدكتورة ياسمين خضي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398" strike="noStrike" cap="all">
                <a:solidFill>
                  <a:srgbClr val="000000"/>
                </a:solidFill>
                <a:latin typeface="Franklin Gothic Book"/>
              </a:rPr>
              <a:t>   ادارة الاعمال – جامعة بغد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5400" spc="398" strike="noStrike" cap="all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80500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Franklin Gothic Book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856295074"/>
              </p:ext>
            </p:extLst>
          </p:nvPr>
        </p:nvGraphicFramePr>
        <p:xfrm>
          <a:off x="611640" y="548640"/>
          <a:ext cx="828072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0850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chemeClr val="lt1"/>
                </a:solidFill>
                <a:latin typeface="Franklin Gothic Book"/>
              </a:rPr>
              <a:t>   شكراً لحسن اصغائكم</a:t>
            </a:r>
            <a:endParaRPr b="1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496720" cy="7254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6600" spc="-1" strike="noStrike" cap="all">
                <a:solidFill>
                  <a:schemeClr val="lt1"/>
                </a:solidFill>
                <a:latin typeface="Franklin Gothic Book"/>
              </a:rPr>
              <a:t>مفهوم التسويق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3960000"/>
          </a:xfrm>
          <a:prstGeom prst="rect">
            <a:avLst/>
          </a:prstGeom>
          <a:solidFill>
            <a:schemeClr val="accent5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ar-IQ" sz="4000" spc="-1" strike="noStrike">
                <a:solidFill>
                  <a:schemeClr val="lt1"/>
                </a:solidFill>
                <a:latin typeface="Franklin Gothic Book"/>
              </a:rPr>
              <a:t>عرفت جمعية التسويق الامريكية التسويق بانه: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chemeClr val="lt1"/>
                </a:solidFill>
                <a:latin typeface="Franklin Gothic Book"/>
              </a:rPr>
              <a:t>  وظيفة تنظيمية تعتمد على مجموعة من العمليات لتطوير وايصال وتسليم القيمة للزبون لإدارة العلاقة معه بطريقة تنفع المنظمة واصحاب المصالح. اي هو عملية تحديد وتشخيص وتلبية الحاجات البشرية والاجتماعية.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85672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خطوات التسويق الرئيسة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100520"/>
            <a:ext cx="8856720" cy="4776120"/>
          </a:xfrm>
          <a:prstGeom prst="rect">
            <a:avLst/>
          </a:prstGeom>
          <a:gradFill rotWithShape="0">
            <a:gsLst>
              <a:gs pos="0">
                <a:srgbClr val="dbedc6"/>
              </a:gs>
              <a:gs pos="100000">
                <a:srgbClr val="f2f9e8"/>
              </a:gs>
            </a:gsLst>
            <a:lin ang="16200000"/>
          </a:gradFill>
          <a:ln w="9360">
            <a:solidFill>
              <a:srgbClr val="7a9646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Franklin Gothic Book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19378534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27536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وجه الاختلاف بين مفهومي البيع والتسويق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985767889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27536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 اكتشاف رغبات الزبائن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التعرف على المنتجات الموجودة في السوق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 معرفة حصة المشروع في السوق من الحصة التسويقية العام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 معرفة السوق وامكانية فتح اتسواق جديد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التعرف على مستوى رضا الزبون عن السلع والخدمات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-يساعد على اتخاذ القرارات المهمة وتوفير فرص عمل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384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همية التسويق وخصائصه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856720" cy="5760360"/>
          </a:xfrm>
          <a:prstGeom prst="rect">
            <a:avLst/>
          </a:prstGeom>
          <a:solidFill>
            <a:schemeClr val="accent4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ar-IQ" sz="3600" spc="-1" strike="noStrike">
                <a:solidFill>
                  <a:schemeClr val="lt1"/>
                </a:solidFill>
                <a:latin typeface="Franklin Gothic Book"/>
              </a:rPr>
              <a:t>اما خصائص التسويق فيمكن تحديد ابرزها بانه: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1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عملية ادارية وشاملة ومتكامل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2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عملية اقتصادية واجتماعية (المسؤولية الاجتماعية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3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يتضمن القيام بمجموعة من الانشط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4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عملية تبادل منافع لأطراف متعدد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5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عملية هادفة تخضع الى التخطيط العلمي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6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عملية مستمرة وديناميكية 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7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لا يقتصر تطبيقه على المنظمات الهادفة للربح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784720" cy="7974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400" spc="-1" strike="noStrike" cap="all">
                <a:solidFill>
                  <a:schemeClr val="lt1"/>
                </a:solidFill>
                <a:latin typeface="Franklin Gothic Book"/>
              </a:rPr>
              <a:t>اهداف التسوي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184360"/>
          </a:xfrm>
          <a:prstGeom prst="rect">
            <a:avLst/>
          </a:prstGeom>
          <a:gradFill rotWithShape="0">
            <a:gsLst>
              <a:gs pos="0">
                <a:srgbClr val="c2e3ff"/>
              </a:gs>
              <a:gs pos="100000">
                <a:srgbClr val="e7f3ff"/>
              </a:gs>
            </a:gsLst>
            <a:lin ang="16200000"/>
          </a:gradFill>
          <a:ln w="9360">
            <a:solidFill>
              <a:srgbClr val="029fd9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476706676"/>
              </p:ext>
            </p:extLst>
          </p:nvPr>
        </p:nvGraphicFramePr>
        <p:xfrm>
          <a:off x="395640" y="1268640"/>
          <a:ext cx="8280720" cy="468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21480"/>
            <a:ext cx="9143640" cy="4655160"/>
          </a:xfrm>
          <a:prstGeom prst="rect">
            <a:avLst/>
          </a:prstGeom>
          <a:gradFill rotWithShape="0">
            <a:gsLst>
              <a:gs pos="0">
                <a:srgbClr val="dbedc6"/>
              </a:gs>
              <a:gs pos="100000">
                <a:srgbClr val="f2f9e8"/>
              </a:gs>
            </a:gsLst>
            <a:lin ang="16200000"/>
          </a:gradFill>
          <a:ln w="9360">
            <a:solidFill>
              <a:srgbClr val="7a9646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1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 السلع:(الاجهزة–المنتجات الغذائية- السيارات ....الخ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2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الخدمات :(خطوط الطيران- الفنادق- المطاعم ... الخ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3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الاحداث: (وقت المعارض التجارية الكبرى-كأس العالم الالعاب الاولمبية..الخ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4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التجارب:(سوق لنشر الخبرات واكتسابها 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5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الاشخاص:(وكيل او مدير شخصي او مسوقين مشهورين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شكل بيضاوي 3"/>
          <p:cNvSpPr/>
          <p:nvPr/>
        </p:nvSpPr>
        <p:spPr>
          <a:xfrm>
            <a:off x="234360" y="94680"/>
            <a:ext cx="8640720" cy="1103760"/>
          </a:xfrm>
          <a:prstGeom prst="ellipse">
            <a:avLst/>
          </a:prstGeom>
          <a:gradFill rotWithShape="0">
            <a:gsLst>
              <a:gs pos="0">
                <a:srgbClr val="c2e3ff"/>
              </a:gs>
              <a:gs pos="100000">
                <a:srgbClr val="e7f3ff"/>
              </a:gs>
            </a:gsLst>
            <a:lin ang="16200000"/>
          </a:gradFill>
          <a:ln>
            <a:solidFill>
              <a:srgbClr val="029fd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0" lang="ar-IQ" sz="6000" spc="-1" strike="noStrike">
                <a:solidFill>
                  <a:schemeClr val="dk1"/>
                </a:solidFill>
                <a:latin typeface="Franklin Gothic Book"/>
              </a:rPr>
              <a:t>ما الذي يتم تسويق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21480"/>
            <a:ext cx="9143640" cy="4655160"/>
          </a:xfrm>
          <a:prstGeom prst="rect">
            <a:avLst/>
          </a:prstGeom>
          <a:gradFill rotWithShape="0">
            <a:gsLst>
              <a:gs pos="0">
                <a:srgbClr val="dbedc6"/>
              </a:gs>
              <a:gs pos="100000">
                <a:srgbClr val="f2f9e8"/>
              </a:gs>
            </a:gsLst>
            <a:lin ang="16200000"/>
          </a:gradFill>
          <a:ln w="9360">
            <a:solidFill>
              <a:srgbClr val="7a9646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6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 الاماكن:(وكلاء بيع العقارات العامة والمصارف التجارية.. الخ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7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 الملكية الشخصية:(عقار-اسهم- سندات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8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 المنظمات:(شركات عامة او خاصة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9</a:t>
            </a: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- المعلومات:(المدارس – الجامعات الموسوعات ..الخ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شكل بيضاوي 3"/>
          <p:cNvSpPr/>
          <p:nvPr/>
        </p:nvSpPr>
        <p:spPr>
          <a:xfrm>
            <a:off x="234360" y="94680"/>
            <a:ext cx="8640720" cy="1103760"/>
          </a:xfrm>
          <a:prstGeom prst="ellipse">
            <a:avLst/>
          </a:prstGeom>
          <a:gradFill rotWithShape="0">
            <a:gsLst>
              <a:gs pos="0">
                <a:srgbClr val="c2e3ff"/>
              </a:gs>
              <a:gs pos="100000">
                <a:srgbClr val="e7f3ff"/>
              </a:gs>
            </a:gsLst>
            <a:lin ang="16200000"/>
          </a:gradFill>
          <a:ln>
            <a:solidFill>
              <a:srgbClr val="029fd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0" lang="ar-IQ" sz="6000" spc="-1" strike="noStrike">
                <a:solidFill>
                  <a:schemeClr val="dk1"/>
                </a:solidFill>
                <a:latin typeface="Franklin Gothic Book"/>
              </a:rPr>
              <a:t>ما الذي يتم تسويق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766</TotalTime>
  <Application>LibreOffice/7.4.7.2$Linux_X86_64 LibreOffice_project/40$Build-2</Application>
  <AppVersion>15.0000</AppVersion>
  <Words>369</Words>
  <Paragraphs>77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1T17:09:31Z</dcterms:created>
  <dc:creator>Maher</dc:creator>
  <dc:description/>
  <dc:language>en-US</dc:language>
  <cp:lastModifiedBy>Maher</cp:lastModifiedBy>
  <dcterms:modified xsi:type="dcterms:W3CDTF">2019-10-23T21:04:48Z</dcterms:modified>
  <cp:revision>46</cp:revision>
  <dc:subject/>
  <dc:title>الاستخبارات التسويقي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11</vt:r8>
  </property>
</Properties>
</file>