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5FA8-E4E2-49AD-A08C-3E42EBDC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A1F4-66C9-445C-9936-A834B722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CB5E-9481-451C-BDCB-A00393D02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AD6F-E459-46FE-913A-BC395BAFD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C517-BB76-4B14-B1DE-F21A070E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8F5D-C347-4415-A7E5-E64C3DC3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9648-2BDB-4A27-B4D8-CFE0E07D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5F09-719D-407F-BD1A-B849F6F5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D730-242D-4DD3-986A-C1C5020F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514A-0431-41A7-9E2D-2FEFC46E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5C02-8CBC-4DB7-9CA9-66CCD561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EB29-F634-499A-858F-6B792C52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4AEB-BD3E-42BA-A317-BA2F8F71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917F-561B-4058-B15D-D30287F6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D546-7A8D-44BF-9352-44F20DC4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4F55-8373-488E-B0C6-C598F7F51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184D-0315-4DE9-99AD-35CF5D0DD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3137-25FF-4FC6-8603-4C88242B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172F-1199-4366-958D-6249F897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8FA9-5DCA-4ECA-BBE5-E3CF55B9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DD92-0320-430F-ADC2-81AC90D7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3CC0-2FC5-4B66-A449-9166B629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B320-BECB-452E-A5F8-3BE9278E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E4FC-7D1C-460E-B57C-D9A2132B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4964" sy="54285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 hidden="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1" name="Rounded Rectangle 7" hidden="1"/>
          <p:cNvSpPr/>
          <p:nvPr/>
        </p:nvSpPr>
        <p:spPr>
          <a:xfrm>
            <a:off x="64080" y="69840"/>
            <a:ext cx="901296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3" name="Rounded Rectangle 12"/>
          <p:cNvSpPr/>
          <p:nvPr/>
        </p:nvSpPr>
        <p:spPr>
          <a:xfrm>
            <a:off x="65160" y="69840"/>
            <a:ext cx="9012960" cy="669168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AEC02B3A-876B-45FC-970D-DBDBAABF74C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"/>
          <p:cNvSpPr/>
          <p:nvPr/>
        </p:nvSpPr>
        <p:spPr>
          <a:xfrm>
            <a:off x="63000" y="1449360"/>
            <a:ext cx="9021240" cy="152712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8" name="Rectangle 9"/>
          <p:cNvSpPr/>
          <p:nvPr/>
        </p:nvSpPr>
        <p:spPr>
          <a:xfrm>
            <a:off x="63000" y="1396800"/>
            <a:ext cx="9021240" cy="120240"/>
          </a:xfrm>
          <a:prstGeom prst="rect">
            <a:avLst/>
          </a:prstGeom>
          <a:solidFill>
            <a:schemeClr val="accent1">
              <a:tint val="60000"/>
            </a:schemeClr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9" name="Rectangle 10"/>
          <p:cNvSpPr/>
          <p:nvPr/>
        </p:nvSpPr>
        <p:spPr>
          <a:xfrm>
            <a:off x="63000" y="2976480"/>
            <a:ext cx="9021240" cy="110160"/>
          </a:xfrm>
          <a:prstGeom prst="rect">
            <a:avLst/>
          </a:prstGeom>
          <a:solidFill>
            <a:schemeClr val="accent5"/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49" name="Rounded Rectangle 7"/>
          <p:cNvSpPr/>
          <p:nvPr/>
        </p:nvSpPr>
        <p:spPr>
          <a:xfrm>
            <a:off x="64080" y="69840"/>
            <a:ext cx="901296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4453AFE7-3023-41C7-B75D-B43D9B80D8F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 algn="r" rtl="1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 algn="r" rtl="1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7280" indent="-228600" algn="r" rtl="1">
              <a:lnSpc>
                <a:spcPct val="100000"/>
              </a:lnSpc>
              <a:spcBef>
                <a:spcPts val="371"/>
              </a:spcBef>
              <a:buClr>
                <a:srgbClr val="a28e6a"/>
              </a:buClr>
              <a:buSzPct val="8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lnSpc>
                <a:spcPct val="100000"/>
              </a:lnSpc>
              <a:spcBef>
                <a:spcPts val="371"/>
              </a:spcBef>
              <a:buClr>
                <a:srgbClr val="a28e6a"/>
              </a:buClr>
              <a:buFont typeface="StarSymbol"/>
              <a:buChar char="o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11640" y="3200400"/>
            <a:ext cx="7704360" cy="28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3000"/>
          </a:bodyPr>
          <a:p>
            <a:pPr algn="ctr" rtl="1">
              <a:lnSpc>
                <a:spcPct val="100000"/>
              </a:lnSpc>
              <a:spcBef>
                <a:spcPts val="581"/>
              </a:spcBef>
              <a:tabLst>
                <a:tab algn="l" pos="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Perpetua"/>
              </a:rPr>
              <a:t>Omar Abdulmohsin Al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81"/>
              </a:spcBef>
              <a:tabLst>
                <a:tab algn="l" pos="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Perpetua"/>
              </a:rPr>
              <a:t>f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81"/>
              </a:spcBef>
              <a:tabLst>
                <a:tab algn="l" pos="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Perpetua"/>
              </a:rPr>
              <a:t>M.Sc. – lev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81"/>
              </a:spcBef>
              <a:tabLst>
                <a:tab algn="l" pos="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Perpetua"/>
              </a:rPr>
              <a:t>1</a:t>
            </a:r>
            <a:r>
              <a:rPr b="0" lang="en-US" sz="5400" spc="-1" strike="noStrike" baseline="30000">
                <a:solidFill>
                  <a:srgbClr val="ff0000"/>
                </a:solidFill>
                <a:latin typeface="Perpetua"/>
              </a:rPr>
              <a:t>st</a:t>
            </a:r>
            <a:r>
              <a:rPr b="0" lang="en-US" sz="5400" spc="-1" strike="noStrike">
                <a:solidFill>
                  <a:srgbClr val="ff0000"/>
                </a:solidFill>
                <a:latin typeface="Perpetua"/>
              </a:rPr>
              <a:t> Semeste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81"/>
              </a:spcBef>
              <a:tabLst>
                <a:tab algn="l" pos="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Perpetua"/>
              </a:rPr>
              <a:t>2020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971640" y="1052640"/>
            <a:ext cx="6800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rm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5000" spc="-1" strike="noStrike" u="sng">
                <a:solidFill>
                  <a:srgbClr val="002060"/>
                </a:solidFill>
                <a:uFillTx/>
                <a:latin typeface="Franklin Gothic Book"/>
              </a:rPr>
              <a:t>Mathematical Statistics</a:t>
            </a:r>
            <a:endParaRPr b="0" lang="en-US" sz="5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1124640"/>
            <a:ext cx="64004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 fontScale="95000"/>
          </a:bodyPr>
          <a:p>
            <a:pPr indent="0" rtl="1">
              <a:lnSpc>
                <a:spcPct val="100000"/>
              </a:lnSpc>
              <a:buNone/>
            </a:pPr>
            <a:r>
              <a:rPr b="1" lang="en-US" sz="6000" spc="-1" strike="noStrike" u="sng">
                <a:solidFill>
                  <a:srgbClr val="7030a0"/>
                </a:solidFill>
                <a:uFillTx/>
                <a:latin typeface="Franklin Gothic Book"/>
              </a:rPr>
              <a:t>Lesson One</a:t>
            </a:r>
            <a:endParaRPr b="0" lang="en-US" sz="6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2853000"/>
            <a:ext cx="6400440" cy="17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Perpetua"/>
              </a:rPr>
              <a:t>Transformations</a:t>
            </a:r>
            <a:endParaRPr b="0" lang="en-US" sz="6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24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lvl="1" marL="548640" indent="-228600" algn="just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Discrete Random Variable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 algn="just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4800" spc="-1" strike="noStrike">
                <a:solidFill>
                  <a:srgbClr val="000000"/>
                </a:solidFill>
                <a:latin typeface="Perpetu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f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a r.v. has pmf and given any function  there is (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one – to – one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) points of x and there are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corresponding points. We call it: “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one – to – one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” transformation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 algn="just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hen,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100000"/>
              </a:lnSpc>
              <a:spcBef>
                <a:spcPts val="581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100000"/>
              </a:lnSpc>
              <a:spcBef>
                <a:spcPts val="581"/>
              </a:spcBef>
              <a:buNone/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51640" y="476640"/>
            <a:ext cx="8434800" cy="59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96280" indent="-296280" algn="just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Exampl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t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nd dist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Solu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just" rtl="1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just" rtl="1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just" rtl="1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just" rtl="1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just" rtl="1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just" rtl="1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just" rtl="1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just" rtl="1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just" rtl="1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just" rtl="1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240" cy="55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lvl="1" marL="548640" indent="-228600" algn="just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1" lang="en-US" sz="3900" spc="-1" strike="noStrike" u="sng">
                <a:solidFill>
                  <a:srgbClr val="000000"/>
                </a:solidFill>
                <a:uFillTx/>
                <a:latin typeface="Perpetua"/>
              </a:rPr>
              <a:t>Continuous Random Variable  </a:t>
            </a:r>
            <a:endParaRPr b="0" lang="en-US" sz="39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f  a r.v. has pdf  and given function , then: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If: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hich is jacobian or jacobi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2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 algn="just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Example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et has   exponential distribution  (λ=1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Find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Equity">
  <a:themeElements>
    <a:clrScheme name="Equity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Equity">
  <a:themeElements>
    <a:clrScheme name="Equity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quity</Template>
  <TotalTime>87</TotalTime>
  <Application>LibreOffice/7.4.7.2$Linux_X86_64 LibreOffice_project/40$Build-2</Application>
  <AppVersion>15.0000</AppVersion>
  <Words>439</Words>
  <Paragraphs>45</Paragraphs>
  <Company>Microsoft (C)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5T19:23:08Z</dcterms:created>
  <dc:creator>DR.Ahmed Saker</dc:creator>
  <dc:description/>
  <dc:language>en-US</dc:language>
  <cp:lastModifiedBy>DR.Ahmed Saker</cp:lastModifiedBy>
  <dcterms:modified xsi:type="dcterms:W3CDTF">2019-12-26T11:04:46Z</dcterms:modified>
  <cp:revision>14</cp:revision>
  <dc:subject/>
  <dc:title>Lecture O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6</vt:r8>
  </property>
</Properties>
</file>