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0E7-82A1-4475-9F00-1AC0464C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CC4-1B52-4598-A878-EF36235A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606-E242-4CDA-AB8A-D7CD5FC8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E2C-6D45-4BA6-A04F-8A7DB6E7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79FA-A4E9-44A7-921E-6B49CCF6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4143-C0A0-465D-8B66-F4332EBC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94C2-C16E-41FA-BB1B-7012B302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4F33-F651-4D6A-8C4C-7543C269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6087-FC6C-45CD-81B5-153CB03B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C7E6-0A84-4FA4-B802-A04CC05B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560F-27D3-4CF0-BC7B-AF8ABE1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0B3-EA05-4F86-92CE-E80FDBB1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EAAA-A282-40FF-B3BB-EF90270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706A-6147-4336-8842-C2C51CD0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4EDE-1865-4BA8-89E8-2A38E806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1322-BC2E-4471-9087-F7CC2166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85F3-3F2A-4739-BBDC-67597E26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BB4-AB47-457C-ADA2-833E1432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CF9-41E6-445A-B439-7737788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EB1-BEE6-470D-A8B0-E40445FA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067-8F86-44F1-8443-B44FFA11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181-1569-4A09-8E21-1277966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B36-4E05-4C47-8F6D-AC9F8FE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746-DBED-4AEF-901C-1D19C828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09E30C4B-F987-4CB3-BA8B-F6287EF4A9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7CE58613-14E1-4FA1-88F8-49F32445394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 algn="r" rtl="1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 algn="r" rtl="1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27560" y="3632400"/>
            <a:ext cx="64004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algn="ctr" rtl="1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Perpetua"/>
              </a:rPr>
              <a:t>Truncated Distrib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002060"/>
                </a:solidFill>
                <a:uFillTx/>
                <a:latin typeface="Franklin Gothic Book"/>
              </a:rPr>
              <a:t>Lesson Two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332640"/>
            <a:ext cx="77720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et  are real value (constants), then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Left trun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Right trun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Two sides trun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332640"/>
            <a:ext cx="8146800" cy="56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 X ~ Exp(2)  , then find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f(x / x &gt; 1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i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f(x / x &lt; 1.2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ii.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(x/  1 &lt;x&lt;1.2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984680" y="4223520"/>
            <a:ext cx="5179320" cy="16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80800" y="836640"/>
            <a:ext cx="6199200" cy="187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893160" y="3215520"/>
            <a:ext cx="6342840" cy="17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36</TotalTime>
  <Application>LibreOffice/7.4.7.2$Linux_X86_64 LibreOffice_project/40$Build-2</Application>
  <AppVersion>15.0000</AppVersion>
  <Words>133</Words>
  <Paragraphs>21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19:40:54Z</dcterms:created>
  <dc:creator>DR.Ahmed Saker</dc:creator>
  <dc:description/>
  <dc:language>en-US</dc:language>
  <cp:lastModifiedBy>DR.Ahmed Saker</cp:lastModifiedBy>
  <dcterms:modified xsi:type="dcterms:W3CDTF">2019-12-26T11:44:04Z</dcterms:modified>
  <cp:revision>12</cp:revision>
  <dc:subject/>
  <dc:title>Lecture 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