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6BA-4398-4930-BEEB-51258763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F42-AA53-4F34-8EF4-5D070CC6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0F3-2DEF-429C-9CA8-06217847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DD9-CE7D-477C-8A59-2FDD95D0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C8F6-D3D9-436B-B969-7DE11560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32B8-436D-45D3-8CD0-2F2B824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73B5-72E4-4A3E-A1E3-B765984F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D767-E932-4AF1-BC42-FC163C48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9116-7B1A-48E5-96A2-6BFFF1CE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19DE-BCC3-4AE1-A706-3B12D14B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F665-9798-49AA-9513-2D4768A7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502-14B2-441B-9928-5BCBC0B3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5E70-90E7-4D70-9ADD-1F3AEBC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C31A-4C3D-465C-8407-235A063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1DE7-752E-4ACF-BBBF-7F5EC9F3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B098-B274-43BB-9AD3-0DF3E928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0DB5-7B46-4AC0-A7AD-AAFE3DAE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7B1-0065-463B-97E6-A228E47F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D8B-6190-4D70-B763-00431CBE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BE6-495B-4A9C-9C35-9101D2CE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C2A-389B-4B9A-9997-78535C2B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932-36CB-4003-A8EF-90E6E708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654-1A42-44F8-A708-CE964CDC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CA1-948B-4AE0-8305-7A75F499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2EABE3D5-980E-4FD9-8F02-0674A00302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A6AB836A-6531-454B-A11C-C54A00810E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 algn="r" rtl="1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 algn="r" rtl="1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87600" y="3717000"/>
            <a:ext cx="62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Perpetua"/>
              </a:rPr>
              <a:t>Order Statistics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002060"/>
                </a:solidFill>
                <a:uFillTx/>
                <a:latin typeface="Franklin Gothic Book"/>
              </a:rPr>
              <a:t>Lesson Three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us have random sample follows a certain probability distributio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then, we can defin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829080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oint distribution of order statistics of  i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distribution of (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j</a:t>
            </a:r>
            <a:r>
              <a:rPr b="1" lang="en-US" sz="26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) order statistics i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distribution of the smallest observation  i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ile the distribution of the largest observation i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9264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amp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represent random sample of beta distribution with. Find the distribution of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Largest order statistic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i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mallest order statistic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ii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v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Third order statistic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25</TotalTime>
  <Application>LibreOffice/7.4.7.2$Linux_X86_64 LibreOffice_project/40$Build-2</Application>
  <AppVersion>15.0000</AppVersion>
  <Words>481</Words>
  <Paragraphs>33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0:09:51Z</dcterms:created>
  <dc:creator>DR.Ahmed Saker</dc:creator>
  <dc:description/>
  <dc:language>en-US</dc:language>
  <cp:lastModifiedBy>DR.Ahmed Saker</cp:lastModifiedBy>
  <dcterms:modified xsi:type="dcterms:W3CDTF">2019-12-26T11:44:15Z</dcterms:modified>
  <cp:revision>14</cp:revision>
  <dc:subject/>
  <dc:title>Lecture Th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