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A83-C3F9-4EF7-8535-F7E49F10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C75-B8AB-40E9-A458-E285E1C1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0A7-454D-4C30-B2F5-8876582D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1AA-BCA9-4ADB-AEE7-2A42578F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490F-B684-43E3-A6D9-FC582FDF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C44C-618B-4E37-93F0-8F07AAB8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FFB0-67C2-4545-871E-37B3D89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5A3D-B74C-4435-B802-F1035A23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F0D5-7422-4B75-B0AA-6D9DBAAD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6C3B-BA95-4636-99D4-C31ED092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736B-1E3D-40CE-ADF6-E48BEC18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963-46B7-46AE-ABAA-26DD5E4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6E28-CEFA-44F8-8B9D-81055C48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C3C0-D434-45EB-ACC4-D1BFB0B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A85A-6946-4426-B529-69223030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0194-365A-4602-8F1A-AC9410F5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1234-9C3B-4AEB-B7E8-386672DA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E79-53A6-4810-90A3-84BF4D23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A26-4AC2-4D78-8B65-4C693072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360-4E8C-4A79-BB23-F30EBB49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D55-341B-4389-899A-51752E3B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C36-E998-437E-B5D5-7E0CE07E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407-A048-4889-ADCF-9BBB594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732-A53B-4C4A-9CA0-13C5A420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EBFF1912-B341-441B-B498-33F07768C53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FFF83228-0383-4C11-8BAA-B123EE4AB5B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 algn="r" rtl="1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 algn="r" rtl="1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27640" y="3776400"/>
            <a:ext cx="734436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Perpetua"/>
              </a:rPr>
              <a:t>Marginal Distrib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002060"/>
                </a:solidFill>
                <a:uFillTx/>
                <a:latin typeface="Franklin Gothic Book"/>
              </a:rPr>
              <a:t>Lesson Five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640" y="260640"/>
            <a:ext cx="8290800" cy="59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6280" indent="-29628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Perpetua"/>
              </a:rPr>
              <a:t>Marginal probability function</a:t>
            </a: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r(x) is discrete marginal probability, the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 f(x) is continuous marginal probability, the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218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re X and Y independent? Why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For the following jpd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re  independent 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3640" y="476640"/>
            <a:ext cx="8002800" cy="55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Let x and y are two r.v.'s then, x and y are independent iff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[for continuous r.v.]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[for discrete  r.v.]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20</TotalTime>
  <Application>LibreOffice/7.4.7.2$Linux_X86_64 LibreOffice_project/40$Build-2</Application>
  <AppVersion>15.0000</AppVersion>
  <Words>242</Words>
  <Paragraphs>23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0:40:11Z</dcterms:created>
  <dc:creator>DR.Ahmed Saker</dc:creator>
  <dc:description/>
  <dc:language>en-US</dc:language>
  <cp:lastModifiedBy>DR.Ahmed Saker</cp:lastModifiedBy>
  <dcterms:modified xsi:type="dcterms:W3CDTF">2019-12-26T11:44:39Z</dcterms:modified>
  <cp:revision>13</cp:revision>
  <dc:subject/>
  <dc:title>Lecture F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