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B57-6A76-438B-9238-46235374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9E5-DFB2-4FE9-99C7-C1F7EDAC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EBA-86C7-443D-BB7E-6ED43529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4D0-EAD9-425E-AAA8-276EA3F5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35C2-FE14-40EF-8B7A-BE0D0E57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F3D8-3A2D-4A6D-8A4C-151C195D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49FE-6B9C-4020-BE71-52429F23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491D-67E3-4616-945A-B8CE0F39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7C4B-A09E-4DAC-A69C-12AB6C4F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F401-B189-4B30-A461-E7BFA279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DBE9-4584-4BFC-AD38-963FF08B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088-2EC1-47F9-9A3C-625925E3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464C-9BE2-4733-AC24-889022AA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ED4D-8FAD-4066-A4C8-26772DF9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E5C1-7D9B-4F26-A0E6-2ECAA89C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9EA4-C44F-497B-B36A-AD406C39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0130-4B05-4429-BFA3-ADB31C25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C52-B2F4-4555-94E2-66FB1527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A54-E4D0-40CA-A8CF-E4313572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819-A4BD-4DB6-8CB2-9633B8C8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30F-EDA4-4E99-89E7-0E1D9D4D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8A4-4922-4FFB-84B2-94B2FB8D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527-E5F9-402E-A7F4-3B715958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EBC-34A1-45D1-B238-021E3948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Rounded Rectangle 7" hidden="1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Rounded Rectangle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EC15E8B7-1D75-408A-B6EC-1B9BCD7522F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Rounded Rectangle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1845D805-06C1-4EEF-89F8-A0C2CAE4F47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 algn="r" rtl="1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 algn="r" rtl="1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 algn="r" rtl="1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3640" y="3920400"/>
            <a:ext cx="777636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algn="ctr" rtl="1">
              <a:lnSpc>
                <a:spcPct val="100000"/>
              </a:lnSpc>
              <a:spcBef>
                <a:spcPts val="371"/>
              </a:spcBef>
              <a:tabLst>
                <a:tab algn="l" pos="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Perpetua"/>
              </a:rPr>
              <a:t>Covariance of Distrib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7200" spc="-1" strike="noStrike" u="sng">
                <a:solidFill>
                  <a:srgbClr val="002060"/>
                </a:solidFill>
                <a:uFillTx/>
                <a:latin typeface="Franklin Gothic Book"/>
              </a:rPr>
              <a:t>Lesson Seven</a:t>
            </a:r>
            <a:endParaRPr b="0" lang="en-US" sz="7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594360"/>
            <a:ext cx="822924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70800" indent="-37080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Arial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Perpetua"/>
              </a:rPr>
              <a:t>Covariance of distribution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Let x &amp; Y are two r.v.'s , then,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Theore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640" y="332640"/>
            <a:ext cx="8290800" cy="56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Theor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r are "independent" r.v.'s, the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roo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332640"/>
            <a:ext cx="8146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Theor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r are two r.v.'s, tha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 are independent, tha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roo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milarl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696464"/>
                </a:solidFill>
                <a:uFillTx/>
                <a:latin typeface="Franklin Gothic Book"/>
              </a:rPr>
              <a:t>Correlation of distribution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34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 are two r.v. s , then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20</TotalTime>
  <Application>LibreOffice/7.4.7.2$Linux_X86_64 LibreOffice_project/40$Build-2</Application>
  <AppVersion>15.0000</AppVersion>
  <Words>602</Words>
  <Paragraphs>47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21:07:00Z</dcterms:created>
  <dc:creator>DR.Ahmed Saker</dc:creator>
  <dc:description/>
  <dc:language>en-US</dc:language>
  <cp:lastModifiedBy>DR.Ahmed Saker</cp:lastModifiedBy>
  <dcterms:modified xsi:type="dcterms:W3CDTF">2019-12-26T11:45:02Z</dcterms:modified>
  <cp:revision>9</cp:revision>
  <dc:subject/>
  <dc:title>Lecture Sev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</vt:r8>
  </property>
</Properties>
</file>