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13D-D769-4CBD-9084-422EA78C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4F6-4619-4928-8CBD-17D351BF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AF7-6C05-4741-8112-8FC69D42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5EF-410E-4FC5-A7B5-D9ABD266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8FA7-8E5E-472D-8B14-09931DEE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BEB3-7039-4F30-A197-3D9F6695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C642-3207-4F9C-8A49-6E1FC2F9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1B27-2D4C-4579-A35B-79235A7D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2B64-F3EF-44E6-A2BC-84F5C3F2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F134-713C-430F-A96B-F7FD7AFB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A55C-EF72-487E-A8F8-3E2FD39C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47A-5B95-4085-ACE1-C2489FE5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2CB5-E264-43E3-939E-DF9E7F6E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6D86-F13E-462F-9FCA-EE450495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76D4-84BA-427B-8A0A-338D17F5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302D-7AB7-4DF4-8D53-BE3CFD13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BA45-2288-4F11-AE3C-B4445508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7B1-219C-41EE-B292-63BA7FE1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2F6-79BD-4051-849C-6B459FF4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65B1-338F-43E9-8107-0360984B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321-B191-4744-BEA4-2BDE5E20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D699-3C07-4437-8789-3FE8FDAA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8A0-21C7-4C7B-A8EE-CBD2AA1F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322-2865-45DA-B50D-F0B8512A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4964" sy="54285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Rounded Rectangle 7" hidden="1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Rounded Rectangle 12"/>
          <p:cNvSpPr/>
          <p:nvPr/>
        </p:nvSpPr>
        <p:spPr>
          <a:xfrm>
            <a:off x="65160" y="69840"/>
            <a:ext cx="901296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0CCA1D48-E4D8-4137-939F-B54BFF59541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63000" y="1449360"/>
            <a:ext cx="902124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63000" y="1396800"/>
            <a:ext cx="902124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63000" y="2976480"/>
            <a:ext cx="902124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49" name="Rounded Rectangle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DA8909F6-3AA7-4778-9C7D-34FE85357D9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 algn="r" rtl="1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 algn="r" rtl="1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 algn="r" rtl="1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19640" y="3704400"/>
            <a:ext cx="6724080" cy="80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Perpetua"/>
              </a:rPr>
              <a:t>Distribution of  Two 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7200" spc="-1" strike="noStrike" u="sng">
                <a:solidFill>
                  <a:srgbClr val="002060"/>
                </a:solidFill>
                <a:uFillTx/>
                <a:latin typeface="Franklin Gothic Book"/>
              </a:rPr>
              <a:t>Lesson Eight</a:t>
            </a:r>
            <a:r>
              <a:rPr b="1" lang="en-US" sz="7200" spc="-1" strike="noStrike" u="sng">
                <a:solidFill>
                  <a:srgbClr val="7030a0"/>
                </a:solidFill>
                <a:uFillTx/>
                <a:latin typeface="Franklin Gothic Boo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2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iscrete Variab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t   be two stochastic independent r.v.'s, and  be the joint pf of them, and A be two dimensional set of points at which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t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fine a one – to- one transformation which maps A to  onto the space B of 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joint pmf of the two new random variables ar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d given by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re   are the single–valued inverse of  and from this jpmf We may obtain the margival pmf of  by summing over  or the marginal pmf of  by summing over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1640" y="620640"/>
            <a:ext cx="7988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Continuous Variable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t  and  be two independent C.r.V.'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ith jpdf. . Let A denotes the two dimensional set, ant let  and  be two r.v.'s defined on two dimensional set B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inverse function of  and  in terms of  and  can be denoted by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1640" y="332640"/>
            <a:ext cx="8074800" cy="56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e assume that the first order partial derivatives of these inverse function with respect to  are contimous and the determinant of order 2 which is given by; "Jacobiam" or "Jacobi"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determinant is called "Jacobian" of the transformation. Then, the jpdf of  and  com be given by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Rectangle 2"/>
              <p:cNvSpPr txBox="1"/>
              <p:nvPr/>
            </p:nvSpPr>
            <p:spPr>
              <a:xfrm>
                <a:off x="2483640" y="1932480"/>
                <a:ext cx="3555000" cy="13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𝑥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𝑥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𝑦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𝑦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𝜕</m:t>
                                  </m:r>
                                  <m:sSub>
                                    <m:e>
                                      <m:r>
                                        <m:t xml:space="preserve">𝑥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𝜕</m:t>
                                  </m:r>
                                  <m:sSub>
                                    <m:e>
                                      <m:r>
                                        <m:t xml:space="preserve">𝑦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𝜕</m:t>
                                  </m:r>
                                  <m:sSub>
                                    <m:e>
                                      <m:r>
                                        <m:t xml:space="preserve">𝑥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𝜕</m:t>
                                  </m:r>
                                  <m:sSub>
                                    <m:e>
                                      <m:r>
                                        <m:t xml:space="preserve">𝑦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𝜕</m:t>
                                  </m:r>
                                  <m:sSub>
                                    <m:e>
                                      <m:r>
                                        <m:t xml:space="preserve">𝑥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𝜕</m:t>
                                  </m:r>
                                  <m:sSub>
                                    <m:e>
                                      <m:r>
                                        <m:t xml:space="preserve">𝑦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𝜕</m:t>
                                  </m:r>
                                  <m:sSub>
                                    <m:e>
                                      <m:r>
                                        <m:t xml:space="preserve">𝑥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𝜕</m:t>
                                  </m:r>
                                  <m:sSub>
                                    <m:e>
                                      <m:r>
                                        <m:t xml:space="preserve">𝑦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21</TotalTime>
  <Application>LibreOffice/7.4.7.2$Linux_X86_64 LibreOffice_project/40$Build-2</Application>
  <AppVersion>15.0000</AppVersion>
  <Words>682</Words>
  <Paragraphs>26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21:18:21Z</dcterms:created>
  <dc:creator>DR.Ahmed Saker</dc:creator>
  <dc:description/>
  <dc:language>en-US</dc:language>
  <cp:lastModifiedBy>DR.Ahmed Saker</cp:lastModifiedBy>
  <dcterms:modified xsi:type="dcterms:W3CDTF">2019-12-26T11:51:38Z</dcterms:modified>
  <cp:revision>6</cp:revision>
  <dc:subject/>
  <dc:title>Lecture Eigh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