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23A2-4554-4DE8-B61F-373B848B6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6F1A-E398-4AB9-82F4-D991D817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5445-E656-4634-A225-0D4FF5E9E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1412-ADE6-4847-AF03-8852A5695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88A9-0B9D-4D9D-B8FE-8C1EDFE57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B5DA-A71D-4E0E-A98B-91554B32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0EE3-302C-4888-B386-9F8FA8A1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7C68-342F-4AEE-B4E6-02C42B7B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20B6-521C-4FA1-B44E-0BCC8C89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4ED1-3432-49CB-A25D-38B47822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7EAC-4EEE-4530-860F-9766C504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AFC1-D312-433F-B03C-0B60755C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26B7-235A-4B4D-8C4E-905C6A42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3036-338E-4987-866B-AF45C0C6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C97A-AACB-4734-BFD1-4A5112AF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91FC-E15B-4F76-B0D0-5B528D9EE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F686-3C02-42E2-AE17-75359FD7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B0E90-D963-4746-BD5F-5B358E4F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CEB52-866F-4AFD-9D46-1F544CC4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B445B-1CD7-471A-B504-22CA5FDC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83BB9-D0D1-4A30-8750-34A5CAD8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A132B-A6A5-48A3-B5E9-CB5BA608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1D9A-9847-43CA-AC34-4B14A899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B702E-7509-4ECD-85B8-A77371B1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81E38-75C3-4482-A11A-AD4551AD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E9233-13B1-42A0-8149-C021F363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F7C31-DBC6-492B-AA85-BD2B64AD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C96AA-3FC0-48D5-9312-878D6D2E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1F15A-069A-4775-AE71-8125A3AA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40C82-FDA8-4787-AC6F-C46BB8E19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59E64-8FB2-4DF9-8046-3C66A62C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11BE0-03A7-41FB-AFE4-0F514B39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334C4-49D6-4DBB-8695-650255EB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F755-E675-4CC2-BEDB-90A16708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4C75A-6CD9-4ACA-BE61-F4B488FB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5DB97-C1B3-4FC3-96DB-7047DB08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70928-D718-4574-99E5-9C507F42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99DF8-5CAF-4444-A823-47C1EFD4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2AA8C-D822-4D88-B7CF-1C84F7C7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9C818-463D-4CDE-91B9-4A454C82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87054-8591-4DAC-B8D2-6FCA79C4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A47A6-3152-4854-B7E1-5039FE52E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FE386-7770-4AFD-8D7F-AD425C76D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93EA-461D-43AB-BC1F-03DC0C5D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31E0-2AFD-41C8-A7B6-ED7DD289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2D5C-FB8B-49C4-ACFD-DCC99C6B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C545-F696-409F-B0CD-80669B11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A6EE-0D94-4CDA-9DAE-9F2D4996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90000"/>
              </a:lnSpc>
              <a:buNone/>
            </a:pPr>
            <a:r>
              <a:rPr b="0" lang="ar-SA" sz="6000" spc="-1" strike="noStrike">
                <a:solidFill>
                  <a:srgbClr val="000000"/>
                </a:solidFill>
                <a:latin typeface="Calibri Light"/>
              </a:rPr>
              <a:t>انقر لتحرير نمط العنوان الرئيس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</a:tabLst>
            </a:pPr>
            <a:fld id="{6A4E0A43-7EC2-4E4E-8011-0DF992D4FEF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 algn="r" rtl="1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 algn="r" rtl="1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 algn="r" rtl="1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 algn="r" rtl="1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 algn="r" rtl="1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 algn="r" rtl="1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</a:rPr>
              <a:t>انقر لتحرير نمط العنوان الرئي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حرير أنماط النص الرئيس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مستوى الثا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ستوى الثال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راب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خام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</a:tabLst>
            </a:pPr>
            <a:fld id="{7F0EF280-448C-40F1-937D-E8F0810627A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</a:rPr>
              <a:t>انقر لتحرير نمط العنوان الرئي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حرير أنماط النص الرئيس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مستوى الثا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ستوى الثال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راب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خام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</a:tabLst>
            </a:pPr>
            <a:fld id="{D6095796-D6CD-4AD8-A68F-2786BFB84B6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</a:rPr>
              <a:t>انقر لتحرير نمط العنوان الرئي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حرير أنماط النص الرئيس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مستوى الثا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ستوى الثال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راب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خام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</a:tabLst>
            </a:pPr>
            <a:fld id="{7C033A97-5AFD-49FA-8C19-A2365F5D4A9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1">
            <a:lumMod val="60000"/>
            <a:lumOff val="4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393840"/>
            <a:ext cx="9143640" cy="253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5400" spc="-1" strike="noStrike">
                <a:solidFill>
                  <a:srgbClr val="ff0000"/>
                </a:solidFill>
                <a:latin typeface="Calibri Light"/>
              </a:rPr>
              <a:t>الارتباط الخطي البسيط</a:t>
            </a:r>
            <a:br>
              <a:rPr sz="4000"/>
            </a:br>
            <a:r>
              <a:rPr b="1" lang="en-US" sz="5400" spc="-1" strike="noStrike">
                <a:solidFill>
                  <a:srgbClr val="ff0000"/>
                </a:solidFill>
                <a:latin typeface="Calibri Light"/>
              </a:rPr>
              <a:t>Simple Linear Correlation</a:t>
            </a:r>
            <a:br>
              <a:rPr sz="4000"/>
            </a:br>
            <a:r>
              <a:rPr b="1" lang="ar-IQ" sz="4000" spc="-1" strike="noStrike">
                <a:solidFill>
                  <a:srgbClr val="ff0000"/>
                </a:solidFill>
                <a:latin typeface="Calibri Light"/>
              </a:rPr>
              <a:t>المحاضرة الثالث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523880" y="3192120"/>
            <a:ext cx="9143640" cy="319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اعداد</a:t>
            </a:r>
            <a:r>
              <a:rPr b="0" lang="en-US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الدكتورة هند وليد عبد الرحم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كلية الإدارة والاقتصاد / جامعة بغدا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قسم الإدارة الصناعية / المرحلة الاول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87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3600" spc="-1" strike="noStrike">
                <a:solidFill>
                  <a:srgbClr val="000000"/>
                </a:solidFill>
                <a:latin typeface="Calibri Light"/>
              </a:rPr>
              <a:t>الارتباط الخطي البسي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44520"/>
            <a:ext cx="10515240" cy="55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Calibri"/>
              </a:rPr>
              <a:t>معامل الارتباط الجزئي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rtial Correlation Coeffic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يستخدم معامل الارتباط الجزئي في حالة وجود ثلاث متغيرات وهو يقيس درجة العلاقة بين متغيرين اثنين بعد تثبيت او استبعاد اثر متغير ثالث  فإذا كان لدينا المتغيرات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واردنا دراسة العلاقة بين المتغيرين  مع  باستبعاد أثر المتغير  فسيكون معامل الارتباط الجزئي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9040" indent="-239040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……………. 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حيث إن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9040" indent="-23904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يمثل معامل الارتباط البسيط بين المتغيرين  م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9040" indent="-23904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يمثل معامل الارتباط البسيط بين المتغيرين  م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9040" indent="-23904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يمثل معامل الارتباط البسيط بين المتغيرين  م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09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3600" spc="-1" strike="noStrike">
                <a:solidFill>
                  <a:srgbClr val="000000"/>
                </a:solidFill>
                <a:latin typeface="Calibri Light"/>
              </a:rPr>
              <a:t>الارتباط الخطي البسي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2400" spc="-1" strike="noStrike" u="sng">
                <a:solidFill>
                  <a:srgbClr val="000000"/>
                </a:solidFill>
                <a:uFillTx/>
                <a:latin typeface="Calibri"/>
              </a:rPr>
              <a:t>مثال 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اذا كان لدينا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.8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,  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.4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,  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.56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وان  يمثل دخل الاسرة،  يمثل مصاريف الاسرة الشهرية و  يمثل عدد الاسر، أوجد معامل الارتباط الجزئي بين الدخل ومصاريف الاسرة باستبعاد عدد الاس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2400" spc="-1" strike="noStrike" u="sng">
                <a:solidFill>
                  <a:srgbClr val="000000"/>
                </a:solidFill>
                <a:uFillTx/>
                <a:latin typeface="Calibri"/>
              </a:rPr>
              <a:t>الحل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 = 0.7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يلاحظ من قيمة الارتباط ان الارتباط بين دخل الاسرة والمصاريف بعد استبعاد اثرعدد الاسر هو ارتباط قوي وطردي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92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3600" spc="-1" strike="noStrike">
                <a:solidFill>
                  <a:srgbClr val="000000"/>
                </a:solidFill>
                <a:latin typeface="Calibri Light"/>
              </a:rPr>
              <a:t>الارتباط الخطي البسي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2000" spc="-1" strike="noStrike" u="sng">
                <a:solidFill>
                  <a:srgbClr val="000000"/>
                </a:solidFill>
                <a:uFillTx/>
                <a:latin typeface="Calibri"/>
              </a:rPr>
              <a:t>مثال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إذا كان لدينا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.79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,  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.38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,  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.8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أوجد معامل الارتباط الجزئي بين  و  باستبعاد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2000" spc="-1" strike="noStrike" u="sng">
                <a:solidFill>
                  <a:srgbClr val="000000"/>
                </a:solidFill>
                <a:uFillTx/>
                <a:latin typeface="Calibri"/>
              </a:rPr>
              <a:t>الحل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 = –0.724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Calibri"/>
              </a:rPr>
              <a:t>نلاحظ من قيمة الارتباط ان الارتباط عكسي قوي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نسق Office">
  <a:themeElements>
    <a:clrScheme name="مخصص 1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9cc3e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_نسق Office">
  <a:themeElements>
    <a:clrScheme name="مخصص 1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9cc3e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3_نسق Office">
  <a:themeElements>
    <a:clrScheme name="مخصص 1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9cc3e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4_نسق Office">
  <a:themeElements>
    <a:clrScheme name="مخصص 1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9cc3e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  <Words>527</Words>
  <Paragraphs>33</Paragraphs>
  <Company>SACC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18T14:52:28Z</dcterms:created>
  <dc:creator>Maher</dc:creator>
  <dc:description/>
  <dc:language>en-US</dc:language>
  <cp:lastModifiedBy>dalia</cp:lastModifiedBy>
  <dcterms:modified xsi:type="dcterms:W3CDTF">2020-10-28T07:32:32Z</dcterms:modified>
  <cp:revision>3</cp:revision>
  <dc:subject/>
  <dc:title>الارتباط الخطي البسيط Simple Linear Correlation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Custom</vt:lpwstr>
  </property>
  <property fmtid="{D5CDD505-2E9C-101B-9397-08002B2CF9AE}" pid="3" name="Slides">
    <vt:r8>4</vt:r8>
  </property>
</Properties>
</file>