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726-187E-4DBF-B4AD-D5FD3F5A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0B5-68E1-49D4-8E3B-5B5D19D9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7D7-33F8-4C4C-BA23-E0E76E5E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343-E081-4908-A5E6-D44950DD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9655-3305-4B20-A309-E16372B8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F968-E9AC-4CB0-ABB2-21CF44C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1A6E-E3FF-4439-B9F0-551384A9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688A-91A2-4BC7-8B8C-C0D855DB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2FE-04E9-4FD7-94F5-A21A8036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0167-A3E2-45F7-9FB6-40553459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7274-6DDF-4917-A745-A7673034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3F1-6A8F-4118-8C7B-E9B324AD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1B58-F4E3-43A5-BA60-B17DCA5B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ED48-0090-4A1B-831E-34483C1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43DD-22FB-4A31-B397-3D8B9C39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7361-864C-4AE1-B519-C8285920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2088-DEBC-4656-8C2D-4DCE1F3A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B249-E1E5-4D71-AD39-2225B3E9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6B3F-A9DC-4471-9909-3F6700D0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CA29-404B-4218-994F-89E6089B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A83C-ED8D-4345-8F6C-9DD4DBAD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E46D-782D-47D5-BF4B-5B5960BB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DE6-F54D-49BB-A07D-DE8BAACC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390F-721D-4507-A839-F949E8E5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BD7F4-298F-4E7A-B39B-7C0C1CD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1257-ADBC-4D3D-A9D9-593CBE2A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85A8-D008-420C-9812-4A7F854E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DEA9-92FE-4E6B-A040-657A7E48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4437-1C1B-49B1-BF7E-6E5BE1B9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598C-89DC-4950-A8F3-2933B387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3C02-8CE0-4616-9C81-0CA25A0C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6064-035A-4579-93FD-33A13D9E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2BA54-9668-4E1B-8C12-E2251A46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278-3E3B-4D90-A8F5-D2EFC6D3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F3303-723A-408D-A6D1-E938933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B37C0-14FE-4812-9B75-DB369E5E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8604-E719-49C9-8C33-AD177AD0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B0E9F-096C-448E-9E85-3760DAFC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E865-057C-41B7-A853-A3B77B72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7948-BDF8-4D15-A7FF-245DD61D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A17B-6B85-4D12-AB30-0AF77F3A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FE71-3D05-414E-BA2F-3C4D63E7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8E401-43BA-4DE8-BE66-7CC58706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905-6965-4A51-AA30-C953F897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5AF-3A7F-478F-8E15-5E46F644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224-D8FD-4378-A9EE-C17EB3BF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CB6-1DD4-4987-BF43-7DA778D9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592-FCAD-4E5E-87A5-9DC05938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4F673F53-49FC-4E33-939F-871BB92EA53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CB3F92C3-F3AF-429D-A02C-6F94052215D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3C292A06-9650-4809-B066-AA9CDB77A84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0C8F1C48-EC68-46FD-ABA6-4B676973D1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393840"/>
            <a:ext cx="9143640" cy="25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5400" spc="-1" strike="noStrike">
                <a:solidFill>
                  <a:srgbClr val="ff0000"/>
                </a:solidFill>
                <a:latin typeface="Calibri Light"/>
              </a:rPr>
              <a:t>الارتباط الخطي البسيط</a:t>
            </a:r>
            <a:br>
              <a:rPr sz="4000"/>
            </a:br>
            <a:r>
              <a:rPr b="1" lang="en-US" sz="5400" spc="-1" strike="noStrike">
                <a:solidFill>
                  <a:srgbClr val="ff0000"/>
                </a:solidFill>
                <a:latin typeface="Calibri Light"/>
              </a:rPr>
              <a:t>Simple Linear Correlation</a:t>
            </a:r>
            <a:br>
              <a:rPr sz="4000"/>
            </a:br>
            <a:r>
              <a:rPr b="1" lang="ar-IQ" sz="4000" spc="-1" strike="noStrike">
                <a:solidFill>
                  <a:srgbClr val="ff0000"/>
                </a:solidFill>
                <a:latin typeface="Calibri Light"/>
              </a:rPr>
              <a:t>المحاضرة الثالث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3880" y="3192120"/>
            <a:ext cx="9143640" cy="31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سم الإدارة الصناعية / المرحلة الا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87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44520"/>
            <a:ext cx="1051524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معامل الارتباط الجزئي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al Correlation Coe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يستخدم معامل الارتباط الجزئي في حالة وجود ثلاث متغيرات وهو يقيس درجة العلاقة بين متغيرين اثنين بعد تثبيت او استبعاد اثر متغير ثالث  فإذا كان لدينا المتغيرات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واردنا دراسة العلاقة بين المتغيرين  مع  باستبعاد أثر المتغير  فسيكون معامل الارتباط الجزئ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…………….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حيث إ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يمثل معامل الارتباط البسيط بين المتغيرين  م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يمثل معامل الارتباط البسيط بين المتغيرين  م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يمثل معامل الارتباط البسيط بين المتغيرين  م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0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400" spc="-1" strike="noStrike" u="sng">
                <a:solidFill>
                  <a:srgbClr val="000000"/>
                </a:solidFill>
                <a:uFillTx/>
                <a:latin typeface="Calibri"/>
              </a:rPr>
              <a:t>مثال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ذا كان لدينا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8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4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5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وان  يمثل دخل الاسرة،  يمثل مصاريف الاسرة الشهرية و  يمثل عدد الاسر، أوجد معامل الارتباط الجزئي بين الدخل ومصاريف الاسرة باستبعاد عدد الاس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400" spc="-1" strike="noStrike" u="sng">
                <a:solidFill>
                  <a:srgbClr val="000000"/>
                </a:solidFill>
                <a:uFillTx/>
                <a:latin typeface="Calibri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 = 0.7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يلاحظ من قيمة الارتباط ان الارتباط بين دخل الاسرة والمصاريف بعد استبعاد اثرعدد الاسر هو ارتباط قوي وطرد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92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إذا كان لدينا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7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3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8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أوجد معامل الارتباط الجزئي بين  و  باستبعاد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الحل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 = –0.724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نلاحظ من قيمة الارتباط ان الارتباط عكسي قو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527</Words>
  <Paragraphs>33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4:52:28Z</dcterms:created>
  <dc:creator>Maher</dc:creator>
  <dc:description/>
  <dc:language>en-US</dc:language>
  <cp:lastModifiedBy>dalia</cp:lastModifiedBy>
  <dcterms:modified xsi:type="dcterms:W3CDTF">2020-10-28T07:32:32Z</dcterms:modified>
  <cp:revision>3</cp:revision>
  <dc:subject/>
  <dc:title>الارتباط الخطي البسيط Simple Linear Correl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4</vt:r8>
  </property>
</Properties>
</file>