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CDBE-8330-42E8-883C-C6A0AD67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EFC-9B8B-4A7D-9844-B86C1D85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3B7E-FB32-41AD-A2E9-D8E9A9FF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967F-E936-4201-8508-2A445E85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A5DB-B6AB-4318-BA01-FA2347FF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8F3B-C722-4DEF-BB9A-41B455A6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1423-3AD5-4670-8EC3-1B9FC146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3ABE-2272-4664-9D7C-8CEBE9F3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6C5D-92F5-43D2-B814-92B3BA1A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BBBE-FA9E-465A-BDF9-CAEC16FA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236F-2F6F-44E3-8D66-918DF4E3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1960-E292-424C-B2BC-CE146B9A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5956-057B-4FC4-8709-2E4A8601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0397-4BC2-4EE2-8366-71F58268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AFC4-A093-4EAF-ABF8-66634C96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3EB1-A84F-46D2-8CBB-46EA4B87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FD01-17B1-4C91-86CA-898973B9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DE51C-7FAD-49F1-8BA5-6A861B5D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B71FB-1798-4485-B985-936FE599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6D265-7579-4F85-9069-41F0CBD5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54349-2645-49B2-B63F-7534EA68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6E11B-6A42-47AF-A5DE-17880E06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65A5-DD51-4E77-AC7F-1E2DCB03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C4213-C781-4BB5-AAC9-F8D0FDDC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1306C-FD09-40F0-85F7-22174188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C1B1C-2AB4-4C67-8A3B-82616E46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F288A-37E9-4D29-88E1-F1961B11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ABB5C-361E-45E5-BF1F-08203D71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6918E-AD73-46BC-B34D-E9F0B5D4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12072-D2F7-47E4-B11D-EA818323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E2B8C-842E-4801-AD85-125E8507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46423-B059-40CC-B6FA-EF404F2D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C4CF0-D363-47FC-971A-7E021A1A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71FF-3B30-40F1-A69D-253C5E9D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848D9-9314-4DE3-B187-0C191CB7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BD5C0-9CEF-4DA8-B273-6865CEB8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F940A-5298-466F-8EDC-272CD3AA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E9C5C-E17A-467A-A75F-D1F0458B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40020-44F4-4C63-B171-00A8EAFD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9BC06-FE19-4D32-8696-A95E3415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D5420-4DB2-4E18-B3CC-40A9EA58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C2090-1241-461E-A0C7-69A00F54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C40AE-6F65-4F34-AEF0-FFBED378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BA55F-C8FC-4026-A31D-3192E70A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5A96-91BE-4DFB-A4C3-0588CEB5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BAE09-F32D-40B4-B8AC-4370DB70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D3EF6-4881-4CB2-A029-C2C2B246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54252-6BAD-4B5A-A50C-9D8AB3F6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2145E-8B57-4D26-BF7C-7229122A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EBA3D-3BB7-4E50-BA3C-0CC774EC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8FF5D-5520-4097-8478-ED12F8AD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889CC-DDB4-42EF-A73D-6B146572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38645-2C7E-48E2-AEC7-01A278B5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B4B49-8492-4B84-8BA8-49498E6A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F326E-FDBC-42CE-AEFD-C9E32622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D987-090F-47DA-859F-145578C1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2547C-49C0-48D4-9317-2A7B466A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D06F-D9D1-4D6A-B55D-654CA1A6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504A-D8DB-49A5-A233-6A390FDB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51E7-22D1-4373-9C12-2D9A5538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90000"/>
              </a:lnSpc>
              <a:buNone/>
            </a:pPr>
            <a:r>
              <a:rPr b="0" lang="ar-SA" sz="60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3AAD935A-632B-499C-BFA6-F2765F144BB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76D4FECC-8F7E-4908-BC05-B65C66945E0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704B31E4-1E11-48FE-80B6-49886EF4CC5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290D2C64-B81A-4EA7-B9CD-E97DC520C93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ECC00DBB-B9A7-45AB-9666-B8971683807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393840"/>
            <a:ext cx="9143640" cy="25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5400" spc="-1" strike="noStrike">
                <a:solidFill>
                  <a:srgbClr val="ff0000"/>
                </a:solidFill>
                <a:latin typeface="Calibri Light"/>
              </a:rPr>
              <a:t>الارتباط الخطي البسيط</a:t>
            </a:r>
            <a:br>
              <a:rPr sz="4000"/>
            </a:br>
            <a:r>
              <a:rPr b="1" lang="en-US" sz="5400" spc="-1" strike="noStrike">
                <a:solidFill>
                  <a:srgbClr val="ff0000"/>
                </a:solidFill>
                <a:latin typeface="Calibri Light"/>
              </a:rPr>
              <a:t>Simple Linear Correlation</a:t>
            </a:r>
            <a:br>
              <a:rPr sz="4000"/>
            </a:br>
            <a:r>
              <a:rPr b="1" lang="ar-IQ" sz="4000" spc="-1" strike="noStrike">
                <a:solidFill>
                  <a:srgbClr val="ff0000"/>
                </a:solidFill>
                <a:latin typeface="Calibri Light"/>
              </a:rPr>
              <a:t>المحاضرة الثاني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523880" y="3179160"/>
            <a:ext cx="9143640" cy="31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اعداد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الدكتورة هند وليد عبد الرحم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كلية الإدارة والاقتصاد / جامعة بغدا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قسم الإدارة الصناعية / المرحلة الاول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14280"/>
            <a:ext cx="10515240" cy="53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3600" spc="-1" strike="noStrike">
                <a:solidFill>
                  <a:srgbClr val="000000"/>
                </a:solidFill>
                <a:latin typeface="Calibri Light"/>
              </a:rPr>
              <a:t>الارتباط الخطي البسي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346040"/>
            <a:ext cx="10515240" cy="46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أنواع معامل الارتبا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تتعدد أنواع معامل الارتباط بحسب تعدد أنواع البيانات او المتغيرات التي سيتم بحث او تحليل الارتباط فيما بينها . فقد يكون الارتباط بين متغيرين كل منهما متغيرات كمية او وصفية او حتى خليط من هذه الأنواع . بالتالي يختلف معامل الارتباط الذي يمكن استخدامه بحسب نوع وطبيعة تلك البيانات والمتغيرات  ومن هذه الأنوا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IQ" sz="2000" spc="-1" strike="noStrike">
                <a:solidFill>
                  <a:srgbClr val="000000"/>
                </a:solidFill>
                <a:latin typeface="Calibri"/>
              </a:rPr>
              <a:t>معامل الارتباط الخطي البسيط لبيرسون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mple Linear Correlation Coefficient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معامل الارتباط الجزئي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rtial Correlation Coefficient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. معامل ارتباط الرتب لسبيرمان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arman's Rand Correlation Coefficient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. معامل الاقتران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efficient Assoc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7776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ar-IQ" sz="3600" spc="-1" strike="noStrike">
                <a:solidFill>
                  <a:srgbClr val="000000"/>
                </a:solidFill>
                <a:latin typeface="Calibri Light"/>
              </a:rPr>
              <a:t>الارتباط الخطي البسي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17720"/>
            <a:ext cx="1051524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معامل الارتباط الخطي البسيط لبيرسو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يستخدم معامل الارتباط الخطى لبيرسون لقياس التغير الذى يطرأ على المتغي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عندما تتغير قيم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أو العكس. ويستخدم عادة في حالة </a:t>
            </a:r>
            <a:r>
              <a:rPr b="0" lang="ar-IQ" sz="2400" spc="-1" strike="noStrike">
                <a:solidFill>
                  <a:srgbClr val="ff0000"/>
                </a:solidFill>
                <a:latin typeface="Calibri"/>
              </a:rPr>
              <a:t>البيانات الكمي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ويعتبر </a:t>
            </a:r>
            <a:r>
              <a:rPr b="0" lang="ar-IQ" sz="2400" spc="-1" strike="noStrike">
                <a:solidFill>
                  <a:srgbClr val="ff0000"/>
                </a:solidFill>
                <a:latin typeface="Calibri"/>
              </a:rPr>
              <a:t>معام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IQ" sz="2400" spc="-1" strike="noStrike">
                <a:solidFill>
                  <a:srgbClr val="ff0000"/>
                </a:solidFill>
                <a:latin typeface="Calibri"/>
              </a:rPr>
              <a:t>الارتباط الخطي البسيط لبيرسون 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من اكثر معاملات الارتباط استخداما خاصة في العلوم الإنسانية والاجتماعية , ويرمز له بالرمز  أو   أي الارتباط بين المتغيرين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مع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أو الأول مع الثاني، فإذا كان لدينا ازواج من قيم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yi ) ( xi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عددها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، يمكن استخراجه من خلال الصيغة التالي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مستطيل 4"/>
          <p:cNvSpPr/>
          <p:nvPr/>
        </p:nvSpPr>
        <p:spPr>
          <a:xfrm>
            <a:off x="3195360" y="4930200"/>
            <a:ext cx="2552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=            ………………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114480"/>
            <a:ext cx="10515240" cy="51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3600" spc="-1" strike="noStrike">
                <a:solidFill>
                  <a:srgbClr val="000000"/>
                </a:solidFill>
                <a:latin typeface="Calibri Light"/>
              </a:rPr>
              <a:t>الارتباط الخطي البسي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633240"/>
            <a:ext cx="10515240" cy="62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000" spc="-1" strike="noStrike" u="sng">
                <a:solidFill>
                  <a:srgbClr val="000000"/>
                </a:solidFill>
                <a:uFillTx/>
                <a:latin typeface="Calibri"/>
              </a:rPr>
              <a:t>مثال :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البيانات التالية تمثل الكمية المباعة واسعارها لاحدى السلع , اوجد معامل الارتباط الخطي البسيط بين الكميات واسعاره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000" spc="-1" strike="noStrike" u="sng">
                <a:solidFill>
                  <a:srgbClr val="000000"/>
                </a:solidFill>
                <a:uFillTx/>
                <a:latin typeface="Calibri"/>
              </a:rPr>
              <a:t>الح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4" name="جدول 3"/>
          <p:cNvGraphicFramePr/>
          <p:nvPr/>
        </p:nvGraphicFramePr>
        <p:xfrm>
          <a:off x="1117440" y="1288080"/>
          <a:ext cx="6571800" cy="3149280"/>
        </p:xfrm>
        <a:graphic>
          <a:graphicData uri="http://schemas.openxmlformats.org/drawingml/2006/table">
            <a:tbl>
              <a:tblPr/>
              <a:tblGrid>
                <a:gridCol w="1314360"/>
                <a:gridCol w="1314360"/>
                <a:gridCol w="1314360"/>
                <a:gridCol w="1314360"/>
                <a:gridCol w="1314360"/>
              </a:tblGrid>
              <a:tr h="34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</a:tr>
              <a:tr h="34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34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</a:tr>
              <a:tr h="34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34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</a:tr>
              <a:tr h="34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34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</a:tr>
              <a:tr h="34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34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</a:tr>
            </a:tbl>
          </a:graphicData>
        </a:graphic>
      </p:graphicFrame>
      <p:sp>
        <p:nvSpPr>
          <p:cNvPr id="215" name="مستطيل 4"/>
          <p:cNvSpPr/>
          <p:nvPr/>
        </p:nvSpPr>
        <p:spPr>
          <a:xfrm>
            <a:off x="4305240" y="4668120"/>
            <a:ext cx="70480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  <a:cs typeface="Arial"/>
              </a:rPr>
              <a:t>بتطبيق الصيغة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يتم حساب معامل الارتباط بين المتغيرين كما يل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مستطيل 6"/>
          <p:cNvSpPr/>
          <p:nvPr/>
        </p:nvSpPr>
        <p:spPr>
          <a:xfrm>
            <a:off x="1117440" y="4970520"/>
            <a:ext cx="6629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=  = –0.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مستطيل 7"/>
          <p:cNvSpPr/>
          <p:nvPr/>
        </p:nvSpPr>
        <p:spPr>
          <a:xfrm>
            <a:off x="1320840" y="5910480"/>
            <a:ext cx="100324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وهذا يعني الارتباط قوي بين المتغيرين وعكسي أي يمكن القول بصورة عامة كلما انخفض السعر فإن الكمية المباعة تزداد والعكس صحي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78120"/>
            <a:ext cx="10515240" cy="66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3600" spc="-1" strike="noStrike">
                <a:solidFill>
                  <a:srgbClr val="000000"/>
                </a:solidFill>
                <a:latin typeface="Calibri Light"/>
              </a:rPr>
              <a:t>الارتباط الخطي البسي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741600"/>
            <a:ext cx="10515240" cy="61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000" spc="-1" strike="noStrike" u="sng">
                <a:solidFill>
                  <a:srgbClr val="000000"/>
                </a:solidFill>
                <a:uFillTx/>
                <a:latin typeface="Calibri"/>
              </a:rPr>
              <a:t>مثا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البيانات التالية تمثل عدد مرات شراء الزبون لمنتجات احد المراكز التجارية (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 وتقييمه لهذه المنتجات (  .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اوجد معامل الارتباط الخطي البسيط لبيرسون بين عدد مرات الشراء والتقي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000" spc="-1" strike="noStrike" u="sng">
                <a:solidFill>
                  <a:srgbClr val="000000"/>
                </a:solidFill>
                <a:uFillTx/>
                <a:latin typeface="Calibri"/>
              </a:rPr>
              <a:t>الحل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بتطبيق الصيغة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يتم حساب معامل الارتباط بين المتغيرين كما يلي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0" name="جدول 3"/>
          <p:cNvGraphicFramePr/>
          <p:nvPr/>
        </p:nvGraphicFramePr>
        <p:xfrm>
          <a:off x="1193760" y="1580760"/>
          <a:ext cx="5724720" cy="2194200"/>
        </p:xfrm>
        <a:graphic>
          <a:graphicData uri="http://schemas.openxmlformats.org/drawingml/2006/table">
            <a:tbl>
              <a:tblPr/>
              <a:tblGrid>
                <a:gridCol w="1144800"/>
                <a:gridCol w="1144800"/>
                <a:gridCol w="1144800"/>
                <a:gridCol w="1144800"/>
                <a:gridCol w="1145520"/>
              </a:tblGrid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>
                        <a:alpha val="40000"/>
                      </a:srgbClr>
                    </a:solidFill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>
                        <a:alpha val="40000"/>
                      </a:srgbClr>
                    </a:solidFill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>
                        <a:alpha val="40000"/>
                      </a:srgbClr>
                    </a:solidFill>
                  </a:tcPr>
                </a:tc>
              </a:tr>
              <a:tr h="327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مستطيل 4"/>
          <p:cNvSpPr/>
          <p:nvPr/>
        </p:nvSpPr>
        <p:spPr>
          <a:xfrm>
            <a:off x="1193760" y="4604760"/>
            <a:ext cx="60955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 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.9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ستطيل 5"/>
          <p:cNvSpPr/>
          <p:nvPr/>
        </p:nvSpPr>
        <p:spPr>
          <a:xfrm>
            <a:off x="1346040" y="5979240"/>
            <a:ext cx="10007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0" lang="ar-IQ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ي ان الارتباط قوي بين المتغيرين وطردي أي يمكن القول بصورة عامة كلما ازدادت عدد مرات الشراء للمنتجات فإن التقييم يزداد والعكس صحي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2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3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4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  <Words>673</Words>
  <Paragraphs>122</Paragraphs>
  <Company>SAC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8T14:47:59Z</dcterms:created>
  <dc:creator>Maher</dc:creator>
  <dc:description/>
  <dc:language>en-US</dc:language>
  <cp:lastModifiedBy>dalia</cp:lastModifiedBy>
  <dcterms:modified xsi:type="dcterms:W3CDTF">2020-10-28T07:31:41Z</dcterms:modified>
  <cp:revision>3</cp:revision>
  <dc:subject/>
  <dc:title>الارتباط الخطي البسيط Simple Linear Correlat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Custom</vt:lpwstr>
  </property>
  <property fmtid="{D5CDD505-2E9C-101B-9397-08002B2CF9AE}" pid="3" name="Slides">
    <vt:r8>5</vt:r8>
  </property>
</Properties>
</file>