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AE8-8A29-4F57-AE0A-0CD4FDB3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70D-DE1F-4109-BEB3-8C403E7C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432-BEB3-46C5-BCF1-6758DD76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338-EA1C-4683-BE81-BF649BD4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6E5F-A119-4846-99B7-C292580E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B2E2-F468-4E98-B1B9-D4B091EB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4224-E8CC-421F-AC71-947A3449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00F1-4079-4EB4-BD06-BC27DD8B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D180-F0EB-4798-B94F-320661E5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43B9-DBAF-4BD9-A1CC-B93365E6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EF7F-8AF6-4B0F-ACB1-639E7655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9DE-EEE5-4DE9-B555-F8526042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8CA1-C835-4950-86F9-219ABF86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DB64-2EF3-41A6-A7F3-0531B58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2A1B-3543-4E96-9FDD-6E7AA22B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EB64-2A9B-4039-AEDB-EF90D47E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149D-9875-40B2-ACE8-01507229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98FE5-E816-4E41-A794-6402B337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7A8D-115F-4475-9E25-8E0DD9DD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98340-E368-467A-8754-ABDF9B1F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7322A-6116-48C2-950C-A1A0E535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AD9D3-EF58-41D0-A699-2F92B265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719-7D3B-4083-BFC6-746A5FC3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F4BD-FE35-42D5-A4E2-CC879DF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E40C8-AE7B-40DC-93FD-CCC527A0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3A5B-06C3-4D86-BEB7-4F5C81EF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2918E-6887-4D94-AC3F-690780C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5349-9ABA-46ED-B809-4BA6FE5F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106A4-6CA1-44AD-AC26-8665A11D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E178-42B8-442A-A7EC-4AD685DC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4224-5D26-4C57-9CDE-BAEC3891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476C-58E5-419F-8DCF-41E298D3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39367-940E-4EED-A14F-B5D35A4E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507-FDF5-4832-B291-3C51B8B1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9325-D26D-4AE5-B509-03EA3BE9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9352E-57E7-43ED-B421-9AC76E5F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3248-56E8-4BCF-BE3D-7B8C5075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CA02-57A9-4E79-BB1D-5128F6C8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2F35C-6CB6-4998-A4FA-9001CDA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3AE40-46EF-4F96-90BF-1E8473D5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F443-9BA4-4BDA-A154-9B3DF30C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00703-7756-463E-9696-3D74919B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5FE85-FAA5-4040-906B-D41070E4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7EE39-523B-483F-B12D-19849C72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05C-F918-40DD-AD0B-90EE1E64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88C61-7FAC-4651-A21C-A37736AC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431AC-EBDD-459A-933F-FFF79CFD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1349A-A306-45E0-BDD7-3ADE470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6FD86-5C04-4535-8A45-4AAC0B3D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9B4FA-2FCB-4073-876F-919AE6B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0C68B-D850-45AC-831E-BC07263B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93C40-CB57-4D0E-98BF-25D1B886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9B0BC-9D4D-4216-8B04-1EF1CE7F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49D17-7BA5-4AE0-9DE9-C286FAC8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3B631-BF3E-4730-B69F-249AF0FD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3E2-7F1F-4CC3-A679-0B5A230F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4C6FC-55C2-45F9-90B7-55A91192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17D55-1585-48A1-8F49-947E116C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D2638-811B-42DE-94EF-458A4251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5C8A0-1E50-4071-9FFE-7D05358A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2123E-91BF-4B22-83F8-3C6C34F5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71E44-622C-4F88-BED7-C883C5FF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9FC77-A655-401E-A6D9-D0989BD5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D3A00-BD05-4035-8DC4-DE9E3F50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3B5BB-7DD1-4663-9FDD-0C06C7C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1933B-4711-4C81-8F31-ADB6083F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552-976F-49D5-AAA2-73D23B8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0BF39-3C85-45AE-9528-417093C4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7AC67-60F3-48DA-8720-CF7419B3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AF29B-1245-425D-8A70-B002152C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75F-EE3B-4E52-AA16-FF24C8A2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5C6-2E17-48C5-8DC0-B4696E0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0DF4BEB6-96B0-4909-AFDF-1F80EF29FF8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B567730B-2B82-407D-9BA6-5E74B238995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98382C7A-D46C-4891-927B-594EADA3866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99A3A4E2-1A3B-4EDF-9618-E9469F7A5AD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FCC08855-6997-4DD0-811C-CE6E4240F7D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2484C18E-005F-4EB1-B3FC-7D01994F439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393840"/>
            <a:ext cx="9143640" cy="25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6700" spc="-1" strike="noStrike">
                <a:solidFill>
                  <a:srgbClr val="ff0000"/>
                </a:solidFill>
                <a:latin typeface="Calibri Light"/>
              </a:rPr>
              <a:t>الارتباط الخطي البسيط</a:t>
            </a:r>
            <a:br>
              <a:rPr sz="4800"/>
            </a:br>
            <a:r>
              <a:rPr b="1" lang="en-US" sz="6700" spc="-1" strike="noStrike">
                <a:solidFill>
                  <a:srgbClr val="ff0000"/>
                </a:solidFill>
                <a:latin typeface="Calibri Light"/>
              </a:rPr>
              <a:t>Simple Linear Correlatio</a:t>
            </a:r>
            <a:br>
              <a:rPr sz="6700"/>
            </a:br>
            <a:r>
              <a:rPr b="1" lang="ar-IQ" sz="4900" spc="-1" strike="noStrike">
                <a:solidFill>
                  <a:srgbClr val="ff0000"/>
                </a:solidFill>
                <a:latin typeface="Calibri Light"/>
              </a:rPr>
              <a:t>المحاضرة الرابعة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523880" y="3090240"/>
            <a:ext cx="9143640" cy="31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عداد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لدكتورة هند وليد عبد الرحم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كلية الإدارة والاقتصاد / جامعة بغ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قسم الإدارة الصناعية / المرحلة الا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36560" y="123840"/>
            <a:ext cx="10515240" cy="71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5480" y="838080"/>
            <a:ext cx="1051524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معامل ارتباط الرتب لسبيرما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arman's Rand Correlation Coeffic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معامل الارتباط الخطى لبيرسون الذى سبق الحديث عنه يقيس مقدار قوة الارتباط بين متغيرين وذلك في حالة البيانات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الكم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لكن في بعض الأحيان يكون مطلوب إيجاد قوة الارتباط بين متغيرين على صورة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بيانات وصفية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يمكن وضعها في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صورة ترتيبية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، مثال على هذا تقديرات الطلاب في مادتين مختلفتين، فيكون من الصعب حساب معامل ارتباط بيرسون. لذلك نشأت الحاجة إلى إيجاد مقياس يعطى قوة الارتباط للبيانات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الوصف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وهذا المقياس هو ما يسمى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بمعامل ارتباط الرتب لسبيرمان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، وهو يعطى مقياسا للارتباط في كل من البيانات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الكمية والوصفية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لتي لها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صفة الترتيب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مثل تقديرات الطلاب، فإنه يمكن إعطاء رتب لها من حيث كبر التقدير وصغره وكذلك البيانات الكمية.نلاحظ أن رتب المتغيرين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 ( تزيدوتنقص حسب زيادة ونقص كل من قيم المتغيرين 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 لذلك فإن حساب معامل الارتباط للرتب يقترب كثيرا من معامل ارتباط بيرسون، ولكن يمتاز عنه في السهولة والد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مستطيل 3"/>
          <p:cNvSpPr/>
          <p:nvPr/>
        </p:nvSpPr>
        <p:spPr>
          <a:xfrm>
            <a:off x="1181160" y="3290760"/>
            <a:ext cx="1007064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ويتم تطبيقه على النحو الآتي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IQ" sz="2000" spc="-1" strike="noStrike">
                <a:solidFill>
                  <a:srgbClr val="ff0000"/>
                </a:solidFill>
                <a:latin typeface="Calibri"/>
                <a:cs typeface="Arial"/>
              </a:rPr>
              <a:t>ترت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مجموعة المفردات أو المشاهدات فيما بينها ترتيبا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  <a:cs typeface="Arial"/>
              </a:rPr>
              <a:t>تصاعديا أو تنازليا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بحسب الاعداد الطبيعي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, …… , 2 ,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 بالنسبة لكل من المتغيرين . فانه يمكن إيجاد او حساب الارتباط بين هذين المتغيرين باستخدام الصيغة الأت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…………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حيث إ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تمثل الفرق بين رتبتي المفردة نفسها في المتغيرين أ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حيث أن: ( 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8920"/>
            <a:ext cx="1051524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952560"/>
            <a:ext cx="10515240" cy="60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تم اختيار ستة من طلبة قسم الإدارة الصناعية وسجل كل من متغير مستوى الطالب في الدراس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ومتغير الحالة الصحية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وك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جدول 3"/>
          <p:cNvGraphicFramePr/>
          <p:nvPr/>
        </p:nvGraphicFramePr>
        <p:xfrm>
          <a:off x="1181160" y="1465560"/>
          <a:ext cx="3924000" cy="3089880"/>
        </p:xfrm>
        <a:graphic>
          <a:graphicData uri="http://schemas.openxmlformats.org/drawingml/2006/table">
            <a:tbl>
              <a:tblPr/>
              <a:tblGrid>
                <a:gridCol w="1271880"/>
                <a:gridCol w="1190160"/>
                <a:gridCol w="1461600"/>
              </a:tblGrid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طال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</a:tr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 ج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</a:tr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</a:tr>
              <a:tr h="3268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جدول 4"/>
          <p:cNvGraphicFramePr/>
          <p:nvPr/>
        </p:nvGraphicFramePr>
        <p:xfrm>
          <a:off x="1181160" y="5479920"/>
          <a:ext cx="6321240" cy="1373040"/>
        </p:xfrm>
        <a:graphic>
          <a:graphicData uri="http://schemas.openxmlformats.org/drawingml/2006/table">
            <a:tbl>
              <a:tblPr/>
              <a:tblGrid>
                <a:gridCol w="902880"/>
                <a:gridCol w="902880"/>
                <a:gridCol w="902880"/>
                <a:gridCol w="902880"/>
                <a:gridCol w="902880"/>
                <a:gridCol w="902880"/>
                <a:gridCol w="9028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جيد جد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 ترتيب</a:t>
                      </a:r>
                      <a:r>
                        <a:rPr b="0" lang="en-US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 جد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رتيب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</a:tr>
            </a:tbl>
          </a:graphicData>
        </a:graphic>
      </p:graphicFrame>
      <p:sp>
        <p:nvSpPr>
          <p:cNvPr id="255" name="مستطيل 5"/>
          <p:cNvSpPr/>
          <p:nvPr/>
        </p:nvSpPr>
        <p:spPr>
          <a:xfrm>
            <a:off x="2877120" y="4617720"/>
            <a:ext cx="933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حل :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لغرض حساب معامل الارتباط لسبيرمان يتم أولا ترتيب قيم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و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تصاعديا كالات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210240"/>
            <a:ext cx="10515240" cy="67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065240"/>
            <a:ext cx="10515240" cy="56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جدول 3"/>
          <p:cNvGraphicFramePr/>
          <p:nvPr/>
        </p:nvGraphicFramePr>
        <p:xfrm>
          <a:off x="977760" y="1065240"/>
          <a:ext cx="9359640" cy="5153400"/>
        </p:xfrm>
        <a:graphic>
          <a:graphicData uri="http://schemas.openxmlformats.org/drawingml/2006/table">
            <a:tbl>
              <a:tblPr/>
              <a:tblGrid>
                <a:gridCol w="740520"/>
                <a:gridCol w="811800"/>
                <a:gridCol w="934560"/>
                <a:gridCol w="1005120"/>
                <a:gridCol w="1257120"/>
                <a:gridCol w="1130040"/>
                <a:gridCol w="1307880"/>
                <a:gridCol w="1632960"/>
                <a:gridCol w="538560"/>
              </a:tblGrid>
              <a:tr h="642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طال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6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ترتيب قيم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x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ar-IQ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رتب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ank 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ترتيب ق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 </a:t>
                      </a:r>
                      <a:r>
                        <a:rPr b="0" lang="ar-IQ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رتب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ank 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421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– 6 = –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32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 ج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قبو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– 1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311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ة ج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– 5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32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– 1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32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جيد جد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جيد جد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– 3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32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– 2 = 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32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</a:tbl>
          </a:graphicData>
        </a:graphic>
      </p:graphicFrame>
      <p:sp>
        <p:nvSpPr>
          <p:cNvPr id="259" name="مستطيل 4"/>
          <p:cNvSpPr/>
          <p:nvPr/>
        </p:nvSpPr>
        <p:spPr>
          <a:xfrm>
            <a:off x="5807880" y="5006520"/>
            <a:ext cx="60728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نطبق الصيغ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لمعامل ارتباط الرتب لسبيرمان كما 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مستطيل 5"/>
          <p:cNvSpPr/>
          <p:nvPr/>
        </p:nvSpPr>
        <p:spPr>
          <a:xfrm>
            <a:off x="1295280" y="5206680"/>
            <a:ext cx="678132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–  = 1 –  = 0.7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رتباط  طردي وق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61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44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092240"/>
            <a:ext cx="10515240" cy="56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 :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لجدول الاتي يبين العلاقة بين عمر السائق وعدد المخالفات التي حصل عليها خلال عام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وجد معامل ارتباط الرتب لسبيرما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الحل: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لغرض حساب معامل الارتباط لسبيرمان يتم أولا ترتيب قيم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و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تصاعديا كالات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جدول 3"/>
          <p:cNvGraphicFramePr/>
          <p:nvPr/>
        </p:nvGraphicFramePr>
        <p:xfrm>
          <a:off x="1198080" y="1556640"/>
          <a:ext cx="3513240" cy="4097160"/>
        </p:xfrm>
        <a:graphic>
          <a:graphicData uri="http://schemas.openxmlformats.org/drawingml/2006/table">
            <a:tbl>
              <a:tblPr/>
              <a:tblGrid>
                <a:gridCol w="1171080"/>
                <a:gridCol w="1171080"/>
                <a:gridCol w="117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دد المخالفات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c3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مر السائق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c3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سائ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c3e5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جدول 4"/>
          <p:cNvGraphicFramePr/>
          <p:nvPr/>
        </p:nvGraphicFramePr>
        <p:xfrm>
          <a:off x="1198080" y="5706360"/>
          <a:ext cx="8402760" cy="1766880"/>
        </p:xfrm>
        <a:graphic>
          <a:graphicData uri="http://schemas.openxmlformats.org/drawingml/2006/table">
            <a:tbl>
              <a:tblPr/>
              <a:tblGrid>
                <a:gridCol w="982080"/>
                <a:gridCol w="901440"/>
                <a:gridCol w="888840"/>
                <a:gridCol w="901440"/>
                <a:gridCol w="888840"/>
                <a:gridCol w="914400"/>
                <a:gridCol w="947520"/>
                <a:gridCol w="859320"/>
                <a:gridCol w="1117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IQ" sz="16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عمر السائق </a:t>
                      </a:r>
                      <a:r>
                        <a:rPr b="1" lang="en-US" sz="16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16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IQ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دد المخالفات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85680"/>
            <a:ext cx="105152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44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عنصر نائب للمحتوى 3"/>
          <p:cNvGraphicFramePr/>
          <p:nvPr/>
        </p:nvGraphicFramePr>
        <p:xfrm>
          <a:off x="812880" y="1035000"/>
          <a:ext cx="7700040" cy="4486320"/>
        </p:xfrm>
        <a:graphic>
          <a:graphicData uri="http://schemas.openxmlformats.org/drawingml/2006/table">
            <a:tbl>
              <a:tblPr/>
              <a:tblGrid>
                <a:gridCol w="854280"/>
                <a:gridCol w="844200"/>
                <a:gridCol w="864360"/>
                <a:gridCol w="864360"/>
                <a:gridCol w="729000"/>
                <a:gridCol w="939600"/>
                <a:gridCol w="894240"/>
                <a:gridCol w="859320"/>
                <a:gridCol w="849240"/>
              </a:tblGrid>
              <a:tr h="34272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رتب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ترتيب قيم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رتب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ترتيب قيم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دد المخالفات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مر السائق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سائ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57200"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57200"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267" name="مستطيل 4"/>
          <p:cNvSpPr/>
          <p:nvPr/>
        </p:nvSpPr>
        <p:spPr>
          <a:xfrm>
            <a:off x="1928880" y="5552640"/>
            <a:ext cx="25524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–  = 1 –  =  - 0.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ستطيل 5"/>
          <p:cNvSpPr/>
          <p:nvPr/>
        </p:nvSpPr>
        <p:spPr>
          <a:xfrm>
            <a:off x="5542920" y="5313960"/>
            <a:ext cx="654084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نطبق الصيغ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لمعامل ارتباط الرتب لسبيرمان كما 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أي ان الارتباط عكسي وقوي بين عمر السائق وعدد المخال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6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4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5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660</Words>
  <Paragraphs>280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4:58:23Z</dcterms:created>
  <dc:creator>Maher</dc:creator>
  <dc:description/>
  <dc:language>en-US</dc:language>
  <cp:lastModifiedBy>Maher</cp:lastModifiedBy>
  <dcterms:modified xsi:type="dcterms:W3CDTF">2020-10-18T15:03:53Z</dcterms:modified>
  <cp:revision>2</cp:revision>
  <dc:subject/>
  <dc:title>الارتباط الخطي البسيط Simple Linear Correl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شاشة عريضة</vt:lpwstr>
  </property>
  <property fmtid="{D5CDD505-2E9C-101B-9397-08002B2CF9AE}" pid="3" name="Slides">
    <vt:r8>6</vt:r8>
  </property>
</Properties>
</file>