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294-CA1D-41D2-BD53-FF21AA19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2A8-7501-46EC-B9B6-A484F205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CA1-BF97-4F4F-9F94-A82D3A8C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2E1-8B2C-4000-BFE5-2A3C3517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CD6-52D2-4AF1-A161-A957E1B2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1081-E53D-4D73-A54A-18388D51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376-93A5-48A8-8081-BD7AC99F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909B-60D8-49F5-945D-1BD6D4E0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37F3-A169-4E57-84BF-6EC1893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02A7-5C95-42BF-BC74-E713EF1A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EDD-0D00-42C8-9EE5-2DCC99B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AA5-D3E4-4672-B3F8-5E653A4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EF05-C432-452A-AEA1-AADDCC5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F009-11DD-4D7F-9823-DF2ED70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6D04-2998-4E80-A0B8-C8E4501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866A-84A0-4CFE-AB12-F97FD4A1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2F56-49F3-4D24-A72B-CB6BF8C1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7259-EE8F-4C9D-A045-AEAEFA2A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D006-A01A-4AC7-A11E-42DAE78C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5228-EFB4-4B4C-96D9-6BEB674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B5B1-CD28-4C6F-9EA0-72797709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863E-79B3-4EFA-A451-853B968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1F4-61EF-4C39-B83F-5C94715D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8AD7-1ECF-40D6-BDE9-D94D0D90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21FD-8BC4-4B6E-BC7A-BB145583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2938-1C04-4E3B-BC1C-6076C3F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9254-BA7D-47FC-9BA6-8C0FB40B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D9EA-B47F-47E3-9FC6-53F3C1A9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62BC-FA15-40CB-A730-DD75E149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4CCA-8926-494E-9C95-04A43B9E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3C29-519C-4189-9CE2-57B6C43F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E476-9177-47CB-BB0C-29DB4F1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15AD-9B65-4F34-90B3-EDDDBA9D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166-5F80-4D5F-A623-6E5713BD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C8A5-3E86-4773-BF57-40A31710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5C678-38A2-44CA-9503-2233075E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552F-B0B7-4251-BB15-B7E64D0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5A9F-E663-4FBC-9041-CBFC4BFA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0F29-69FE-498D-AF1C-4AE8654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5D85-B6BC-4E25-9766-5D3BBC0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97CC-EB0E-4FF1-8A2A-80F5B61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68F3-B7D4-4718-921B-3557B6FC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214B-4862-40F6-B778-D0F79DC0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E5C13-2B3F-4D72-8F13-D4A64F3C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0D9-0CE2-4ECA-838D-E8A41B1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91F1-6F62-4F9F-B5C2-98165FAF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815F-3015-41BD-B343-146DEFFC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416D-6850-4795-93B4-AC16335F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FF8E-936C-4A84-92EA-3FAE3F31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1B4E7-5C61-43A3-A046-99B3104D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DB3B-0E6E-416D-9602-DB1D0E0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8DD0-7D02-473E-B89D-992EC1CF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BE0D-9E2C-4D35-9095-29FBEA99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D549-13E2-49E0-A804-877117E9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867C-B4FB-427A-AA3E-3579F7BD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8D9-3B81-4184-86F0-BFF32B3A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680C-C692-4AFF-9811-25B57BE8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579C-665E-4BAA-88B4-37D27B49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BA31-45A8-40A3-B1E7-3D84E9FA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7FC4-539A-415C-98F8-8FB5B3BA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90242-D52C-4095-8FF7-1DB6E981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6B3E8-29EA-4F2E-A1F7-FAB3B03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38306-921F-41C5-9729-333DE2DF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9A3FB-7255-4917-B028-5E23529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28BB5-1274-4FED-A38B-9E98CCCA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5EAB-13AA-4F43-ABE8-0E50046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D4B-A81B-4A31-9154-586351E9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C1D16-7E20-48BB-8DC6-79F4385C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D01DC-7882-4547-8F95-0C21127B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6DCC8-E958-4B46-BE87-54DC003C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88F-207B-4E76-AA85-83CD2CE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F0C-F1AE-4A08-AF1D-59A6173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08C9953D-CA4D-4028-B3B7-A70788B9BA0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ED992861-1D81-4A86-9F71-CC014D1D3E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D62C9262-E830-455D-B9C8-CB39BC77DDE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E3237AE8-6986-4EBF-8E4D-CE5F05C7628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BFBA3260-C5BB-4519-B782-614FEBED4F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4B9CCC5E-09BE-4C76-AF49-1EC6AE50654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393840"/>
            <a:ext cx="9143640" cy="25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6700" spc="-1" strike="noStrike">
                <a:solidFill>
                  <a:srgbClr val="ff0000"/>
                </a:solidFill>
                <a:latin typeface="Calibri Light"/>
              </a:rPr>
              <a:t>الارتباط الخطي البسيط</a:t>
            </a:r>
            <a:br>
              <a:rPr sz="4800"/>
            </a:br>
            <a:r>
              <a:rPr b="1" lang="en-US" sz="6700" spc="-1" strike="noStrike">
                <a:solidFill>
                  <a:srgbClr val="ff0000"/>
                </a:solidFill>
                <a:latin typeface="Calibri Light"/>
              </a:rPr>
              <a:t>Simple Linear Correlatio</a:t>
            </a:r>
            <a:br>
              <a:rPr sz="6700"/>
            </a:br>
            <a:r>
              <a:rPr b="1" lang="ar-IQ" sz="4900" spc="-1" strike="noStrike">
                <a:solidFill>
                  <a:srgbClr val="ff0000"/>
                </a:solidFill>
                <a:latin typeface="Calibri Light"/>
              </a:rPr>
              <a:t>المحاضرة الرابعة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523880" y="309024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 / 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6560" y="123840"/>
            <a:ext cx="105152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5480" y="838080"/>
            <a:ext cx="1051524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معامل ارتباط الرتب لسبيرما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arman's Rand Correlation Co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معامل الارتباط الخطى لبيرسون الذى سبق الحديث عنه يقيس مقدار قوة الارتباط بين متغيرين وذلك في حالة البيانات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الكم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لكن في بعض الأحيان يكون مطلوب إيجاد قوة الارتباط بين متغيرين على صورة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بيانات وصفية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يمكن وضعها في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صورة ترتيبية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، مثال على هذا تقديرات الطلاب في مادتين مختلفتين، فيكون من الصعب حساب معامل ارتباط بيرسون. لذلك نشأت الحاجة إلى إيجاد مقياس يعطى قوة الارتباط للبيانات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الوصف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وهذا المقياس هو ما يسمى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بمعامل ارتباط الرتب لسبيرمان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، وهو يعطى مقياسا للارتباط في كل من البيانات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الكمية والوصفية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تي لها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</a:rPr>
              <a:t>صفة الترتيب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مثل تقديرات الطلاب، فإنه يمكن إعطاء رتب لها من حيث كبر التقدير وصغره وكذلك البيانات الكمية.نلاحظ أن رتب المتغيرين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( تزيدوتنقص حسب زيادة ونقص كل من قيم المتغيرين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لذلك فإن حساب معامل الارتباط للرتب يقترب كثيرا من معامل ارتباط بيرسون، ولكن يمتاز عنه في السهولة والد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مستطيل 3"/>
          <p:cNvSpPr/>
          <p:nvPr/>
        </p:nvSpPr>
        <p:spPr>
          <a:xfrm>
            <a:off x="1181160" y="3290760"/>
            <a:ext cx="100706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ويتم تطبيقه على النحو الآتي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ترت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مجموعة المفردات أو المشاهدات فيما بينها ترتيبا </a:t>
            </a:r>
            <a:r>
              <a:rPr b="0" lang="ar-IQ" sz="2000" spc="-1" strike="noStrike">
                <a:solidFill>
                  <a:srgbClr val="ff0000"/>
                </a:solidFill>
                <a:latin typeface="Calibri"/>
                <a:cs typeface="Arial"/>
              </a:rPr>
              <a:t>تصاعديا أو تنازليا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بحسب الاعداد الطبيعي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, …… , 2 ,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بالنسبة لكل من المتغيرين . فانه يمكن إيجاد او حساب الارتباط بين هذين المتغيرين باستخدام الصيغة الأت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………….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حيث إ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تمثل الفرق بين رتبتي المفردة نفسها في المتغيرين أ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حيث أن: ( 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8920"/>
            <a:ext cx="1051524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952560"/>
            <a:ext cx="10515240" cy="60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تم اختيار ستة من طلبة قسم الإدارة الصناعية وسجل كل من متغير مستوى الطالب في الدراس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ومتغير الحالة الصحية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وك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جدول 3"/>
          <p:cNvGraphicFramePr/>
          <p:nvPr/>
        </p:nvGraphicFramePr>
        <p:xfrm>
          <a:off x="1181160" y="1465560"/>
          <a:ext cx="3924000" cy="3089880"/>
        </p:xfrm>
        <a:graphic>
          <a:graphicData uri="http://schemas.openxmlformats.org/drawingml/2006/table">
            <a:tbl>
              <a:tblPr/>
              <a:tblGrid>
                <a:gridCol w="1271880"/>
                <a:gridCol w="1190160"/>
                <a:gridCol w="1461600"/>
              </a:tblGrid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طال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 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70ad47">
                        <a:alpha val="40000"/>
                      </a:srgbClr>
                    </a:solidFill>
                  </a:tcPr>
                </a:tc>
              </a:tr>
              <a:tr h="3268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جدول 4"/>
          <p:cNvGraphicFramePr/>
          <p:nvPr/>
        </p:nvGraphicFramePr>
        <p:xfrm>
          <a:off x="1181160" y="5479920"/>
          <a:ext cx="6321240" cy="1373040"/>
        </p:xfrm>
        <a:graphic>
          <a:graphicData uri="http://schemas.openxmlformats.org/drawingml/2006/table">
            <a:tbl>
              <a:tblPr/>
              <a:tblGrid>
                <a:gridCol w="902880"/>
                <a:gridCol w="902880"/>
                <a:gridCol w="902880"/>
                <a:gridCol w="902880"/>
                <a:gridCol w="902880"/>
                <a:gridCol w="902880"/>
                <a:gridCol w="9028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جيد ج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 ترتيب</a:t>
                      </a: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70ad47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 جد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رتيب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70ad47"/>
                      </a:solidFill>
                    </a:lnL>
                    <a:lnR w="12240">
                      <a:solidFill>
                        <a:srgbClr val="70ad47"/>
                      </a:solidFill>
                    </a:lnR>
                    <a:lnT w="12240">
                      <a:solidFill>
                        <a:srgbClr val="70ad47"/>
                      </a:solidFill>
                    </a:lnT>
                    <a:lnB w="12240">
                      <a:solidFill>
                        <a:srgbClr val="70ad47"/>
                      </a:solidFill>
                    </a:lnB>
                    <a:solidFill>
                      <a:srgbClr val="d4e2cf"/>
                    </a:solidFill>
                  </a:tcPr>
                </a:tc>
              </a:tr>
            </a:tbl>
          </a:graphicData>
        </a:graphic>
      </p:graphicFrame>
      <p:sp>
        <p:nvSpPr>
          <p:cNvPr id="255" name="مستطيل 5"/>
          <p:cNvSpPr/>
          <p:nvPr/>
        </p:nvSpPr>
        <p:spPr>
          <a:xfrm>
            <a:off x="2877120" y="4617720"/>
            <a:ext cx="933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حل 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لغرض حساب معامل الارتباط لسبيرمان يتم أولا ترتيب قيم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و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تصاعديا كالات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210240"/>
            <a:ext cx="10515240" cy="6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065240"/>
            <a:ext cx="10515240" cy="56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جدول 3"/>
          <p:cNvGraphicFramePr/>
          <p:nvPr/>
        </p:nvGraphicFramePr>
        <p:xfrm>
          <a:off x="977760" y="1065240"/>
          <a:ext cx="9359640" cy="5153400"/>
        </p:xfrm>
        <a:graphic>
          <a:graphicData uri="http://schemas.openxmlformats.org/drawingml/2006/table">
            <a:tbl>
              <a:tblPr/>
              <a:tblGrid>
                <a:gridCol w="740520"/>
                <a:gridCol w="811800"/>
                <a:gridCol w="934560"/>
                <a:gridCol w="1005120"/>
                <a:gridCol w="1257120"/>
                <a:gridCol w="1130040"/>
                <a:gridCol w="1307880"/>
                <a:gridCol w="1632960"/>
                <a:gridCol w="538560"/>
              </a:tblGrid>
              <a:tr h="642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طال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ترتيب قيم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x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ank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رتيب ق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 </a:t>
                      </a:r>
                      <a:r>
                        <a:rPr b="0" lang="ar-IQ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ank 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421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– 6 = –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 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قبو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– 1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11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ة ج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– 5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– 1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 ج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يد ج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– 3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قب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ar-IQ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ت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– 2 = 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2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</a:tbl>
          </a:graphicData>
        </a:graphic>
      </p:graphicFrame>
      <p:sp>
        <p:nvSpPr>
          <p:cNvPr id="259" name="مستطيل 4"/>
          <p:cNvSpPr/>
          <p:nvPr/>
        </p:nvSpPr>
        <p:spPr>
          <a:xfrm>
            <a:off x="5807880" y="5006520"/>
            <a:ext cx="60728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نطبق الصيغ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لمعامل ارتباط الرتب لسبيرمان 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ستطيل 5"/>
          <p:cNvSpPr/>
          <p:nvPr/>
        </p:nvSpPr>
        <p:spPr>
          <a:xfrm>
            <a:off x="1295280" y="5206680"/>
            <a:ext cx="67813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–  = 1 –  = 0.7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رتباط  طردي وق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61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44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092240"/>
            <a:ext cx="1051524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 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لجدول الاتي يبين العلاقة بين عمر السائق وعدد المخالفات التي حصل عليها خلال عام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وجد معامل ارتباط الرتب لسبيرما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: </a:t>
            </a: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لغرض حساب معامل الارتباط لسبيرمان يتم أولا ترتيب قيم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و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تصاعديا كالات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جدول 3"/>
          <p:cNvGraphicFramePr/>
          <p:nvPr/>
        </p:nvGraphicFramePr>
        <p:xfrm>
          <a:off x="1198080" y="1556640"/>
          <a:ext cx="3513240" cy="4097160"/>
        </p:xfrm>
        <a:graphic>
          <a:graphicData uri="http://schemas.openxmlformats.org/drawingml/2006/table">
            <a:tbl>
              <a:tblPr/>
              <a:tblGrid>
                <a:gridCol w="1171080"/>
                <a:gridCol w="1171080"/>
                <a:gridCol w="1171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مخالفات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c3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مر السائق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c3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سائ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c3e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9cc3e5">
                        <a:alpha val="40000"/>
                      </a:srgbClr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جدول 4"/>
          <p:cNvGraphicFramePr/>
          <p:nvPr/>
        </p:nvGraphicFramePr>
        <p:xfrm>
          <a:off x="1198080" y="5706360"/>
          <a:ext cx="8402760" cy="1766880"/>
        </p:xfrm>
        <a:graphic>
          <a:graphicData uri="http://schemas.openxmlformats.org/drawingml/2006/table">
            <a:tbl>
              <a:tblPr/>
              <a:tblGrid>
                <a:gridCol w="982080"/>
                <a:gridCol w="901440"/>
                <a:gridCol w="888840"/>
                <a:gridCol w="901440"/>
                <a:gridCol w="888840"/>
                <a:gridCol w="914400"/>
                <a:gridCol w="947520"/>
                <a:gridCol w="859320"/>
                <a:gridCol w="1117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IQ" sz="16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عمر السائق </a:t>
                      </a:r>
                      <a:r>
                        <a:rPr b="1" lang="en-US" sz="16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1600" spc="-1" strike="noStrike">
                          <a:solidFill>
                            <a:srgbClr val="9cc3e5"/>
                          </a:solidFill>
                          <a:latin typeface="Calibri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eff4f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IQ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دد المخالفات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9cc3e5"/>
                      </a:solidFill>
                    </a:lnL>
                    <a:lnR w="12240">
                      <a:solidFill>
                        <a:srgbClr val="9cc3e5"/>
                      </a:solidFill>
                    </a:lnR>
                    <a:lnT w="12240">
                      <a:solidFill>
                        <a:srgbClr val="9cc3e5"/>
                      </a:solidFill>
                    </a:lnT>
                    <a:lnB w="12240">
                      <a:solidFill>
                        <a:srgbClr val="9cc3e5"/>
                      </a:solidFill>
                    </a:lnB>
                    <a:solidFill>
                      <a:srgbClr val="dee9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85680"/>
            <a:ext cx="105152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44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عنصر نائب للمحتوى 3"/>
          <p:cNvGraphicFramePr/>
          <p:nvPr/>
        </p:nvGraphicFramePr>
        <p:xfrm>
          <a:off x="812880" y="1035000"/>
          <a:ext cx="7700040" cy="4486320"/>
        </p:xfrm>
        <a:graphic>
          <a:graphicData uri="http://schemas.openxmlformats.org/drawingml/2006/table">
            <a:tbl>
              <a:tblPr/>
              <a:tblGrid>
                <a:gridCol w="854280"/>
                <a:gridCol w="844200"/>
                <a:gridCol w="864360"/>
                <a:gridCol w="864360"/>
                <a:gridCol w="729000"/>
                <a:gridCol w="939600"/>
                <a:gridCol w="894240"/>
                <a:gridCol w="859320"/>
                <a:gridCol w="849240"/>
              </a:tblGrid>
              <a:tr h="3427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رتيب قيم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رتيب قيم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مخالفات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مر السائق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IQ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سائ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algn="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267" name="مستطيل 4"/>
          <p:cNvSpPr/>
          <p:nvPr/>
        </p:nvSpPr>
        <p:spPr>
          <a:xfrm>
            <a:off x="1928880" y="5552640"/>
            <a:ext cx="2552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–  = 1 –  =  - 0.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5"/>
          <p:cNvSpPr/>
          <p:nvPr/>
        </p:nvSpPr>
        <p:spPr>
          <a:xfrm>
            <a:off x="5542920" y="5313960"/>
            <a:ext cx="654084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نطبق الصيغ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لمعامل ارتباط الرتب لسبيرمان 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  <a:cs typeface="Arial"/>
              </a:rPr>
              <a:t>أي ان الارتباط عكسي وقوي بين عمر السائق وعدد المخال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6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5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660</Words>
  <Paragraphs>280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4:58:23Z</dcterms:created>
  <dc:creator>Maher</dc:creator>
  <dc:description/>
  <dc:language>en-US</dc:language>
  <cp:lastModifiedBy>Maher</cp:lastModifiedBy>
  <dcterms:modified xsi:type="dcterms:W3CDTF">2020-10-18T15:03:53Z</dcterms:modified>
  <cp:revision>2</cp:revision>
  <dc:subject/>
  <dc:title>الارتباط الخطي البسيط Simple Linear Correl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شاشة عريضة</vt:lpwstr>
  </property>
  <property fmtid="{D5CDD505-2E9C-101B-9397-08002B2CF9AE}" pid="3" name="Slides">
    <vt:r8>6</vt:r8>
  </property>
</Properties>
</file>