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83C7-2BB5-42A4-AF03-D68E2302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60E2-B839-4B63-BEA8-E3828CB0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F99-2BB6-4B5A-BF6C-C4DAA62D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3B4-003C-4C1B-BEEC-70D50940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C100-3180-4AFC-B48C-ECBBDD19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5EC3-3B72-4E57-8412-D9222800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E9F9-6D26-42EE-995B-8378BFE0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8C94-57EF-42B3-B5E4-0282E138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5ED8-F77C-4716-B0EA-74C43AEC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CE8A-8115-47D7-8FDC-7B359D51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E239-1355-4037-BF56-34B9075D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C0F-F08A-4A6A-88B3-0D216370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4B39-C3B5-4605-9571-5AC5BB46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D04E-9957-4AF8-8BB3-F8386A9B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0F1B-FF3D-4093-A4F4-A8CDF033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D230-DC65-4FA5-A6CE-2D769EF5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648D-F105-4727-83CE-8352F308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9F0E5-28F9-4786-A744-860251DD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5E2FD-422E-4363-B340-26E22441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28B93-14CC-4EA7-B435-2219FFFB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08F21-AC83-46FF-9303-2479083E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25532-4165-475E-A964-C90DB9DE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E1F-1A84-4F1D-B02A-80167F86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9279D-0456-4989-98A4-6932DAC0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EFC63-BD0C-472B-A886-77533220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CC211-502F-4677-9012-BF1A84C5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3D447-94F3-4E98-AF80-F1C00F31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60569-31D3-49B3-81B7-93120C97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411DD-9168-4572-8CA8-64A405B8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95C33-A65F-4156-B8E5-11F9210D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735C7-E2AC-4A87-B7D3-B2260D0F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AA5C4-70F5-432D-825F-4F938CC1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E53E3-829B-4523-8C67-6D2DF403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1F7-4E11-4989-BA55-158F1D7D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786C6-355D-4C96-AD0D-ADF04DE8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192DB-9545-4FEA-AAFC-D84DB5BA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2C025-398A-4329-89DF-759E5F91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63425-8321-4A3E-BB7B-76DE145A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FE64E-EC88-4FC3-B481-0A313596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1B6F2-8636-4443-929B-66AE4A35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44DDA-D0CE-4F96-8BAD-903B429C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AB4DF-AC40-4624-9665-F7891F0D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04D60-EB19-4B8F-9C0A-99949A16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1306-C834-40F3-803A-AEAB19EB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CA4B-DCED-4808-951C-6FA0B149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CDAB-15F2-4021-80E4-EA0E2EE1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D34-32DD-4500-872E-FEB7B84F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238E-F223-4A66-99A5-56174446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90000"/>
              </a:lnSpc>
              <a:buNone/>
            </a:pPr>
            <a:r>
              <a:rPr b="0" lang="ar-SA" sz="60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6813BB36-A8D1-4490-B4D1-0959AE1BB7D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85B82E99-F8B2-415D-BEFD-58CE22AA2A5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6FD981B2-3DE6-4C88-8706-E042A05CCF5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4555BEB6-B565-4FFA-9CA1-4755498D2BE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393840"/>
            <a:ext cx="9143640" cy="25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5400" spc="-1" strike="noStrike">
                <a:solidFill>
                  <a:srgbClr val="ff0000"/>
                </a:solidFill>
                <a:latin typeface="Calibri Light"/>
              </a:rPr>
              <a:t>الارتباط الخطي البسيط</a:t>
            </a:r>
            <a:br>
              <a:rPr sz="4000"/>
            </a:br>
            <a:r>
              <a:rPr b="1" lang="en-US" sz="5400" spc="-1" strike="noStrike">
                <a:solidFill>
                  <a:srgbClr val="ff0000"/>
                </a:solidFill>
                <a:latin typeface="Calibri Light"/>
              </a:rPr>
              <a:t>Simple Linear Correlation</a:t>
            </a:r>
            <a:br>
              <a:rPr sz="4000"/>
            </a:br>
            <a:r>
              <a:rPr b="1" lang="ar-IQ" sz="4000" spc="-1" strike="noStrike">
                <a:solidFill>
                  <a:srgbClr val="ff0000"/>
                </a:solidFill>
                <a:latin typeface="Calibri Light"/>
              </a:rPr>
              <a:t>المحاضرة الخامس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523880" y="3458520"/>
            <a:ext cx="9143640" cy="31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اعداد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الدكتورة هند وليد عبد الرحم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كلية الإدارة والاقتصاد / جامعة بغدا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قسم الإدارة الصناعية / المرحلة الاول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14280"/>
            <a:ext cx="1051524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32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041480"/>
            <a:ext cx="1062432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معامل الاقتران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efficient Asso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مستطيل 5"/>
          <p:cNvSpPr/>
          <p:nvPr/>
        </p:nvSpPr>
        <p:spPr>
          <a:xfrm>
            <a:off x="8241120" y="5081040"/>
            <a:ext cx="358596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 rtl="1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فإن معامل الاقتران يعرف كالآتي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مستطيل 6"/>
          <p:cNvSpPr/>
          <p:nvPr/>
        </p:nvSpPr>
        <p:spPr>
          <a:xfrm>
            <a:off x="1130760" y="1506960"/>
            <a:ext cx="1034244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لقد سبق أن وضحنا بأن </a:t>
            </a:r>
            <a:r>
              <a:rPr b="0" lang="ar-IQ" sz="2000" spc="-1" strike="noStrike">
                <a:solidFill>
                  <a:srgbClr val="ff0000"/>
                </a:solidFill>
                <a:latin typeface="Simplified Arabic"/>
                <a:cs typeface="Simplified Arabic"/>
              </a:rPr>
              <a:t>معامل ارتباط بيرسون </a:t>
            </a: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يعطى قوة الارتباط في حالة البيانات</a:t>
            </a:r>
            <a:r>
              <a:rPr b="0" lang="en-US" sz="2000" spc="-1" strike="noStrike">
                <a:solidFill>
                  <a:srgbClr val="ff0000"/>
                </a:solidFill>
                <a:latin typeface="Simplified Arabic"/>
              </a:rPr>
              <a:t> الكمية </a:t>
            </a: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، وكذلك معامل ارتباط الرتب </a:t>
            </a:r>
            <a:r>
              <a:rPr b="0" lang="ar-IQ" sz="2000" spc="-1" strike="noStrike">
                <a:solidFill>
                  <a:srgbClr val="ff0000"/>
                </a:solidFill>
                <a:latin typeface="Simplified Arabic"/>
                <a:cs typeface="Simplified Arabic"/>
              </a:rPr>
              <a:t>لسبيرمان</a:t>
            </a: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، وهو يستخدم لإيجاد قوة الارتباط</a:t>
            </a:r>
            <a:r>
              <a:rPr b="0" lang="en-US" sz="2000" spc="-1" strike="noStrike">
                <a:solidFill>
                  <a:srgbClr val="ff0000"/>
                </a:solidFill>
                <a:latin typeface="Simplified Arabic"/>
              </a:rPr>
              <a:t> للرتب </a:t>
            </a: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في حالة البيانات </a:t>
            </a:r>
            <a:r>
              <a:rPr b="0" lang="ar-IQ" sz="2000" spc="-1" strike="noStrike">
                <a:solidFill>
                  <a:srgbClr val="ff0000"/>
                </a:solidFill>
                <a:latin typeface="Simplified Arabic"/>
                <a:cs typeface="Simplified Arabic"/>
              </a:rPr>
              <a:t>الكمية والوصفية </a:t>
            </a: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التي </a:t>
            </a:r>
            <a:r>
              <a:rPr b="0" lang="ar-IQ" sz="2000" spc="-1" strike="noStrike">
                <a:solidFill>
                  <a:srgbClr val="ff0000"/>
                </a:solidFill>
                <a:latin typeface="Simplified Arabic"/>
                <a:cs typeface="Simplified Arabic"/>
              </a:rPr>
              <a:t>لها صفة الترتيب</a:t>
            </a: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، ولكن قد تكون هناك </a:t>
            </a:r>
            <a:r>
              <a:rPr b="0" lang="ar-IQ" sz="2000" spc="-1" strike="noStrike">
                <a:solidFill>
                  <a:srgbClr val="ff0000"/>
                </a:solidFill>
                <a:latin typeface="Simplified Arabic"/>
                <a:cs typeface="Simplified Arabic"/>
              </a:rPr>
              <a:t>بيانات وصفية </a:t>
            </a: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لها </a:t>
            </a:r>
            <a:r>
              <a:rPr b="0" lang="ar-IQ" sz="2000" spc="-1" strike="noStrike">
                <a:solidFill>
                  <a:srgbClr val="ff0000"/>
                </a:solidFill>
                <a:latin typeface="Simplified Arabic"/>
                <a:cs typeface="Simplified Arabic"/>
              </a:rPr>
              <a:t>صفات مميزة </a:t>
            </a: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ولكن </a:t>
            </a:r>
            <a:r>
              <a:rPr b="0" lang="ar-IQ" sz="2000" spc="-1" strike="noStrike">
                <a:solidFill>
                  <a:srgbClr val="ff0000"/>
                </a:solidFill>
                <a:latin typeface="Simplified Arabic"/>
                <a:cs typeface="Simplified Arabic"/>
              </a:rPr>
              <a:t>لا يمكن ترتيبها </a:t>
            </a: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مثل الحالة الاجتماعية، وكذلك لون البشرة....إلخ. ولقياس قوة الارتباط لهذه البيانات نشأت الحاجة إلى إيجاد مقياس مناسب يقيس الارتباط بين هذه الصفات، ومنها </a:t>
            </a:r>
            <a:r>
              <a:rPr b="0" lang="ar-IQ" sz="2000" spc="-1" strike="noStrike">
                <a:solidFill>
                  <a:srgbClr val="ff0000"/>
                </a:solidFill>
                <a:latin typeface="Simplified Arabic"/>
                <a:cs typeface="Simplified Arabic"/>
              </a:rPr>
              <a:t>معامل الاقتران </a:t>
            </a: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الذى يستخد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لقياس قوة الارتباط بين </a:t>
            </a:r>
            <a:r>
              <a:rPr b="0" lang="ar-IQ" sz="2000" spc="-1" strike="noStrike">
                <a:solidFill>
                  <a:srgbClr val="ff0000"/>
                </a:solidFill>
                <a:latin typeface="Calibri"/>
                <a:cs typeface="Arial"/>
              </a:rPr>
              <a:t>ظاهرتي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أو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متغيري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  <a:cs typeface="Arial"/>
              </a:rPr>
              <a:t>كل منهما </a:t>
            </a:r>
            <a:r>
              <a:rPr b="0" lang="ar-IQ" sz="2000" spc="-1" strike="noStrike">
                <a:solidFill>
                  <a:srgbClr val="ff0000"/>
                </a:solidFill>
                <a:latin typeface="Calibri"/>
                <a:cs typeface="Arial"/>
              </a:rPr>
              <a:t>ذات صفتين فقط </a:t>
            </a:r>
            <a:r>
              <a:rPr b="0" lang="ar-IQ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عبر عنها بجداول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×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وكالآت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7"/>
          <p:cNvSpPr/>
          <p:nvPr/>
        </p:nvSpPr>
        <p:spPr>
          <a:xfrm>
            <a:off x="2009520" y="5447160"/>
            <a:ext cx="1761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جدول 9"/>
          <p:cNvGraphicFramePr/>
          <p:nvPr/>
        </p:nvGraphicFramePr>
        <p:xfrm>
          <a:off x="1119960" y="3502080"/>
          <a:ext cx="5724720" cy="1829880"/>
        </p:xfrm>
        <a:graphic>
          <a:graphicData uri="http://schemas.openxmlformats.org/drawingml/2006/table">
            <a:tbl>
              <a:tblPr/>
              <a:tblGrid>
                <a:gridCol w="1897200"/>
                <a:gridCol w="1897200"/>
                <a:gridCol w="1930680"/>
              </a:tblGrid>
              <a:tr h="586080">
                <a:tc>
                  <a:txBody>
                    <a:bodyPr lIns="68400" rIns="68400" tIns="0" bIns="0" anchor="t">
                      <a:noAutofit/>
                    </a:bodyPr>
                    <a:p>
                      <a:pPr algn="just" rtl="1">
                        <a:lnSpc>
                          <a:spcPct val="150000"/>
                        </a:lnSpc>
                      </a:pPr>
                      <a:r>
                        <a:rPr b="0" lang="ar-IQ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تغير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 </a:t>
                      </a:r>
                      <a:r>
                        <a:rPr b="0" lang="ar-IQ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تغي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</a:tr>
              <a:tr h="29304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29304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2560" y="624600"/>
            <a:ext cx="1051524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36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50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000" spc="-1" strike="noStrike" u="sng">
                <a:solidFill>
                  <a:srgbClr val="000000"/>
                </a:solidFill>
                <a:uFillTx/>
                <a:latin typeface="Calibri"/>
              </a:rPr>
              <a:t>مثال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جرى باحث دراسة على أهمية الحوافز في زيادة الإنتاج في أحد مصانع السمنت. اخذت عينة حجمها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7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عامل من عينة مصانع للسمنت في العراق وتم الحصول على النتائج التالية المطلوب إيجاد معامل الاقترا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جدول 3"/>
          <p:cNvGraphicFramePr/>
          <p:nvPr/>
        </p:nvGraphicFramePr>
        <p:xfrm>
          <a:off x="1176120" y="3086640"/>
          <a:ext cx="6786360" cy="1785240"/>
        </p:xfrm>
        <a:graphic>
          <a:graphicData uri="http://schemas.openxmlformats.org/drawingml/2006/table">
            <a:tbl>
              <a:tblPr/>
              <a:tblGrid>
                <a:gridCol w="2111400"/>
                <a:gridCol w="2147760"/>
                <a:gridCol w="2526840"/>
              </a:tblGrid>
              <a:tr h="586080">
                <a:tc>
                  <a:txBody>
                    <a:bodyPr lIns="68400" rIns="68400" tIns="0" bIns="0" anchor="t">
                      <a:noAutofit/>
                    </a:bodyPr>
                    <a:p>
                      <a:pPr algn="just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إنتاج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نوع الحواف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1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رتفاع مستوى الانتاج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بقاء مستوى الإنتاجية على حال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</a:tr>
              <a:tr h="29304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زيادة الأجو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29304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عدم زيادة الأجو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</a:tr>
            </a:tbl>
          </a:graphicData>
        </a:graphic>
      </p:graphicFrame>
      <p:cxnSp>
        <p:nvCxnSpPr>
          <p:cNvPr id="175" name="Straight Connector 2"/>
          <p:cNvCxnSpPr/>
          <p:nvPr/>
        </p:nvCxnSpPr>
        <p:spPr>
          <a:xfrm>
            <a:off x="1172520" y="3153600"/>
            <a:ext cx="1964520" cy="64404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sp>
        <p:nvSpPr>
          <p:cNvPr id="176" name="مستطيل 7"/>
          <p:cNvSpPr/>
          <p:nvPr/>
        </p:nvSpPr>
        <p:spPr>
          <a:xfrm>
            <a:off x="5952240" y="4698360"/>
            <a:ext cx="59068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 rtl="1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1" lang="ar-IQ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ل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لإيجاد معامل الاقتران نطبق الصيغة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وكما يل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مستطيل 8"/>
          <p:cNvSpPr/>
          <p:nvPr/>
        </p:nvSpPr>
        <p:spPr>
          <a:xfrm>
            <a:off x="1176120" y="5077800"/>
            <a:ext cx="88264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= 0.79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ستطيل 9"/>
          <p:cNvSpPr/>
          <p:nvPr/>
        </p:nvSpPr>
        <p:spPr>
          <a:xfrm>
            <a:off x="4977720" y="5917680"/>
            <a:ext cx="705456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 rtl="1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أي توجد علاقة طردية قوية بين تطبيق نظام الحوافز وزيادة الإنتاج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72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36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000" spc="-1" strike="noStrike" u="sng">
                <a:solidFill>
                  <a:srgbClr val="000000"/>
                </a:solidFill>
                <a:uFillTx/>
                <a:latin typeface="Calibri"/>
              </a:rPr>
              <a:t>مثال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: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عند دراسة العلاقة بين التعليم والتدخين في إحدى الشركات أخذت عينة مكونة من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١٧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شخصا وكانت النتائج على النحو التال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حسب معامل الاقتران بين التدخين والتعلي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000" spc="-1" strike="noStrike" u="sng">
                <a:solidFill>
                  <a:srgbClr val="000000"/>
                </a:solidFill>
                <a:uFillTx/>
                <a:latin typeface="Calibri"/>
              </a:rPr>
              <a:t>الحل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جدول 3"/>
          <p:cNvGraphicFramePr/>
          <p:nvPr/>
        </p:nvGraphicFramePr>
        <p:xfrm>
          <a:off x="1066680" y="2539800"/>
          <a:ext cx="5757840" cy="1785240"/>
        </p:xfrm>
        <a:graphic>
          <a:graphicData uri="http://schemas.openxmlformats.org/drawingml/2006/table">
            <a:tbl>
              <a:tblPr/>
              <a:tblGrid>
                <a:gridCol w="1908000"/>
                <a:gridCol w="1908000"/>
                <a:gridCol w="1941480"/>
              </a:tblGrid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just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دخ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علي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دخ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غير مدخ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تعل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غير متعل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</a:tr>
            </a:tbl>
          </a:graphicData>
        </a:graphic>
      </p:graphicFrame>
      <p:cxnSp>
        <p:nvCxnSpPr>
          <p:cNvPr id="182" name="Straight Connector 2"/>
          <p:cNvCxnSpPr/>
          <p:nvPr/>
        </p:nvCxnSpPr>
        <p:spPr>
          <a:xfrm>
            <a:off x="1064160" y="2539440"/>
            <a:ext cx="1895040" cy="74988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sp>
        <p:nvSpPr>
          <p:cNvPr id="183" name="مستطيل 5"/>
          <p:cNvSpPr/>
          <p:nvPr/>
        </p:nvSpPr>
        <p:spPr>
          <a:xfrm>
            <a:off x="2198520" y="4735800"/>
            <a:ext cx="1612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= 0.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مستطيل 6"/>
          <p:cNvSpPr/>
          <p:nvPr/>
        </p:nvSpPr>
        <p:spPr>
          <a:xfrm>
            <a:off x="7909560" y="5500440"/>
            <a:ext cx="2797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وهو ارتباط طردي ضعي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3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4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  <Words>391</Words>
  <Paragraphs>56</Paragraphs>
  <Company>SA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8T15:08:05Z</dcterms:created>
  <dc:creator>Maher</dc:creator>
  <dc:description/>
  <dc:language>en-US</dc:language>
  <cp:lastModifiedBy>dalia</cp:lastModifiedBy>
  <dcterms:modified xsi:type="dcterms:W3CDTF">2020-10-28T07:32:15Z</dcterms:modified>
  <cp:revision>4</cp:revision>
  <dc:subject/>
  <dc:title>الارتباط الخطي البسيط Simple Linear Correl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Custom</vt:lpwstr>
  </property>
  <property fmtid="{D5CDD505-2E9C-101B-9397-08002B2CF9AE}" pid="3" name="Slides">
    <vt:r8>4</vt:r8>
  </property>
</Properties>
</file>