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666-A148-46C3-90BE-667B3FE7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520-B1C8-4499-A277-7908A555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350-63FE-4E6C-A3C7-70DB3612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C0E-4DEF-4E33-9227-31F2E2C1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5838-FB64-44D7-9294-39EB9657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8B0F-CA6B-42D7-8CEF-4F3FE0C0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CB33-BE8D-46A6-A643-E1EB637E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92E9-ECC9-4072-AAED-A7F1B474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0EE4-9EA6-4FDA-8CFD-C3473BD5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9737-8111-4391-9C95-F2059C69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B6F3-FDEB-42C0-B8A3-4BA8CDC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094-190D-42C7-BDEF-5C1BA28A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C3D2-E2CF-488E-82DC-DAF9042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9B0C-6B70-4EB2-B830-6D764049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AEBC-E5D9-4270-B865-474FA88F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8936-1A13-4B53-90B5-8F52798D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65AE-1188-489A-95E0-31569EF7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0F3E-BB7B-46DE-A73F-8400AE38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C824-8825-4347-BDB9-CDEED939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5768-6650-401E-99C3-572328FC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83E9-4223-4746-B881-F6D04AFC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D85C-4809-4851-A632-6F85C7B9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858-C5C2-42F3-8629-EC329C75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1907-8F76-4670-ABE7-84B05FC6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9F50-9FF1-4202-868B-6B8CC93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21F6-7A4F-4724-8578-CD98B339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EF68-98A5-4B91-9588-A77C9D47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DCBBE-BF20-441F-8C65-7110B256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6AC8-BF00-4969-BD20-15887B89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F193-C6D1-4D3F-B5F9-BD8DEB25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96AB5-B0CC-4B9B-86AA-5C36C064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F825-2884-49FF-958D-BDD00921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3953D-FE3E-4012-BBC7-695208C7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DA7-FE69-46B7-B03F-B611F53D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C319B-1F62-4830-96BF-A6637AFC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634B-14A9-4495-807D-DE84B9C4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439F-DC9E-4CE5-B1EF-0B4E1F32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8F82-49CB-4221-9810-1586D20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CF0A5-52DA-4463-97B0-380FAB93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99B5-4858-482E-B35B-5FF9467B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35DA-847B-4626-BBE9-5269F709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4B43F-AA32-435F-97F8-0F6557DF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C22AE-423D-4AD8-BE07-A582B5ED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F28-6DAE-4CB4-A099-F7B09882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02D-B92C-49F9-8D66-9FE71865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58A-54A4-4D04-88D8-F3D4536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A5F-7085-4794-9B42-130336C3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2F3-B525-425E-8743-5C9CB1ED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DDF05F50-6B7E-4DD5-94E5-F4EF9E2AAF5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38D624F6-9DC8-4D4C-89F5-A5732E6043F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565CC090-0BB6-4274-A754-E97EDF26DB0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A323F696-F571-401D-825E-F80B8939AFA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393840"/>
            <a:ext cx="9143640" cy="25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5400" spc="-1" strike="noStrike">
                <a:solidFill>
                  <a:srgbClr val="ff0000"/>
                </a:solidFill>
                <a:latin typeface="Calibri Light"/>
              </a:rPr>
              <a:t>الارتباط الخطي البسيط</a:t>
            </a:r>
            <a:br>
              <a:rPr sz="4000"/>
            </a:br>
            <a:r>
              <a:rPr b="1" lang="en-US" sz="5400" spc="-1" strike="noStrike">
                <a:solidFill>
                  <a:srgbClr val="ff0000"/>
                </a:solidFill>
                <a:latin typeface="Calibri Light"/>
              </a:rPr>
              <a:t>Simple Linear Correlation</a:t>
            </a:r>
            <a:br>
              <a:rPr sz="4000"/>
            </a:br>
            <a:r>
              <a:rPr b="1" lang="ar-IQ" sz="4000" spc="-1" strike="noStrike">
                <a:solidFill>
                  <a:srgbClr val="ff0000"/>
                </a:solidFill>
                <a:latin typeface="Calibri Light"/>
              </a:rPr>
              <a:t>المحاضرة الخامس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23880" y="3458520"/>
            <a:ext cx="9143640" cy="31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عداد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لدكتورة هند وليد عبد الرحم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كلية الإدارة والاقتصاد / جامعة بغ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قسم الإدارة الصناعية / المرحلة الا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14280"/>
            <a:ext cx="1051524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2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041480"/>
            <a:ext cx="106243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معامل الاقترا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efficient Asso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8241120" y="5081040"/>
            <a:ext cx="35859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إن معامل الاقتران يعرف كالآت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6"/>
          <p:cNvSpPr/>
          <p:nvPr/>
        </p:nvSpPr>
        <p:spPr>
          <a:xfrm>
            <a:off x="1130760" y="1506960"/>
            <a:ext cx="103424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لقد سبق أن وضحنا بأن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معامل ارتباط بيرسون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يعطى قوة الارتباط في حالة البيانات</a:t>
            </a:r>
            <a:r>
              <a:rPr b="0" lang="en-US" sz="2000" spc="-1" strike="noStrike">
                <a:solidFill>
                  <a:srgbClr val="ff0000"/>
                </a:solidFill>
                <a:latin typeface="Simplified Arabic"/>
              </a:rPr>
              <a:t> الكمية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، وكذلك معامل ارتباط الرتب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لسبيرمان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، وهو يستخدم لإيجاد قوة الارتباط</a:t>
            </a:r>
            <a:r>
              <a:rPr b="0" lang="en-US" sz="2000" spc="-1" strike="noStrike">
                <a:solidFill>
                  <a:srgbClr val="ff0000"/>
                </a:solidFill>
                <a:latin typeface="Simplified Arabic"/>
              </a:rPr>
              <a:t> للرتب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في حالة البيانات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الكمية والوصفية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تي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لها صفة الترتيب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، ولكن قد تكون هناك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بيانات وصفية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لها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صفات مميزة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لكن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لا يمكن ترتيبها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مثل الحالة الاجتماعية، وكذلك لون البشرة....إلخ. ولقياس قوة الارتباط لهذه البيانات نشأت الحاجة إلى إيجاد مقياس مناسب يقيس الارتباط بين هذه الصفات، ومنها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معامل الاقتران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ذى يستخد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لقياس قوة الارتباط بين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  <a:cs typeface="Arial"/>
              </a:rPr>
              <a:t>ظاهرت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أ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متغيري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كل منهما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  <a:cs typeface="Arial"/>
              </a:rPr>
              <a:t>ذات صفتين فقط </a:t>
            </a:r>
            <a:r>
              <a:rPr b="0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عبر عنها بجداول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×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وكالآت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7"/>
          <p:cNvSpPr/>
          <p:nvPr/>
        </p:nvSpPr>
        <p:spPr>
          <a:xfrm>
            <a:off x="2009520" y="5447160"/>
            <a:ext cx="1761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جدول 9"/>
          <p:cNvGraphicFramePr/>
          <p:nvPr/>
        </p:nvGraphicFramePr>
        <p:xfrm>
          <a:off x="1119960" y="3502080"/>
          <a:ext cx="5724720" cy="1829880"/>
        </p:xfrm>
        <a:graphic>
          <a:graphicData uri="http://schemas.openxmlformats.org/drawingml/2006/table">
            <a:tbl>
              <a:tblPr/>
              <a:tblGrid>
                <a:gridCol w="1897200"/>
                <a:gridCol w="1897200"/>
                <a:gridCol w="1930680"/>
              </a:tblGrid>
              <a:tr h="58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 rtl="1">
                        <a:lnSpc>
                          <a:spcPct val="150000"/>
                        </a:lnSpc>
                      </a:pPr>
                      <a:r>
                        <a:rPr b="0" lang="ar-IQ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تغير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 </a:t>
                      </a:r>
                      <a:r>
                        <a:rPr b="0" lang="ar-IQ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تغ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293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293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2560" y="624600"/>
            <a:ext cx="1051524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جرى باحث دراسة على أهمية الحوافز في زيادة الإنتاج في أحد مصانع السمنت. اخذت عينة حجمها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عامل من عينة مصانع للسمنت في العراق وتم الحصول على النتائج التالية المطلوب إيجاد معامل الاقترا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جدول 3"/>
          <p:cNvGraphicFramePr/>
          <p:nvPr/>
        </p:nvGraphicFramePr>
        <p:xfrm>
          <a:off x="1176120" y="3086640"/>
          <a:ext cx="6786360" cy="1785240"/>
        </p:xfrm>
        <a:graphic>
          <a:graphicData uri="http://schemas.openxmlformats.org/drawingml/2006/table">
            <a:tbl>
              <a:tblPr/>
              <a:tblGrid>
                <a:gridCol w="2111400"/>
                <a:gridCol w="2147760"/>
                <a:gridCol w="2526840"/>
              </a:tblGrid>
              <a:tr h="58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إنتاج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الحواف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رتفاع مستوى الانتاج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قاء مستوى الإنتاجية على حال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293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زيادة الأج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293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دم زيادة الأج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</a:tbl>
          </a:graphicData>
        </a:graphic>
      </p:graphicFrame>
      <p:cxnSp>
        <p:nvCxnSpPr>
          <p:cNvPr id="175" name="Straight Connector 2"/>
          <p:cNvCxnSpPr/>
          <p:nvPr/>
        </p:nvCxnSpPr>
        <p:spPr>
          <a:xfrm>
            <a:off x="1172520" y="3153600"/>
            <a:ext cx="1964520" cy="64404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176" name="مستطيل 7"/>
          <p:cNvSpPr/>
          <p:nvPr/>
        </p:nvSpPr>
        <p:spPr>
          <a:xfrm>
            <a:off x="5952240" y="4698360"/>
            <a:ext cx="59068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إيجاد معامل الاقتران نطبق الصيغ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وكما 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8"/>
          <p:cNvSpPr/>
          <p:nvPr/>
        </p:nvSpPr>
        <p:spPr>
          <a:xfrm>
            <a:off x="1176120" y="5077800"/>
            <a:ext cx="88264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= 0.79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9"/>
          <p:cNvSpPr/>
          <p:nvPr/>
        </p:nvSpPr>
        <p:spPr>
          <a:xfrm>
            <a:off x="4977720" y="5917680"/>
            <a:ext cx="70545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 توجد علاقة طردية قوية بين تطبيق نظام الحوافز وزيادة الإنتاج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72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عند دراسة العلاقة بين التعليم والتدخين في إحدى الشركات أخذت عينة مكونة من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١٧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شخصا وكانت النتائج على النحو التال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حسب معامل الاقتران بين التدخين والتعلي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الحل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جدول 3"/>
          <p:cNvGraphicFramePr/>
          <p:nvPr/>
        </p:nvGraphicFramePr>
        <p:xfrm>
          <a:off x="1066680" y="2539800"/>
          <a:ext cx="5757840" cy="1785240"/>
        </p:xfrm>
        <a:graphic>
          <a:graphicData uri="http://schemas.openxmlformats.org/drawingml/2006/table">
            <a:tbl>
              <a:tblPr/>
              <a:tblGrid>
                <a:gridCol w="1908000"/>
                <a:gridCol w="1908000"/>
                <a:gridCol w="194148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just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دخ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عل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دخ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غير مدخ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تع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غير متع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</a:tbl>
          </a:graphicData>
        </a:graphic>
      </p:graphicFrame>
      <p:cxnSp>
        <p:nvCxnSpPr>
          <p:cNvPr id="182" name="Straight Connector 2"/>
          <p:cNvCxnSpPr/>
          <p:nvPr/>
        </p:nvCxnSpPr>
        <p:spPr>
          <a:xfrm>
            <a:off x="1064160" y="2539440"/>
            <a:ext cx="1895040" cy="74988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183" name="مستطيل 5"/>
          <p:cNvSpPr/>
          <p:nvPr/>
        </p:nvSpPr>
        <p:spPr>
          <a:xfrm>
            <a:off x="2198520" y="4735800"/>
            <a:ext cx="1612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= 0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مستطيل 6"/>
          <p:cNvSpPr/>
          <p:nvPr/>
        </p:nvSpPr>
        <p:spPr>
          <a:xfrm>
            <a:off x="7909560" y="5500440"/>
            <a:ext cx="2797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هو ارتباط طردي ضعي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4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391</Words>
  <Paragraphs>56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5:08:05Z</dcterms:created>
  <dc:creator>Maher</dc:creator>
  <dc:description/>
  <dc:language>en-US</dc:language>
  <cp:lastModifiedBy>dalia</cp:lastModifiedBy>
  <dcterms:modified xsi:type="dcterms:W3CDTF">2020-10-28T07:32:15Z</dcterms:modified>
  <cp:revision>4</cp:revision>
  <dc:subject/>
  <dc:title>الارتباط الخطي البسيط Simple Linear Correl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4</vt:r8>
  </property>
</Properties>
</file>