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37F8-A5A5-4433-A3DE-09410D9A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65ED-6F16-4A18-87FE-EF8BFA91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322D-ECD6-4AC3-8405-0C66B705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AE62-200E-44B7-8AF0-F12014B1C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043E-AD66-4CCD-8512-8DC17BF2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71F7-AD67-42D1-8075-DDF3AB03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4C26-7F7D-47DE-9614-2740CB09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2BAE-0349-40CC-BADB-6E27D0E6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2ADE-C905-4976-81CC-329C4F33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E357-3F32-4E48-98B0-7E3C7FE7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58EA-5EED-4DF9-8A8D-EAA43DFD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B6D3-8F58-42FC-84BE-E7B5683D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592E-9C2A-4376-A423-142645E8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01C3-DC96-42A5-AF67-88536140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3F46-9D28-4574-8C93-77B2A5F6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FFFC-01C5-4B96-80A3-6D162AC10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1A12-E4E3-4886-AB8D-9406B955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2021-C354-4035-B220-0BDF36FA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201C-BC78-44E9-88AD-55CA4231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86C9-84D6-48B1-B394-1E32CB7C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221C-7BF6-40DE-9EA5-AB26C5CD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20CC-B470-4B0E-A241-E2018FBB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487D-44B1-4797-A2F1-EB878E07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46AA-9FFE-4E2C-BC7B-B76909E0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90000"/>
              </a:lnSpc>
              <a:buNone/>
            </a:pPr>
            <a:r>
              <a:rPr b="0" lang="ar-SA" sz="60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DE41DB66-DDC5-40A9-BB5C-CC1F95E8F8E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 algn="r" rtl="1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 algn="r" rtl="1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 algn="r" rtl="1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 algn="r" rtl="1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 algn="r" rtl="1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 algn="r" rtl="1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90000"/>
              </a:lnSpc>
              <a:buNone/>
            </a:pPr>
            <a:r>
              <a:rPr b="0" lang="ar-SA" sz="4400" spc="-1" strike="noStrike">
                <a:solidFill>
                  <a:srgbClr val="000000"/>
                </a:solidFill>
                <a:latin typeface="Calibri Light"/>
              </a:rPr>
              <a:t>انقر لتحرير نمط العنوان الرئيسي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حرير أنماط النص الرئيس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مستوى الث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مستوى الثال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راب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المستوى الخام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fld id="{C7BA1411-5F55-4593-86B1-F85F7F7C09F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accent1">
            <a:lumMod val="60000"/>
            <a:lumOff val="40000"/>
          </a:scheme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436680"/>
            <a:ext cx="9143640" cy="21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4000" spc="-1" strike="noStrike">
                <a:solidFill>
                  <a:schemeClr val="accent2">
                    <a:lumMod val="75000"/>
                  </a:schemeClr>
                </a:solidFill>
                <a:latin typeface="Calibri Light"/>
              </a:rPr>
              <a:t>مقاييس التشتت المطلقة</a:t>
            </a:r>
            <a:br>
              <a:rPr sz="4000"/>
            </a:br>
            <a:r>
              <a:rPr b="1" lang="en-US" sz="4000" spc="-1" strike="noStrike">
                <a:solidFill>
                  <a:schemeClr val="accent2">
                    <a:lumMod val="75000"/>
                  </a:schemeClr>
                </a:solidFill>
                <a:latin typeface="Calibri Light"/>
              </a:rPr>
              <a:t>Absolute Dispersion Measures</a:t>
            </a:r>
            <a:br>
              <a:rPr sz="4000"/>
            </a:br>
            <a:r>
              <a:rPr b="1" lang="ar-IQ" sz="4000" spc="-1" strike="noStrike">
                <a:solidFill>
                  <a:srgbClr val="c00000"/>
                </a:solidFill>
                <a:latin typeface="Calibri Light"/>
              </a:rPr>
              <a:t>المحاضرة الثاني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2702160"/>
            <a:ext cx="9143640" cy="300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اعداد</a:t>
            </a: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الدكتورة هند وليد عبد الرحم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كلية الإدارة والاقتصاد / جامعة بغدا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IQ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قسم الإدارة الصناع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489240"/>
            <a:ext cx="10515240" cy="65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4000"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2700" spc="-1" strike="noStrike">
                <a:solidFill>
                  <a:srgbClr val="000000"/>
                </a:solidFill>
                <a:latin typeface="Calibri Light"/>
              </a:rPr>
              <a:t>مقاييس التشتت الم</a:t>
            </a:r>
            <a:r>
              <a:rPr b="1" lang="ar-SA" sz="2700" spc="-1" strike="noStrike">
                <a:solidFill>
                  <a:srgbClr val="000000"/>
                </a:solidFill>
                <a:latin typeface="Calibri Light"/>
              </a:rPr>
              <a:t>طلقة </a:t>
            </a:r>
            <a:r>
              <a:rPr b="1" lang="en-US" sz="2700" spc="-1" strike="noStrike">
                <a:solidFill>
                  <a:srgbClr val="000000"/>
                </a:solidFill>
                <a:latin typeface="Calibri Light"/>
              </a:rPr>
              <a:t>Absolute Dispersion Measures</a:t>
            </a:r>
            <a:br>
              <a:rPr sz="44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146240"/>
            <a:ext cx="105152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ar-SA" sz="3400" spc="-1" strike="noStrike">
                <a:solidFill>
                  <a:srgbClr val="000000"/>
                </a:solidFill>
                <a:latin typeface="Calibri"/>
              </a:rPr>
              <a:t>الانحراف المتوسط 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Mean Deviatio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يعرف الانحراف المتوسط بانه عبارة عن متوسط القيم المطلقة لانحرافات القيم عن وسطها الحسابي. يعتمد هذا المقياس على إشراك جميع القيم في حساب التشتت ويتطلب حساب تباعدا</a:t>
            </a:r>
            <a:r>
              <a:rPr b="0" lang="ar-IQ" sz="2800" spc="-1" strike="noStrike">
                <a:solidFill>
                  <a:srgbClr val="000000"/>
                </a:solidFill>
                <a:latin typeface="Calibri"/>
              </a:rPr>
              <a:t>ت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القيم عن قيمة معينة ويفضل أن تكون هذه القيمة مساوية لقيمة الوسط الحسابي لبيانات تلك المجموعة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ففي حالة البيانات غير المبوبة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نفرض أن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…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تمثل قيم مفردات العينة فإن الانحراف المتوسط والذي يرمز له بالرمز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. 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هو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D =               ………………..(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تكون وحدات قياسه نفس وحدات قياس البيانات الأصل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مثال: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ar-IQ" sz="2800" spc="-1" strike="noStrike">
                <a:solidFill>
                  <a:srgbClr val="000000"/>
                </a:solidFill>
                <a:latin typeface="Calibri"/>
              </a:rPr>
              <a:t>سبع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IQ" sz="2800" spc="-1" strike="noStrike">
                <a:solidFill>
                  <a:srgbClr val="000000"/>
                </a:solidFill>
                <a:latin typeface="Calibri"/>
              </a:rPr>
              <a:t>عاملات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في </a:t>
            </a:r>
            <a:r>
              <a:rPr b="0" lang="ar-IQ" sz="2800" spc="-1" strike="noStrike">
                <a:solidFill>
                  <a:srgbClr val="000000"/>
                </a:solidFill>
                <a:latin typeface="Calibri"/>
              </a:rPr>
              <a:t>احد مصانع الزيوت النباتية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0" lang="ar-IQ" sz="2800" spc="-1" strike="noStrike">
                <a:solidFill>
                  <a:srgbClr val="000000"/>
                </a:solidFill>
                <a:latin typeface="Calibri"/>
              </a:rPr>
              <a:t>كانت الحواف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IQ" sz="2800" spc="-1" strike="noStrike">
                <a:solidFill>
                  <a:srgbClr val="000000"/>
                </a:solidFill>
                <a:latin typeface="Calibri"/>
              </a:rPr>
              <a:t>الشهرية ل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كل واحد</a:t>
            </a:r>
            <a:r>
              <a:rPr b="0" lang="ar-IQ" sz="2800" spc="-1" strike="noStrike">
                <a:solidFill>
                  <a:srgbClr val="000000"/>
                </a:solidFill>
                <a:latin typeface="Calibri"/>
              </a:rPr>
              <a:t>ة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منهم ب</a:t>
            </a:r>
            <a:r>
              <a:rPr b="0" lang="ar-IQ" sz="2800" spc="-1" strike="noStrike">
                <a:solidFill>
                  <a:srgbClr val="000000"/>
                </a:solidFill>
                <a:latin typeface="Calibri"/>
              </a:rPr>
              <a:t>الا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الدنانير كالآتي: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, 9 , 9 , 8 , 4 , 5 , 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والمطلو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قياس تشتت هذه </a:t>
            </a:r>
            <a:r>
              <a:rPr b="0" lang="ar-IQ" sz="2800" spc="-1" strike="noStrike">
                <a:solidFill>
                  <a:srgbClr val="000000"/>
                </a:solidFill>
                <a:latin typeface="Calibri"/>
              </a:rPr>
              <a:t>الحواف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بواسطة الانحراف المتوسط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D ()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2.57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حدة القياس هي </a:t>
            </a:r>
            <a:r>
              <a:rPr b="0" lang="ar-IQ" sz="2800" spc="-1" strike="noStrike">
                <a:solidFill>
                  <a:srgbClr val="000000"/>
                </a:solidFill>
                <a:latin typeface="Calibri"/>
              </a:rPr>
              <a:t>الاف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دنانير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87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2800" spc="-1" strike="noStrike">
                <a:solidFill>
                  <a:srgbClr val="000000"/>
                </a:solidFill>
                <a:latin typeface="Calibri Light"/>
              </a:rPr>
              <a:t>مقاييس التشتت الم</a:t>
            </a:r>
            <a:r>
              <a:rPr b="1" lang="ar-SA" sz="2800" spc="-1" strike="noStrike">
                <a:solidFill>
                  <a:srgbClr val="000000"/>
                </a:solidFill>
                <a:latin typeface="Calibri Light"/>
              </a:rPr>
              <a:t>طلقة 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Absolute Dispersion Meas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"/>
          <p:cNvSpPr/>
          <p:nvPr/>
        </p:nvSpPr>
        <p:spPr>
          <a:xfrm>
            <a:off x="-448920" y="1740240"/>
            <a:ext cx="12725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أما في حالة البيانات المبوبة</a:t>
            </a:r>
            <a:r>
              <a:rPr b="0" lang="en-US" sz="2000" spc="-1" strike="noStrike">
                <a:solidFill>
                  <a:srgbClr val="000000"/>
                </a:solidFill>
                <a:latin typeface="Simplified Arabic"/>
                <a:ea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لتكن </a:t>
            </a:r>
            <a:r>
              <a:rPr b="0" lang="en-US" sz="2000" spc="-1" strike="noStrike">
                <a:solidFill>
                  <a:srgbClr val="000000"/>
                </a:solidFill>
                <a:latin typeface="A850-Roman"/>
                <a:ea typeface="Calibri"/>
              </a:rPr>
              <a:t>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850-Roman"/>
                <a:ea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850-Roman"/>
                <a:ea typeface="Calibri"/>
              </a:rPr>
              <a:t>, 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850-Roman"/>
                <a:ea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850-Roman"/>
                <a:ea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……</a:t>
            </a:r>
            <a:r>
              <a:rPr b="0" lang="en-US" sz="2000" spc="-1" strike="noStrike">
                <a:solidFill>
                  <a:srgbClr val="000000"/>
                </a:solidFill>
                <a:latin typeface="A850-Roman"/>
                <a:ea typeface="Calibri"/>
              </a:rPr>
              <a:t>, x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850-Roman"/>
                <a:ea typeface="Calibri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Simplified Arabic"/>
                <a:ea typeface="Calibri"/>
              </a:rPr>
              <a:t>  تمثل مركز الفئات، وأن </a:t>
            </a:r>
            <a:r>
              <a:rPr b="0" lang="en-US" sz="2000" spc="-1" strike="noStrike">
                <a:solidFill>
                  <a:srgbClr val="000000"/>
                </a:solidFill>
                <a:latin typeface="A850-Roman"/>
                <a:ea typeface="Calibri"/>
              </a:rPr>
              <a:t>f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850-Roman"/>
                <a:ea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850-Roman"/>
                <a:ea typeface="Calibri"/>
              </a:rPr>
              <a:t>, f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850-Roman"/>
                <a:ea typeface="Calibri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850-Roman"/>
                <a:ea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850-Roman"/>
                <a:ea typeface="Calibri"/>
              </a:rPr>
              <a:t>., f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850-Roman"/>
                <a:ea typeface="Calibri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Simplified Arabic"/>
                <a:ea typeface="Calibri"/>
              </a:rPr>
              <a:t> تمثل تكراراتها على التوالي فإن الانحراف المتوسط يكون كالآتي</a:t>
            </a:r>
            <a:r>
              <a:rPr b="0" lang="en-US" sz="2000" spc="-1" strike="noStrike">
                <a:solidFill>
                  <a:srgbClr val="000000"/>
                </a:solidFill>
                <a:latin typeface="Simplified Arabic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D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() =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mplified Arabic"/>
                <a:ea typeface="Calibri"/>
              </a:rPr>
              <a:t>……………..(</a:t>
            </a:r>
            <a:r>
              <a:rPr b="1" lang="en-US" sz="2000" spc="-1" strike="noStrike">
                <a:solidFill>
                  <a:srgbClr val="000000"/>
                </a:solidFill>
                <a:latin typeface="Simplified Arabic"/>
                <a:ea typeface="Calibri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Simplified Arabic"/>
                <a:ea typeface="Calibri"/>
              </a:rPr>
              <a:t>)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73720" y="5293080"/>
            <a:ext cx="3245040" cy="4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****************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2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90000"/>
              </a:lnSpc>
              <a:buNone/>
            </a:pPr>
            <a:r>
              <a:rPr b="1" lang="ar-IQ" sz="2800" spc="-1" strike="noStrike">
                <a:solidFill>
                  <a:srgbClr val="000000"/>
                </a:solidFill>
                <a:latin typeface="Calibri Light"/>
              </a:rPr>
              <a:t>مقاييس التشتت الم</a:t>
            </a:r>
            <a:r>
              <a:rPr b="1" lang="ar-SA" sz="2800" spc="-1" strike="noStrike">
                <a:solidFill>
                  <a:srgbClr val="000000"/>
                </a:solidFill>
                <a:latin typeface="Calibri Light"/>
              </a:rPr>
              <a:t>طلقة </a:t>
            </a:r>
            <a:r>
              <a:rPr b="1" lang="en-US" sz="2800" spc="-1" strike="noStrike">
                <a:solidFill>
                  <a:srgbClr val="000000"/>
                </a:solidFill>
                <a:latin typeface="Calibri Light"/>
              </a:rPr>
              <a:t>Absolute Dispersion Meas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عنصر نائب للمحتوى 3"/>
          <p:cNvGraphicFramePr/>
          <p:nvPr/>
        </p:nvGraphicFramePr>
        <p:xfrm>
          <a:off x="1645200" y="3366000"/>
          <a:ext cx="8901720" cy="3626640"/>
        </p:xfrm>
        <a:graphic>
          <a:graphicData uri="http://schemas.openxmlformats.org/drawingml/2006/table">
            <a:tbl>
              <a:tblPr/>
              <a:tblGrid>
                <a:gridCol w="1537920"/>
                <a:gridCol w="1222920"/>
                <a:gridCol w="1207080"/>
                <a:gridCol w="1463400"/>
                <a:gridCol w="1669680"/>
                <a:gridCol w="1799640"/>
              </a:tblGrid>
              <a:tr h="351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a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 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Calibri"/>
                        <a:ea typeface="Calibri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</a:tr>
              <a:tr h="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</a:tr>
              <a:tr h="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0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</a:tr>
              <a:tr h="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0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0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</a:tr>
              <a:tr h="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0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</a:tr>
              <a:tr h="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0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</a:tr>
              <a:tr h="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0-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bece7"/>
                    </a:solidFill>
                  </a:tcPr>
                </a:tc>
              </a:tr>
              <a:tr h="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8d7cd"/>
                    </a:solidFill>
                  </a:tcPr>
                </a:tc>
              </a:tr>
            </a:tbl>
          </a:graphicData>
        </a:graphic>
      </p:graphicFrame>
      <p:sp>
        <p:nvSpPr>
          <p:cNvPr id="91" name="Rectangle 1"/>
          <p:cNvSpPr/>
          <p:nvPr/>
        </p:nvSpPr>
        <p:spPr>
          <a:xfrm>
            <a:off x="2394000" y="809640"/>
            <a:ext cx="8061120" cy="25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مثال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الآتي توزيع تكراري لدرجات مجموعة من الطلبة في امتحان معي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المطلوب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قياس تشتت هذه الدرجات باستخدام الانحراف المتوس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implified Arabic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D () =  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نسق Offic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نسق Offic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  <Words>254</Words>
  <Paragraphs>107</Paragraphs>
  <Company>SAC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18T10:19:57Z</dcterms:created>
  <dc:creator>Maher</dc:creator>
  <dc:description/>
  <dc:language>en-US</dc:language>
  <cp:lastModifiedBy>Maher</cp:lastModifiedBy>
  <dcterms:modified xsi:type="dcterms:W3CDTF">2020-10-18T10:35:16Z</dcterms:modified>
  <cp:revision>4</cp:revision>
  <dc:subject/>
  <dc:title>مقاييس التشتت المطلقة Absolute Dispersion Measur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شاشة عريضة</vt:lpwstr>
  </property>
  <property fmtid="{D5CDD505-2E9C-101B-9397-08002B2CF9AE}" pid="3" name="Slides">
    <vt:r8>4</vt:r8>
  </property>
</Properties>
</file>