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BBDA-9436-4771-B7BB-5B901B6F4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DB15-8D54-4EA7-AF1C-BE82961F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8956-BCE9-4DDB-8C42-535CA16E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C66D-C57C-4E54-A775-E259CE208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9A64-C949-42AC-AA40-154C0C9AF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C16A-3545-4383-BFD5-5D7255A6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9744-C726-47B0-B064-03370FF6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95A0-E072-43B9-9F39-E5A138DC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9D5D-2C59-4A4E-A89F-BD752433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8BD8-14EC-4136-84A3-70E84C22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0274-0BAE-400D-8E0D-28A6056C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232C-0DFE-4FDC-855C-C39A307A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E191-2E08-4AF8-9450-23C5CCF3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58C0-FE45-4849-B9DF-B9C103A4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A3D4-07F5-40E9-B650-04E3644F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EA45-2D55-494F-8FA0-11C7343C0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8735-E176-4820-B5B6-72F14C513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DC1B-5349-4611-9AED-A7EC8576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B3AD-29CF-471E-9427-D381D703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8FCB-AA75-4946-8723-F94CF3FB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DF4A-F24F-488F-BFC0-3D4EEA31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18E0-15E6-42B0-8B68-8A5D940A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B520-5674-404C-B96A-FAA07019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06E2-5BF1-48B2-AF5D-A94F5100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90000"/>
              </a:lnSpc>
              <a:buNone/>
            </a:pPr>
            <a:r>
              <a:rPr b="0" lang="ar-SA" sz="6000" spc="-1" strike="noStrike">
                <a:solidFill>
                  <a:srgbClr val="000000"/>
                </a:solidFill>
                <a:latin typeface="Calibri Light"/>
              </a:rPr>
              <a:t>انقر لتحرير نمط العنوان الرئيس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A64FD6A7-234B-430E-AACF-19EA19D7D30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 algn="r" rtl="1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 algn="r" rtl="1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 algn="r" rtl="1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 algn="r" rtl="1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 algn="r" rtl="1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 algn="r" rtl="1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</a:rPr>
              <a:t>انقر لتحرير نمط العنوان الرئي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حرير أنماط النص الرئيس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مستوى الثا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ستوى الثال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راب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خام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7509D7BC-11A8-4B6F-B510-890B57D81B9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1">
            <a:lumMod val="60000"/>
            <a:lumOff val="4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436680"/>
            <a:ext cx="9143640" cy="212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4000" spc="-1" strike="noStrike">
                <a:solidFill>
                  <a:schemeClr val="accent2">
                    <a:lumMod val="75000"/>
                  </a:schemeClr>
                </a:solidFill>
                <a:latin typeface="Calibri Light"/>
              </a:rPr>
              <a:t>مقاييس التشتت المطلقة</a:t>
            </a:r>
            <a:br>
              <a:rPr sz="4000"/>
            </a:br>
            <a:r>
              <a:rPr b="1" lang="en-US" sz="4000" spc="-1" strike="noStrike">
                <a:solidFill>
                  <a:schemeClr val="accent2">
                    <a:lumMod val="75000"/>
                  </a:schemeClr>
                </a:solidFill>
                <a:latin typeface="Calibri Light"/>
              </a:rPr>
              <a:t>Absolute Dispersion Measures</a:t>
            </a:r>
            <a:br>
              <a:rPr sz="4000"/>
            </a:br>
            <a:r>
              <a:rPr b="1" lang="ar-IQ" sz="4000" spc="-1" strike="noStrike">
                <a:solidFill>
                  <a:srgbClr val="c00000"/>
                </a:solidFill>
                <a:latin typeface="Calibri Light"/>
              </a:rPr>
              <a:t>المحاضرة الثالث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2702160"/>
            <a:ext cx="9143640" cy="30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اعداد</a:t>
            </a:r>
            <a:r>
              <a:rPr b="0" lang="en-US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الدكتورة هند وليد عبد الرحم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كلية الإدارة والاقتصاد / جامعة بغدا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قسم الإدارة الصناع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24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2800" spc="-1" strike="noStrike">
                <a:solidFill>
                  <a:srgbClr val="000000"/>
                </a:solidFill>
                <a:latin typeface="Calibri Light"/>
              </a:rPr>
              <a:t>مقاييس التشتت الم</a:t>
            </a:r>
            <a:r>
              <a:rPr b="1" lang="ar-SA" sz="2800" spc="-1" strike="noStrike">
                <a:solidFill>
                  <a:srgbClr val="000000"/>
                </a:solidFill>
                <a:latin typeface="Calibri Light"/>
              </a:rPr>
              <a:t>طلقة </a:t>
            </a: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Absolute Dispersion Meas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196640"/>
            <a:ext cx="105152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تباين والانحراف المعياري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ariance and Standard dev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هو أكثر المقاييس شيوعاً وأهمية وتتضمن إشراك جميع القيم في الحساب، وهو أيضاً مقياس لقياس كيفية توزيع المشاهدات حول قيمة معينة ألا وهي </a:t>
            </a: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الوسط الحسابي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ويعرف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تباي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بانه متوسط مربعات انحرافات القيم المختلفة عن </a:t>
            </a: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وسطها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الحسابي الحقيقي ويرمز له بالرمز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في حالة البيانات غير المبوبة :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ن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فرض أن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……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تمثل قيم المشاهدات، فإن التباين لها يعرف (بصيغة التعريف) كالآتي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=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……….... (4)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يتم استخدام هذه الصيغة في حالة كون حجم العينة كبير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3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، ولكن في حالة كون حجم العينة صغير فيتم القسمة على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بدلاً من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لكي نحصل على صيغة إلى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تكون غير متحيزة لتباين المجتمع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وهناك عدة صيغ حسابية مشتقة من الصيغة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أعلاه ومنها: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…………(5)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……………(6)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43200"/>
            <a:ext cx="10515240" cy="96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2800" spc="-1" strike="noStrike">
                <a:solidFill>
                  <a:srgbClr val="000000"/>
                </a:solidFill>
                <a:latin typeface="Calibri Light"/>
              </a:rPr>
              <a:t>مقاييس التشتت الم</a:t>
            </a:r>
            <a:r>
              <a:rPr b="1" lang="ar-SA" sz="2800" spc="-1" strike="noStrike">
                <a:solidFill>
                  <a:srgbClr val="000000"/>
                </a:solidFill>
                <a:latin typeface="Calibri Light"/>
              </a:rPr>
              <a:t>طلقة </a:t>
            </a: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Absolute Dispersion Meas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143360"/>
            <a:ext cx="1051524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أما </a:t>
            </a:r>
            <a:r>
              <a:rPr b="1" lang="ar-IQ" sz="2000" spc="-1" strike="noStrike">
                <a:solidFill>
                  <a:srgbClr val="000000"/>
                </a:solidFill>
                <a:latin typeface="Calibri"/>
              </a:rPr>
              <a:t>الانحراف المعياري </a:t>
            </a: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للعينة فيتم احتسابه من خلال إيجاد الجذر التربيعي للتباين ويرمز له بالرمز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صيغة التعريف هي: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 =  =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…………………….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وهناك أيضاً عدة صيغ حسابية للانحراف المعياري مشتقة من الصيغة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ومنها: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 =             ……………………..(8)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 =                   ………………………..(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مثال: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سبعة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عاملات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في </a:t>
            </a: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احد مصانع الزيوت النباتية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، </a:t>
            </a: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كانت الحواف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الشهرية ل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كل واحد</a:t>
            </a: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منهم ب</a:t>
            </a: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الا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الدنانير كالآتي: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, 9 , 9 , 8 , 4 , 5 , 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المطلوب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إيجاد التباين والانحراف المعياري </a:t>
            </a: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لحوافز العامل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2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2800" spc="-1" strike="noStrike">
                <a:solidFill>
                  <a:srgbClr val="000000"/>
                </a:solidFill>
                <a:latin typeface="Calibri Light"/>
              </a:rPr>
              <a:t>مقاييس التشتت الم</a:t>
            </a:r>
            <a:r>
              <a:rPr b="1" lang="ar-SA" sz="2800" spc="-1" strike="noStrike">
                <a:solidFill>
                  <a:srgbClr val="000000"/>
                </a:solidFill>
                <a:latin typeface="Calibri Light"/>
              </a:rPr>
              <a:t>طلقة </a:t>
            </a: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Absolute Dispersion Meas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عنصر نائب للمحتوى 3"/>
          <p:cNvGraphicFramePr/>
          <p:nvPr/>
        </p:nvGraphicFramePr>
        <p:xfrm>
          <a:off x="2846160" y="952920"/>
          <a:ext cx="6503400" cy="2379600"/>
        </p:xfrm>
        <a:graphic>
          <a:graphicData uri="http://schemas.openxmlformats.org/drawingml/2006/table">
            <a:tbl>
              <a:tblPr/>
              <a:tblGrid>
                <a:gridCol w="1809360"/>
                <a:gridCol w="2192760"/>
                <a:gridCol w="2501280"/>
              </a:tblGrid>
              <a:tr h="4489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  <a:ea typeface="Calibri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  <a:ea typeface="Calibri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75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  <a:tr h="275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</a:tr>
              <a:tr h="275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  <a:tr h="275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</a:tr>
              <a:tr h="275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  <a:tr h="275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</a:tr>
              <a:tr h="275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</a:tbl>
          </a:graphicData>
        </a:graphic>
      </p:graphicFrame>
      <p:sp>
        <p:nvSpPr>
          <p:cNvPr id="90" name="Rectangle 1"/>
          <p:cNvSpPr/>
          <p:nvPr/>
        </p:nvSpPr>
        <p:spPr>
          <a:xfrm>
            <a:off x="1011240" y="3784320"/>
            <a:ext cx="10515240" cy="33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ar-IQ" sz="2000" spc="-1" strike="noStrike">
                <a:solidFill>
                  <a:srgbClr val="000000"/>
                </a:solidFill>
                <a:latin typeface="Cambria Math"/>
                <a:cs typeface="Simplified Arabic"/>
              </a:rPr>
              <a:t>الحل</a:t>
            </a:r>
            <a:r>
              <a:rPr b="1" lang="en-US" sz="2000" spc="-1" strike="noStrike">
                <a:solidFill>
                  <a:srgbClr val="000000"/>
                </a:solidFill>
                <a:latin typeface="Cambria Math"/>
                <a:ea typeface="Calibri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ambria Math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م حساب التباين وفق الصيغة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) وكما يلي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=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ما الانحراف المعياري فيحسب من خلال الصيغة (</a:t>
            </a:r>
            <a:r>
              <a:rPr b="0" lang="en-US" sz="2000" spc="-1" strike="noStrike">
                <a:solidFill>
                  <a:srgbClr val="000000"/>
                </a:solidFill>
                <a:latin typeface="Simplified Arabic"/>
                <a:ea typeface="Calibri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Simplified Arabic"/>
                <a:ea typeface="Calibri"/>
              </a:rPr>
              <a:t>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أو بالجذر التربيعي لقيمة التباين أعلاه :    </a:t>
            </a:r>
            <a:r>
              <a:rPr b="0" lang="en-US" sz="2000" spc="-1" strike="noStrike">
                <a:solidFill>
                  <a:srgbClr val="000000"/>
                </a:solidFill>
                <a:latin typeface="Simplified Arabic"/>
                <a:ea typeface="Calibri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 = 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plified Arabic"/>
                <a:ea typeface="Calibri"/>
              </a:rPr>
              <a:t>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mplified Arabic"/>
                <a:ea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240" cy="90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2800" spc="-1" strike="noStrike">
                <a:solidFill>
                  <a:srgbClr val="000000"/>
                </a:solidFill>
                <a:latin typeface="Calibri Light"/>
              </a:rPr>
              <a:t>مقاييس التشتت الم</a:t>
            </a:r>
            <a:r>
              <a:rPr b="1" lang="ar-SA" sz="2800" spc="-1" strike="noStrike">
                <a:solidFill>
                  <a:srgbClr val="000000"/>
                </a:solidFill>
                <a:latin typeface="Calibri Light"/>
              </a:rPr>
              <a:t>طلقة </a:t>
            </a: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Absolute Dispersion Meas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734040"/>
            <a:ext cx="10515240" cy="59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5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كذل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يتم حساب التباين من خلال </a:t>
            </a: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الصيغ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=   = 9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وهي نفس النتيجة السابقة للتباين والتي هي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دينا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والانحراف المعياري بتطبيق الصيغة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)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جدول 3"/>
          <p:cNvGraphicFramePr/>
          <p:nvPr/>
        </p:nvGraphicFramePr>
        <p:xfrm>
          <a:off x="2860200" y="4334400"/>
          <a:ext cx="6471000" cy="2099520"/>
        </p:xfrm>
        <a:graphic>
          <a:graphicData uri="http://schemas.openxmlformats.org/drawingml/2006/table">
            <a:tbl>
              <a:tblPr/>
              <a:tblGrid>
                <a:gridCol w="2925000"/>
                <a:gridCol w="3546000"/>
              </a:tblGrid>
              <a:tr h="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i</a:t>
                      </a:r>
                      <a:r>
                        <a:rPr b="0" lang="en-US" sz="16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</a:tr>
            </a:tbl>
          </a:graphicData>
        </a:graphic>
      </p:graphicFrame>
      <p:sp>
        <p:nvSpPr>
          <p:cNvPr id="94" name="مستطيل 4"/>
          <p:cNvSpPr/>
          <p:nvPr/>
        </p:nvSpPr>
        <p:spPr>
          <a:xfrm>
            <a:off x="5147280" y="3416400"/>
            <a:ext cx="6095520" cy="7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15000"/>
              </a:lnSpc>
              <a:tabLst>
                <a:tab algn="l" pos="0"/>
              </a:tabLst>
            </a:pPr>
            <a:r>
              <a:rPr b="0" lang="ar-IQ" sz="1800" spc="-1" strike="noStrike">
                <a:solidFill>
                  <a:srgbClr val="000000"/>
                </a:solidFill>
                <a:latin typeface="A850-Roman"/>
                <a:cs typeface="Simplified Arabic"/>
              </a:rPr>
              <a:t>أو بأخذ الجذر التربيعي لقيمة التباين أعلاه نحصل على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850-Roman"/>
                <a:ea typeface="Calibri"/>
              </a:rPr>
              <a:t>S =  = 3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43200"/>
            <a:ext cx="10515240" cy="85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2800" spc="-1" strike="noStrike">
                <a:solidFill>
                  <a:srgbClr val="000000"/>
                </a:solidFill>
                <a:latin typeface="Calibri Light"/>
              </a:rPr>
              <a:t>مقاييس التشتت الم</a:t>
            </a:r>
            <a:r>
              <a:rPr b="1" lang="ar-SA" sz="2800" spc="-1" strike="noStrike">
                <a:solidFill>
                  <a:srgbClr val="000000"/>
                </a:solidFill>
                <a:latin typeface="Calibri Light"/>
              </a:rPr>
              <a:t>طلقة </a:t>
            </a: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Absolute Dispersion Meas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988560"/>
            <a:ext cx="10515240" cy="58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أما في حالة البيانات المبوب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لتكن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……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تمثل مراكز الفئات، وأن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….,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تمثل تكراراتها على التوالي، حيث أن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يمثل عدد الفئات، وأن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، فإن التباين يعرف حسب الصيغة الآتية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=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……………………(10)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أو حسب الصيغة الحسابية الآتية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=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                  ……………………..(11)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ويتم إيجاد الانحراف المعياري بأخذ الجذر التربيعي للتباين وكالآتي حسب الصيغة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 =  =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……………………..(12)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ا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و حسب الصيغة الحسابية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 =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                  ………………………..(13)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7080" y="-51480"/>
            <a:ext cx="1051524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2800" spc="-1" strike="noStrike">
                <a:solidFill>
                  <a:srgbClr val="000000"/>
                </a:solidFill>
                <a:latin typeface="Calibri Light"/>
              </a:rPr>
              <a:t>مقاييس التشتت الم</a:t>
            </a:r>
            <a:r>
              <a:rPr b="1" lang="ar-SA" sz="2800" spc="-1" strike="noStrike">
                <a:solidFill>
                  <a:srgbClr val="000000"/>
                </a:solidFill>
                <a:latin typeface="Calibri Light"/>
              </a:rPr>
              <a:t>طلقة </a:t>
            </a: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Absolute Dispersion Meas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608400"/>
            <a:ext cx="10515240" cy="62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مثال: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تدفع شركة الغزل والنسيج الصوفي حوافز شهرية على موظفيها (بآلاف الدنانير) وعلى النحو الآتي</a:t>
            </a:r>
            <a:r>
              <a:rPr b="1" lang="en-US" sz="2000" spc="-1" strike="noStrike">
                <a:solidFill>
                  <a:srgbClr val="000000"/>
                </a:solidFill>
                <a:latin typeface="Simplified Arabic"/>
                <a:ea typeface="Calibri"/>
              </a:rPr>
              <a:t>: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ar-IQ" sz="2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المطلوب : </a:t>
            </a:r>
            <a:r>
              <a:rPr b="0" lang="ar-IQ" sz="2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حساب التباين والانحراف المعياري للحواف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ar-IQ" sz="20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حل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جدول 3"/>
          <p:cNvGraphicFramePr/>
          <p:nvPr/>
        </p:nvGraphicFramePr>
        <p:xfrm>
          <a:off x="2354040" y="1726560"/>
          <a:ext cx="7960320" cy="2239560"/>
        </p:xfrm>
        <a:graphic>
          <a:graphicData uri="http://schemas.openxmlformats.org/drawingml/2006/table">
            <a:tbl>
              <a:tblPr/>
              <a:tblGrid>
                <a:gridCol w="1056240"/>
                <a:gridCol w="1118880"/>
                <a:gridCol w="701640"/>
                <a:gridCol w="753120"/>
                <a:gridCol w="1038600"/>
                <a:gridCol w="1420920"/>
                <a:gridCol w="1870200"/>
              </a:tblGrid>
              <a:tr h="0">
                <a:tc>
                  <a:txBody>
                    <a:bodyPr lIns="68400" rIns="684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فئات الحواف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عدد الموظفي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مركز الفئ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 rowSpan="2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 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 rowSpan="2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  <a:ea typeface="Calibri"/>
                      </a:endParaRPr>
                    </a:p>
                  </a:txBody>
                  <a:tcPr anchor="b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 rowSpan="2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  <a:ea typeface="Calibri"/>
                      </a:endParaRPr>
                    </a:p>
                  </a:txBody>
                  <a:tcPr anchor="b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 rowSpan="2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  <a:ea typeface="Calibri"/>
                      </a:endParaRPr>
                    </a:p>
                  </a:txBody>
                  <a:tcPr anchor="b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</a:tr>
              <a:tr h="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.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3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.6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</a:tr>
              <a:tr h="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5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.87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</a:tr>
              <a:tr h="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-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7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88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</a:tr>
              <a:tr h="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-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69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87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</a:tr>
              <a:tr h="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-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21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4.86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</a:tr>
              <a:tr h="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6.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</a:tr>
            </a:tbl>
          </a:graphicData>
        </a:graphic>
      </p:graphicFrame>
      <p:sp>
        <p:nvSpPr>
          <p:cNvPr id="100" name="Rectangle 1"/>
          <p:cNvSpPr/>
          <p:nvPr/>
        </p:nvSpPr>
        <p:spPr>
          <a:xfrm>
            <a:off x="3260880" y="2598840"/>
            <a:ext cx="121917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مستطيل 5"/>
          <p:cNvSpPr/>
          <p:nvPr/>
        </p:nvSpPr>
        <p:spPr>
          <a:xfrm>
            <a:off x="2870640" y="3857760"/>
            <a:ext cx="7567560" cy="15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850-Roman"/>
                <a:ea typeface="Calibri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850-Roman"/>
                <a:ea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850-Roman"/>
                <a:ea typeface="Calibri"/>
              </a:rPr>
              <a:t> =  = 9.72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tabLst>
                <a:tab algn="l" pos="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850-Roman"/>
                <a:cs typeface="Simplified Arabic"/>
              </a:rPr>
              <a:t>وبأخذ الجذر التربيعي لقيمة التباين أعلاه نحصل على قيمة الانحراف المعياري وكما يلي: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850-Roman"/>
                <a:ea typeface="Calibri"/>
              </a:rPr>
              <a:t>S =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= = 3.118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15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77400"/>
            <a:ext cx="1051524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2800" spc="-1" strike="noStrike">
                <a:solidFill>
                  <a:srgbClr val="000000"/>
                </a:solidFill>
                <a:latin typeface="Calibri Light"/>
              </a:rPr>
              <a:t>مقاييس التشتت الم</a:t>
            </a:r>
            <a:r>
              <a:rPr b="1" lang="ar-SA" sz="2800" spc="-1" strike="noStrike">
                <a:solidFill>
                  <a:srgbClr val="000000"/>
                </a:solidFill>
                <a:latin typeface="Calibri Light"/>
              </a:rPr>
              <a:t>طلقة </a:t>
            </a: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Absolute Dispersion Meas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952920"/>
            <a:ext cx="10515240" cy="59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كذلك يمكن إيجاد التباين والانحراف المعياري باستخدام الصيغ الحسابية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وكالآتي: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جدول 3"/>
          <p:cNvGraphicFramePr/>
          <p:nvPr/>
        </p:nvGraphicFramePr>
        <p:xfrm>
          <a:off x="1802880" y="1450080"/>
          <a:ext cx="7649640" cy="2216160"/>
        </p:xfrm>
        <a:graphic>
          <a:graphicData uri="http://schemas.openxmlformats.org/drawingml/2006/table">
            <a:tbl>
              <a:tblPr/>
              <a:tblGrid>
                <a:gridCol w="1490040"/>
                <a:gridCol w="1471680"/>
                <a:gridCol w="1280520"/>
                <a:gridCol w="818280"/>
                <a:gridCol w="1118160"/>
                <a:gridCol w="1470240"/>
              </a:tblGrid>
              <a:tr h="273240"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فئات الحواف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عدد الموظفي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 rowSpan="2">
                  <a:txBody>
                    <a:bodyPr lIns="66600" rIns="666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 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600" marR="66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 rowSpan="2">
                  <a:txBody>
                    <a:bodyPr lIns="66600" rIns="666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i</a:t>
                      </a:r>
                      <a:r>
                        <a:rPr b="0" lang="en-US" sz="16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600" marR="66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 rowSpan="2">
                  <a:txBody>
                    <a:bodyPr lIns="66600" rIns="666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 xi</a:t>
                      </a:r>
                      <a:r>
                        <a:rPr b="0" lang="en-US" sz="16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600" marR="66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27324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27324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</a:tr>
              <a:tr h="27324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-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27324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-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</a:tr>
              <a:tr h="27324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-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27324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</a:tr>
            </a:tbl>
          </a:graphicData>
        </a:graphic>
      </p:graphicFrame>
      <p:sp>
        <p:nvSpPr>
          <p:cNvPr id="105" name="مستطيل 4"/>
          <p:cNvSpPr/>
          <p:nvPr/>
        </p:nvSpPr>
        <p:spPr>
          <a:xfrm>
            <a:off x="1802880" y="3394440"/>
            <a:ext cx="9304920" cy="21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850-Roman"/>
                <a:ea typeface="Calibri"/>
              </a:rPr>
              <a:t>S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850-Roman"/>
                <a:ea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850-Roman"/>
                <a:ea typeface="Calibri"/>
              </a:rPr>
              <a:t> =  = 9.72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15000"/>
              </a:lnSpc>
              <a:tabLst>
                <a:tab algn="l" pos="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850-Roman"/>
                <a:cs typeface="Simplified Arabic"/>
              </a:rPr>
              <a:t>وبأخذ الجذر التربيعي للصيغة أعلاه أو تطبيق الصيغة الحسابية الخاصة بالانحراف المعياري نحصل على قيمة الانحراف المعياري وكما يلي:-</a:t>
            </a:r>
            <a:r>
              <a:rPr b="0" lang="en-US" sz="1400" spc="-1" strike="noStrike">
                <a:solidFill>
                  <a:srgbClr val="000000"/>
                </a:solidFill>
                <a:latin typeface="A850-Roman"/>
                <a:ea typeface="Calibri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850-Roman"/>
                <a:ea typeface="Calibri"/>
              </a:rPr>
              <a:t>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850-Roman"/>
                <a:ea typeface="Calibri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850-Roman"/>
                <a:ea typeface="Calibri"/>
              </a:rPr>
              <a:t> =  =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0360">
              <a:lnSpc>
                <a:spcPct val="2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850-Roman"/>
                <a:ea typeface="Calibri"/>
              </a:rPr>
              <a:t>= </a:t>
            </a:r>
            <a:r>
              <a:rPr b="0" lang="en-US" sz="105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810360">
              <a:lnSpc>
                <a:spcPct val="15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850-Roman"/>
                <a:ea typeface="Calibri"/>
              </a:rPr>
              <a:t>= 3.1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نسق Offic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نسق Offic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  <Words>431</Words>
  <Paragraphs>210</Paragraphs>
  <Company>SACC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18T10:25:51Z</dcterms:created>
  <dc:creator>Maher</dc:creator>
  <dc:description/>
  <dc:language>en-US</dc:language>
  <cp:lastModifiedBy>Maher</cp:lastModifiedBy>
  <dcterms:modified xsi:type="dcterms:W3CDTF">2020-10-18T10:35:47Z</dcterms:modified>
  <cp:revision>2</cp:revision>
  <dc:subject/>
  <dc:title>مقاييس التشتت المطلقة Absolute Dispersion Measures المحاضرة الثالث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شاشة عريضة</vt:lpwstr>
  </property>
  <property fmtid="{D5CDD505-2E9C-101B-9397-08002B2CF9AE}" pid="3" name="Slides">
    <vt:r8>8</vt:r8>
  </property>
</Properties>
</file>