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32BBD3-50BF-4E83-9EC1-3EE49FB8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10"/>
          </p:nvPr>
        </p:nvSpPr>
        <p:spPr>
          <a:xfrm>
            <a:off x="144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E5A6341C-7DBB-4D08-B3AB-75703C9BDE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65F-6BDC-4AA3-ABAF-8E25E990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43A-A104-4858-98C9-1A91C472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46C-B722-4F16-9B30-9194F403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012-78E4-4F3B-8603-03A040CF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720E-A22E-44A1-8122-1667A51F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BFAF-D014-4EAC-BDBD-452C2E9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DE0-5161-4D7A-8132-C223C633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F541-5956-4DBE-9301-4747CD86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0CD5-FCF3-4C68-A4AF-E78D9F6B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65EB-D1D7-46AD-87F1-6D8DF49F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E2B-79CE-4FB4-B9FD-6DE4BE0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699-3E6F-4DA8-AB5A-2D43FA6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21C-8540-47D2-A113-D8F32B6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84D-CB82-41EC-9937-E24A7445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C0D3-5E8F-4477-902B-7B04BD52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9B0-6A82-4976-BEE5-1330DB6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9631-F8E2-4643-A591-F78FDD91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9FB-1706-42C9-91E5-A8B3015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8E0-DD6D-4192-9713-721C23B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73D-762B-4B6F-98E2-64F64029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F36-3C9E-4376-BE95-CDB5653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81A-1ED5-4FFB-BF50-F386147A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E30-81E1-47FB-9F87-1DE612C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158-6802-4C7C-9C33-39C2025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161D926-4C4C-4E8E-AE38-AD84970CD6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2E9610B-6E25-447E-869E-7B5922AB98E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36680"/>
            <a:ext cx="914364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مقاييس التشتت النسبية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 Light"/>
              </a:rPr>
              <a:t>Relative Dispersion Measures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ثان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96352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قسم الإدارة الصناعية / المرحل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01880"/>
            <a:ext cx="105152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نسبي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Relative Dispersion Measures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136160"/>
            <a:ext cx="10515240" cy="54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عامل التشتت المستند إلى الانحراف المعيار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معامل الاختلاف(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efficient of Variation (CV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يعتب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معامل الاختلاف أحد مقاييس التشتت النسبية المهمة، ويستخدم لأغراض مقارنة التشتت لمجموعتين أو أكثر سواء كانت بوحدات قياس متشابهة أم مختلفة، إذ إن هذا المقياس يتصف بأن نتيجته تكون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ية من وحدة القياس، وهذا ما يتيح التفضيل في استخدامه (إذ إن مقارنة التشتت بين مجموعتين باستخدام مثلاً مقياس الانحراف المعياري {الذي تحوي نتيجته وحدة القياس} يشترط أن تكون وحدات القياس لقيم المجموعتين متشابهة بالغرام مثلاً، ولا يمكن استخدامه في حالة اختلاف وحدات القياس للمجموعات، مثلاً و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دة بالغرام والأخرى بالسنتيمتر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صيغة حساب معامل الاختلا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هي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.V =  100 %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. (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يث أ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هي الانحراف المعياري لقيم المجموعة و  هي الوسط الحسابي لقيم المجموع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نسبي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Relative Dispersion Measures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ثال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للمجموعتين الاتيتين احسب معامل الاختلاف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أيهما أفضل من ناحية التشت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جدول 3"/>
          <p:cNvGraphicFramePr/>
          <p:nvPr/>
        </p:nvGraphicFramePr>
        <p:xfrm>
          <a:off x="2674080" y="3131280"/>
          <a:ext cx="7868880" cy="1258560"/>
        </p:xfrm>
        <a:graphic>
          <a:graphicData uri="http://schemas.openxmlformats.org/drawingml/2006/table">
            <a:tbl>
              <a:tblPr/>
              <a:tblGrid>
                <a:gridCol w="2593440"/>
                <a:gridCol w="527400"/>
                <a:gridCol w="527400"/>
                <a:gridCol w="527400"/>
                <a:gridCol w="527400"/>
                <a:gridCol w="527400"/>
                <a:gridCol w="527400"/>
                <a:gridCol w="527400"/>
                <a:gridCol w="527400"/>
                <a:gridCol w="527400"/>
                <a:gridCol w="527400"/>
              </a:tblGrid>
              <a:tr h="574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ة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مقاسة بالكغ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c0c8e3"/>
                      </a:solidFill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2240">
                      <a:solidFill>
                        <a:srgbClr val="c0c8e3"/>
                      </a:solidFill>
                    </a:lnR>
                    <a:lnT w="1224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4472c4"/>
                    </a:solidFill>
                  </a:tcPr>
                </a:tc>
              </a:tr>
              <a:tr h="574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ة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مقاسة بالس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2240">
                      <a:solidFill>
                        <a:srgbClr val="c0c8e3"/>
                      </a:solidFill>
                    </a:lnR>
                    <a:lnT>
                      <a:noFill/>
                    </a:lnT>
                    <a:lnB w="12240">
                      <a:solidFill>
                        <a:srgbClr val="c0c8e3"/>
                      </a:solidFill>
                    </a:lnB>
                    <a:solidFill>
                      <a:srgbClr val="698e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نسبي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Relative Dispersion Measures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481400"/>
            <a:ext cx="10515240" cy="53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الح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نحسب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   لكل من المجموعتين، حيث نجد أن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جدول 3"/>
          <p:cNvGraphicFramePr/>
          <p:nvPr/>
        </p:nvGraphicFramePr>
        <p:xfrm>
          <a:off x="1555200" y="2530800"/>
          <a:ext cx="9081000" cy="975240"/>
        </p:xfrm>
        <a:graphic>
          <a:graphicData uri="http://schemas.openxmlformats.org/drawingml/2006/table">
            <a:tbl>
              <a:tblPr/>
              <a:tblGrid>
                <a:gridCol w="2923920"/>
                <a:gridCol w="2923920"/>
                <a:gridCol w="3232800"/>
              </a:tblGrid>
              <a:tr h="38916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ة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ة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98" name="مستطيل 4"/>
          <p:cNvSpPr/>
          <p:nvPr/>
        </p:nvSpPr>
        <p:spPr>
          <a:xfrm>
            <a:off x="2974320" y="3799080"/>
            <a:ext cx="8740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850-Roman"/>
                <a:cs typeface="Simplified Arabic"/>
              </a:rPr>
              <a:t>ونطبق الصيغة (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) فنحسب معامل الاختلاف لكل مجموعة وكما يلي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مستطيل 5"/>
          <p:cNvSpPr/>
          <p:nvPr/>
        </p:nvSpPr>
        <p:spPr>
          <a:xfrm>
            <a:off x="1801080" y="4313520"/>
            <a:ext cx="60955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C.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850-Roman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 =  100 % = 77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C.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850-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 100 % = 2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ستطيل 6"/>
          <p:cNvSpPr/>
          <p:nvPr/>
        </p:nvSpPr>
        <p:spPr>
          <a:xfrm>
            <a:off x="1094400" y="5953320"/>
            <a:ext cx="9780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850-Roman"/>
                <a:cs typeface="Simplified Arabic"/>
              </a:rPr>
              <a:t>بما أن قيمة معامل الاختلاف للمجموعة الثانية أقل من معامل الاختلاف للمجموعة الأولى، فهذا يعني أن تشتت المجموعة 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 هو أقل من تشتت المجموعة 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نسبي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Relative Dispersion Measures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878040"/>
            <a:ext cx="10515240" cy="578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ثال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لبيانات التالية جد الانحراف المعياري ومعامل الاختل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جدول 3"/>
          <p:cNvGraphicFramePr/>
          <p:nvPr/>
        </p:nvGraphicFramePr>
        <p:xfrm>
          <a:off x="2111760" y="2468520"/>
          <a:ext cx="8631000" cy="2809440"/>
        </p:xfrm>
        <a:graphic>
          <a:graphicData uri="http://schemas.openxmlformats.org/drawingml/2006/table">
            <a:tbl>
              <a:tblPr/>
              <a:tblGrid>
                <a:gridCol w="1347480"/>
                <a:gridCol w="861840"/>
                <a:gridCol w="900720"/>
                <a:gridCol w="1015200"/>
                <a:gridCol w="1447200"/>
                <a:gridCol w="1846800"/>
                <a:gridCol w="121068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ئ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6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0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-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9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-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-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56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-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8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6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ed7d31">
                        <a:alpha val="40000"/>
                      </a:srgbClr>
                    </a:solidFill>
                  </a:tcPr>
                </a:tc>
              </a:tr>
              <a:tr h="34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مستطيل 4"/>
          <p:cNvSpPr/>
          <p:nvPr/>
        </p:nvSpPr>
        <p:spPr>
          <a:xfrm>
            <a:off x="2677320" y="4600440"/>
            <a:ext cx="60955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2120" y="0"/>
            <a:ext cx="1051524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نسبي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Relative Dispersion Measures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1136160"/>
            <a:ext cx="105152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7.4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=   = 2.9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850-Roman"/>
                <a:ea typeface="Calibri"/>
              </a:rPr>
              <a:t>S 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=  = 2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.V =   100 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=  100 %  = 4.29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321</Words>
  <Paragraphs>116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0:44:44Z</dcterms:created>
  <dc:creator>Maher</dc:creator>
  <dc:description/>
  <dc:language>en-US</dc:language>
  <cp:lastModifiedBy>Maher</cp:lastModifiedBy>
  <dcterms:modified xsi:type="dcterms:W3CDTF">2020-10-18T11:00:57Z</dcterms:modified>
  <cp:revision>6</cp:revision>
  <dc:subject/>
  <dc:title>مقاييس التشتت النسبية Relative Dispersion 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شاشة عريضة</vt:lpwstr>
  </property>
  <property fmtid="{D5CDD505-2E9C-101B-9397-08002B2CF9AE}" pid="4" name="Slides">
    <vt:r8>6</vt:r8>
  </property>
</Properties>
</file>